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7B40-ABBF-4107-A153-D839A3E42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9738-585D-44ED-9B0D-F3B1729D8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39FE-38E4-4C0F-A606-DAEC6A35E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7F76-C9E3-4D09-A3A2-D48E30F33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1D90-E359-4B0C-8567-6FB4CB8B7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028A-75FC-45F3-AA71-72F7FC4BB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9165-DB24-48F2-91AD-EEAF4BC4F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3719-8EE8-4BD7-8AFF-9289F2DD8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86B1-9AD8-44B9-8938-BCAE7A41E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E826-03D9-4043-B664-A1E53F90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F2A5-C0C8-433D-BE5C-769D0A56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E279-FBC8-4AE6-BF18-91E56EAA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9ACCE-F70D-4ABE-B8E0-FFF3259D8E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initive Replacing a Clause - Addition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175896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questions can also be use to excla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Windows the best 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the transfer sluggis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esn’t the processor have a beautiful col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2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5 exercise 2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6 exercise 2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rld Wide Web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installed a modem to be able to connect to the internet via a phone li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hut down the system for it not to irritate her any mo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situations in which infinitive is used instead of a cl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adové číslovky)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ast,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he first to reveal the bug in the program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vní, kdo ..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ere the last to see the computer functional. (posled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 was the only person in our family to know how to ground the device. (jedi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ou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ostat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ně, do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ass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per display. (dost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elká na to, aby …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 you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play the game. 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knows Perl well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career as a progra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large enough a mediu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rogram on it uncomp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od enough software to me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needs available for downloading o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2193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und the mod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clumsy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to be fit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a car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fit 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for him to f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pretty a girl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concentrate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s and frequent mistak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cess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st enough for me to instal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install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gu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mart enough for me to d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ate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bl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me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use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dwarf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Snowhite to mar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arry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stupidit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hard for her to put up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ut up with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698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ten occurs in phras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married, get angry, get ready, et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for more details see pp. 193-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you get the program ready in time, you will even be given a bon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aving heard about the system freezing, he got ang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com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ten intruduces a neutral change usually meaning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„stát s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has become too dificult to socialize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device has become too outdated to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low (or gradual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hair’s grown gr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finding out the dwarf had grown up, Snowhite began to grow fond of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udden (abrupt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his keyboard soiled, he turned red with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urning blue, the screen predicted a sleepless night full of adven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occurs in phrases - for more details see p. 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fallen in love with his new interface. He can’t take his eyes of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fall behind their schoolmates i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introduces a change for the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t for the screen filter, he would have gone bl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you failed to stick the meat in the fridge, it has gone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spent a month trying to get rid of the blue screen, he went craz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to/come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ed to refer to a gradual change (developme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the beginning I liked the blue color, but I came to hate it with each its recur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needed to get to know the dwarf a little before marrying him. Why buy a pig in a po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75896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noun which can be preceded by an adjective. If the noun is countable (singular)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mpuls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rashy jack! It doesn’t fit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nonsense! Never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errible and time-consuming project to work 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an adjective or adver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nasty of y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ophisticated the system i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urprising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r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24Z</dcterms:modified>
  <cp:revision>177</cp:revision>
  <dc:subject/>
  <dc:title>Lecture 1:</dc:title>
</cp:coreProperties>
</file>