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3666-9E9F-45F6-AFC6-C04C27DAE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BAD5-D30A-496E-94FA-CB14176F2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946A-33BA-464E-BEC8-9BDAF6BBE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7B31-214A-4ABA-82DF-C9694AFFA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9CC2-32B9-414E-A711-244023F76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9A6D-6284-4CA8-9AEB-B71B2C005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69A2-6877-4CC5-AB2C-0134AE8C6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CDAA-6B99-4D6E-BB4B-9D90D2264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5108-B8A3-45CB-8671-4BBF5FE53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6B82-9730-40D0-A228-B28C52F4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3932-F09C-4A03-9025-D5163FA6E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450B-DE57-420F-8F7E-106102733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FC37F-A986-4B30-96A6-BD781F0A78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, Subtraction, Multiplication, Div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27664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add st to st [œd]; add up two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subtract st from st [s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trœkt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ultiply st by st [maltiplai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ivide st by st [di’vai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+ 3 = 9 (six plus (and) three equal(s) (is) (are) n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- 3 = 3 (six minus three equal(s) (is) (are) three) (three from six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x 123 = 738 (6 times (multiplied by) 123 equal(s) (is) (are) 73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738 / 123 =  6  (738 divided by 123 equal(s) (is) (are) 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, Ro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19320"/>
            <a:ext cx="8382240" cy="53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4 (2 squared equals (is) (are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(2 cubed equals (is) (are) 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16 (2 to the fourth (to the power of four) equals (is) (are) 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32 (2 to the fifth (to the power of five) equals (is) (are) 3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ower is a result of raising 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a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xpon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ks’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t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8 is a power of 2 sinc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2 is a base, 3 is an ex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9 = 3 (the square root of 9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7 = 3 (the cube root of 27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56 = 4 (the fourth root of 256 equals (is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2 = 2 (the fifth root of 32 equals (is)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219320"/>
            <a:ext cx="8001000" cy="54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r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rœ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 is a ratio of numbers or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ollowing should be read as three fifths, two thirds, nine tenths respective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3 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in the first fraction represents a numerator and 5 denomin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qu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’kwe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 +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3          15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5 represents the common denominator of the two fractions (the least common multiple [maltipl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 -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994040"/>
            <a:ext cx="800100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 +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(two x plus three ov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qu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x + 10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   3             15  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ne, Cos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52388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16002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295280"/>
            <a:ext cx="7162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, sine [sain]; s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[sain of œlf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, cosine [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sai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ypotenuse [hai‘pot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ju:z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sine" descr=""/>
          <p:cNvPicPr/>
          <p:nvPr/>
        </p:nvPicPr>
        <p:blipFill>
          <a:blip r:embed="rId2"/>
          <a:stretch/>
        </p:blipFill>
        <p:spPr>
          <a:xfrm>
            <a:off x="1981080" y="3429000"/>
            <a:ext cx="50817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ou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205740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round a number up    x    to round a number 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0.16666 rounded to two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laces is 0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.8875 rounded to three decimal places is 2.8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g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37160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    -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oint       &lt;  - inequality sign (is less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   - plus sign                                 &gt; - inequality sign (is gre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    - minus sign                                    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   - multiplication sign                  $  -  dollar 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/     - division sign                           &amp; - ampersand [œm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œn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  - equal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%  - percent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:    - 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;    - semi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    - vertical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 )  - parenthe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{}  - braces, curly br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]  - square brac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qdvorak1</cp:lastModifiedBy>
  <dcterms:modified xsi:type="dcterms:W3CDTF">2006-03-30T11:54:41Z</dcterms:modified>
  <cp:revision>167</cp:revision>
  <dc:subject/>
  <dc:title>Lecture 1:</dc:title>
</cp:coreProperties>
</file>