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9C2A-C1F4-4144-A41D-E7D8DD1C6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F2E0-1D0A-4F1C-9D4D-FF35FB0A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F872-7966-4FCE-8401-DAE5F461C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41E8-01F7-41ED-887B-3573D0ED0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7D1A-C80C-47CA-8C54-735F87D2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66B6-98AA-4BAF-8DE6-CABBC8AC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515C-5A7F-45B1-B1B7-93AA047F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BE64-B091-4983-96AE-45AFC7F4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9872-31E1-4BC5-8534-F1C8DCE1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723B-B1E6-4289-BC28-08AB2B97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2193-5E30-4946-9D87-3530E6B3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AD8A-D454-485F-B3C8-697EA8E3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4FE7-D6C1-4F32-9F7B-4CDC543BE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8:33Z</dcterms:modified>
  <cp:revision>144</cp:revision>
  <dc:subject/>
  <dc:title>Lecture 1:</dc:title>
</cp:coreProperties>
</file>