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5893-255D-4BDB-9ACD-E13619EB3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EDE6-41C7-4A80-916C-B20C09625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47FD-AA0A-4088-8E83-4BFBDB31F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6AA2-434E-4DDE-8E02-10D50CBE0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3B69-DCD5-49A7-A786-B579CBEE8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3F4F-21EE-45A8-A5B0-99D7F7DCE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2ABE-3D84-42F5-84E3-4BB1BF8ED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EA15-881D-4619-8BE5-5B895A6D7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AA41-11FC-49FC-BE2C-67FD7F3B1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2ACD-6216-49F4-A330-E1984F0AC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7DAA-7FE2-4270-8CE8-966A5FCE3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DCEC-A810-418E-B128-7CEB7B935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A0696-FD6C-4DFB-8D71-B1D2D543C6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wish …, If only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12400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d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 and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play computer games when he was young. He no longer does s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rával, ale už nehraj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chase chick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onil, ale už neho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ndows used to be unstable, but now it is the best O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býval, ale už ne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8 exercise 2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1 exercise 3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be specified l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4097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en sentences that are in Czech known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ací vě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 The rules governing their formation are the same as those which hold for the clause following conditional conjunction in 2nd or 3rd condition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, I would wipe the monitor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 (to wipe the monitor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, I would loosen the scre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2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have assembled the compute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, the computer would not have reported buffer underru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used to express a wish for something that the speaker finds annoying to change in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…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ed to express a “neutral” wish concerning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he would not play with the live wire next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weather would impr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computer would stop freez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monitor would not flicker that mu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they (will) fix the drive by 6 o’cl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she (will) marries (marry) me on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ective aspect - dokon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mperfective aspect - nedokona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he imperfective aspect is usually expressed by means of continuous tenses - stress is laid on duration (trván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as reconfiguring the system the whole afterno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 programmer has been writing the manual since he finished the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y say it will be raining the whol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Some verbs cannot occur in continuous tenses or they change their meaning in these (see Lecture 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, however, a sentence refers to a repeated action, simple tense is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onfigured the system every other day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reconfigur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usually wrote the manual when he was fre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was usually writ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Greece, it often rained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monitor flickers every now and then. X My monitor is flickering all the ti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xpression of annoyance - see Lecture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-off actions are usually expressed by mean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a + infinitive (without “to”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how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it’s O.K. with you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sprcho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ing a drink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da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, but I turned him dow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t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č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fired because he would often leave his offic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m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kou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y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loo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it? It may only need some cleaning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dí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past si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ually used a temporary file for storage of calculation resu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gularly failed to notice his neglig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s never did the handshaking right with these initialization str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717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+ infinitive without “to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ould ask for assistance whenever he was in trouble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žádával mě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 would get a blue screen after installation of some new hardware under Windows 3.11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setkávával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at operating system would give me sleepless nights on week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04-13T16:30:45Z</dcterms:modified>
  <cp:revision>189</cp:revision>
  <dc:subject/>
  <dc:title>Lecture 1:</dc:title>
</cp:coreProperties>
</file>