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2C3E-A04A-43FE-8AE0-80E6F4F53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78D9-F152-4EF2-B240-29DBA598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A151-CB28-4CEA-9CBB-9904A839B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F48B-7DE9-4696-A2E2-7544609EC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9BBA-B130-4DC4-BD6D-41A06F94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2F67-A687-4F94-939C-46FDEBD8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5C00-674A-43F1-AF24-AE7A705B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14BF-80F8-4A9B-B783-CBA92C02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AB2B-69B9-4E73-9F27-7C99DA1F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F54B-B732-46AB-9654-F52FA1F9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02EB-3A45-42A3-928B-0F14E20E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F882-7923-41E2-B459-894E8411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13A3-5D70-43D2-9C1F-8929F57AE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i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03:36Z</dcterms:modified>
  <cp:revision>34</cp:revision>
  <dc:subject/>
  <dc:title>Lecture 1:</dc:title>
</cp:coreProperties>
</file>