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D894F-87AE-4B50-AB59-920D72310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ECBE2-43AF-4E4E-8F9A-EC78E820C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BD2EE-A38C-46B7-9E24-E1703899A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81744-636C-4A5F-97F9-7D5E8A839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A9B30-AC47-4569-9FB5-3B3AE2C62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44226-C645-44C3-AD86-4946602B1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0DFA4-4575-4750-9A64-A6DE3A731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330A5-567C-46DE-926F-55FB36D04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3FA63-E251-4450-9AA4-658649310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E22C6-5971-4601-AA4F-6B89E1C86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70583-72D9-48D3-8230-8A6A8695E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08CC0-C2F8-422D-8876-36EB92D56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0521E-CE10-44F8-8DC5-60A9783AB3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5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lacement of adverb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o be able to …, to be allowed to …, to have to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ine, yours, his, hers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ha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conjun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ing infinitive instead of a cla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irect and indirect objects –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el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vs.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s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ing Infinitive Instead of a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2154240"/>
            <a:ext cx="838224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subjects in Czech sentence ar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 identic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efragmented the disk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data to load fas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oss gave me a bonu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e to work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formatted the disk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no data to be left on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id not open the attachmen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virus not to infect his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covered his fac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not to fai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irect and Indirect Objects –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tell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vs.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s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1676520"/>
            <a:ext cx="8382240" cy="55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how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pictu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f his wife. (He showed a picture of his wife to me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len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C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his music. (He lent a CD with his music to me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rother bough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imself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CD writ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 (My brother bought a CD writer for himself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tol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staggering stor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he told me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he told me about it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Řekla mi 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he said it to me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at did she say to you?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Times New Roman"/>
              </a:rPr>
              <a:t>no other versions admissible!!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09480" y="1143000"/>
            <a:ext cx="7925040" cy="552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18 exercise 4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30 exercise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238 exercise 46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39 exercise 47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49 exercise 49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perating System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lacement of Adverb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523880"/>
            <a:ext cx="8382240" cy="50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following adverbs go in the position o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after auxiliary and before notional verb).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present, then they follow it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ways, never, ever, often, usually, hardly, seldom, almost, nearly, certainly, quite, really, st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uall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ses the compiler he has installed for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operating system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alfunc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he was speaking, I coul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rdl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ar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e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onsidered being environmentally friendly and not buying any other hard disk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eldo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tudy. Do you think I wil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ass the exa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monitor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arl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same as h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able to …, to be allowed to …, to have to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1905120"/>
            <a:ext cx="8381880" cy="43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be able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 ever be able to get the computer to work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ing able to understand English-written manuals does not mean you know Englis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installed peer-to-peer software to be able to share his files with other us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I had been able to come in time, I woul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sing the connection of such a bandwidth, you will be able to transfer vide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able to …, to be allowed to …, to have to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2260440"/>
            <a:ext cx="838224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be allowed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 ever be allowed to use his notebook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in a lesson, students were not allowed to speak unless ask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I am allowed to look inside the computer, I wi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trying to ingratiate himself with her to be allowed to walk her ho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able to …, to be allowed to …, to have to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1905120"/>
            <a:ext cx="838224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have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ovided he has to submit his essay by the end of this week, he should start his research as soon as possi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be able to use Unix, he had to learn some basic comma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you want to interconnect so many computers, you will have to use a hu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isliked the rule due to having to keep to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ine, yours, his, hers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447920"/>
            <a:ext cx="8305920" cy="50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your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y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i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i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i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friend of mine (one of my friends) taught me how to use hash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computer is far faster than h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RAM is somewhat larger than thei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Dad’s computer does not have any USB port as opposed to my Mum’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ine, yours, his, hers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1752480"/>
            <a:ext cx="822960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gative implic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 something about that dog of yours. It keeps messing up my flowerb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never talk to that neighbor of hers because she despises 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u you think I will ever install that bloody software of hers agai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about doing something about that hair of yours. It looks appall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that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conjun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33520" y="1440000"/>
            <a:ext cx="8076960" cy="50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at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can be left out unless it represents subjec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ope (that) the file transfer resu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at’s the card (that) I bought a few years ag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resumed (that) the computer would not report buffer underru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told me (that) he would not like her to tamper with the devi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is the person that informed me about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y should I use the software that is so bulk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odem that cannot be configured properly belongs to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ing Infinitive Instead of a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520" y="2200320"/>
            <a:ext cx="807696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subjects in Czech sentence ar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dentic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efragmented the disk to speed up data load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oss gave me a bonus to make me work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ought himself a new VGA to be able to play 3D ga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formatted her disk so as not to leave any data on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id not dare open the attachment so as not to catch a vir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covered his face so as not to scare the pants off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6-11-01T17:34:23Z</dcterms:modified>
  <cp:revision>60</cp:revision>
  <dc:subject/>
  <dc:title>Lecture 1:</dc:title>
</cp:coreProperties>
</file>