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560-EAA6-4637-AB8B-F06E5BD8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FD6C-ECD3-4A1C-89A9-4554541C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8D8E-3534-4BD9-B818-52916D97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3741-DFF6-4BF9-AC39-54162F1E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FACC-0251-46CC-B69D-C5B41139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9E3A-A908-4BA0-A5FB-6E04CAEF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47AD-BAAF-4C69-8865-5A9A7E96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2382-9723-40C2-A4B0-DB282AB4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1AB0-C92D-40F1-8B3C-6A9809EA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676E-49E6-4A21-9018-E4A7090B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710A-E176-42BB-897C-EBA75848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CB4E-9B9B-4E0B-8082-7F420E96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4303-FCAA-430D-9DDE-5363649B2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99072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30T13:46:59Z</dcterms:modified>
  <cp:revision>93</cp:revision>
  <dc:subject/>
  <dc:title>Lecture 1:</dc:title>
</cp:coreProperties>
</file>