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B0FD-3EAE-450F-944B-97F6E10F7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1BC5-B8BE-4162-A346-F7FBD3A5B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1807-CD9B-4B24-9DAE-88A575347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2D37-924A-4057-B37E-12B0E3B30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CC54-791D-4FBB-A4D0-060495825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2DBD-7273-4D42-990C-857ABC487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161A-0358-4DB7-B8E3-03B19CDBF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913F-3E7F-40E2-A08C-93C376AA9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4480-C988-4972-975D-5B2C7DBE8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F38E-8C98-40B6-8042-BD45AB6D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5D24-471C-400C-9C88-F66FF654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3BCF-D89C-4DC8-8802-F9D9A4BF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93229-CD05-44F9-895A-B59BADFE70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15424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 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data to load fa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to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o data to be left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open the attachm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 not to infect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not to fa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676520"/>
            <a:ext cx="8382240" cy="55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how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pict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his wife. (He showed a picture of his wife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music. (He lent a CD with his music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b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m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 wri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(My brother bought a CD writer for himself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staggering sto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 about i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ekla mi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said it to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 did she say to you?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o other versions admissible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143000"/>
            <a:ext cx="792504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18 exercise 4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0 exercis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38 exercise 4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9 exercise 4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49 exercise 4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erating Syste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52388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adverbs go in the position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fter auxiliary and before notional verb).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resent, then they follow it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, never, ever, often, usually, hardly, seldom, almost, nearly, certainly, quite, really, st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ual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e compiler he has installed for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l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speaking, I cou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sidered being environmentally friendly and not buying any other hard dis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ld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. Do you think I wi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s the ex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monit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ar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ame as 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bl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ble to get the computer to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able to understand English-written manuals does not mean you know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installed peer-to-peer software to be able to share his files with other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been able to come in time, I w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ing the connection of such a bandwidth, you will be able to transfer vide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6044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llow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llowed to use his noteboo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in a lesson, students were not allowed to speak unless as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am allowed to look inside the computer, I 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ingratiate himself with her to be allowed to walk her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hav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he has to submit his essay by the end of this week, he should start his research as soon a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be able to use Unix, he had to learn some basic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ant to interconnect so many computers, you will have to use a hu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d the rule due to having to keep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447920"/>
            <a:ext cx="8305920" cy="50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friend of mine (one of my friends) taught me how to use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mputer is far faster than 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RAM is somewhat larger than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’s computer does not have any USB port as opposed to my Mum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752480"/>
            <a:ext cx="82296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gative impl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something about that dog of yours. It keeps messing up my flower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talk to that neighbor of hers because she despises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u you think I will ever install that bloody software of hers aga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doing something about that hair of yours. It looks appal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440000"/>
            <a:ext cx="807696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can be left out unless it represents sub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(that) the file transfer resu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the card (that) I bought a few years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resumed (that) the computer would not report buffer under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me (that) he would not like her to tamper with the de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the person that informed me about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y should I use the software that is so bulk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that cannot be configured properly belongs to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20032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to speed up data lo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to make me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ught himself a new VGA to be able to play 3D g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her disk so as not to leave any data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dare open the attachment so as not to catch a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so as not to scare the pants off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11-01T17:34:23Z</dcterms:modified>
  <cp:revision>60</cp:revision>
  <dc:subject/>
  <dc:title>Lecture 1:</dc:title>
</cp:coreProperties>
</file>