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B7BE-3E90-470A-8D0F-3267B5831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7FD5-67E4-4B81-BC9C-24EAB64F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1571-23E2-4EE1-A58D-0D31AAF8B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867A-E251-4ACF-A708-7A2CB9F9E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83E0-B340-4455-B2E1-E22003E1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8062-8455-4345-B830-46C1336F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1C40-821C-4361-9594-6DF2D4AE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1B30-44E9-45FA-BD32-764EC9E3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ED28-FE2D-42DC-A0DA-3254A625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6982-5A42-4DB2-BA8D-7EB39A71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80CE-E9E2-4FBA-A068-A0D3D74B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756F-FEBF-4105-A743-B655F26B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9FB9-C5A8-444D-A773-BB4F15DCB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i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03:36Z</dcterms:modified>
  <cp:revision>34</cp:revision>
  <dc:subject/>
  <dc:title>Lecture 1:</dc:title>
</cp:coreProperties>
</file>