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D70B-AD32-4956-AA18-63AAB565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6CEF-FE78-4007-969F-D54AF6A8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4326-A217-4FB4-9189-EC9E30F0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5844-DA90-4A33-B91E-022A78B1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16A7-6F83-4ACB-A99F-2A04D4DB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0518-65D6-4A57-8DCA-1697686C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7234-F6DC-4B8F-9AA0-B43E80FF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43F3-D53D-47BF-B4EE-81C50813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E281-80D2-4EE3-8043-F5C243DB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DD8B-6766-44F3-9518-0E7897E5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7233-EE43-4E91-A971-FA9ADFB1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4ADC-9383-4CC1-A39B-2163A3E8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011D-98B0-4B84-ADD4-1A68F0447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99072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30T13:46:59Z</dcterms:modified>
  <cp:revision>93</cp:revision>
  <dc:subject/>
  <dc:title>Lecture 1:</dc:title>
</cp:coreProperties>
</file>