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484A-B932-4D06-9E6B-E88F0F424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8AD8-D3DD-44B0-BC02-62350833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E5BC-4267-495D-8377-B8C375EF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48E4-9B83-4FDC-AD9A-05CA73777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79A0-7663-4A4C-BC6C-BBB97F40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7029-6509-4E49-A521-5711484D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AEEF-DF1A-4C94-A8E6-1F8DC0F1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B59C-0B6E-4E24-86CA-346DF340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D979-2130-4B42-AD9F-54E3D39C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7EC2-5BB6-4FB9-BBB6-C177F524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C81C-B7DC-433F-A6CF-0AA2761D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91FF-5696-4FB0-B17F-0B86E7E0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F66D-CA48-454A-A10B-A43953F4D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35812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goldilocks" descr=""/>
          <p:cNvPicPr/>
          <p:nvPr/>
        </p:nvPicPr>
        <p:blipFill>
          <a:blip r:embed="rId3"/>
          <a:stretch/>
        </p:blipFill>
        <p:spPr>
          <a:xfrm>
            <a:off x="1600200" y="19051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23T13:48:35Z</dcterms:modified>
  <cp:revision>84</cp:revision>
  <dc:subject/>
  <dc:title>Lecture 1:</dc:title>
</cp:coreProperties>
</file>