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2AE9-A591-49F2-9C4B-C38B7FF4E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0BD9-E343-44E4-BF24-CE907B988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4FC2-3388-48DB-8820-F2B8B19FA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CB49-D485-4B66-8EA9-53EEA8B27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B7F6-1DA1-43EA-A76F-08B021AE5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6B8C-0AC5-4CBA-A914-49B384B2F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6F8C-06A5-400A-9F4C-17C9836E1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4168-7F6B-49A1-ADB6-629FB9F0E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1268-F101-48C5-AA55-4AF2FAA45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920F-8E3E-4B5F-9160-E70BE0E99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554B-814F-40EB-B542-A3AD931EF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1D9C-EE8D-41B3-B2F6-E37BC953E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1200C-B699-482B-9223-F4B9232398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5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lacement of adver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ne, yours, his, hers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conj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ing infinitive instead of a cla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rect and indirect objects –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el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vs.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ing Infinitive Instead of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2154240"/>
            <a:ext cx="83822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ubjects in Czech sentence a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 identic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efragmented the disk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data to load fas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gave me a bonu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to work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formatted the disk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no data to be left on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d not open the attachmen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virus not to infect his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covered his fac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not to fai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irect and Indirect Objects –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tell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vs.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s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676520"/>
            <a:ext cx="8382240" cy="55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how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pictu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f his wife. (He showed a picture of his wife to m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len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C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his music. (He lent a CD with his music to m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 bough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imsel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CD writ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(My brother bought a CD writer for himself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tol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staggering stor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e told me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e told me about it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Řekla mi 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e said it to me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at did she say to you?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no other versions admissible!!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1143000"/>
            <a:ext cx="7925040" cy="55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18 exercise 4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30 exercise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238 exercise 46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39 exercise 47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49 exercise 49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erating System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lacement of Adverb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523880"/>
            <a:ext cx="8382240" cy="50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ollowing adverbs go in the position o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after auxiliary and before notional verb).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present, then they follow it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ways, never, ever, often, usually, hardly, seldom, almost, nearly, certainly, quite, really, st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ual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es the compiler he has installed for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operating syst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alfun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he was speaking, I coul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rd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ar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nsidered being environmentally friendly and not buying any other hard dis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ldo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tudy. Do you think I wi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ass the exa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monitor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ar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ame as h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905120"/>
            <a:ext cx="838188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be able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ever be able to get the computer to wor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ing able to understand English-written manuals does not mean you know Englis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installed peer-to-peer software to be able to share his files with other us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I had been able to come in time, I wou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ing the connection of such a bandwidth, you will be able to transfer vide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2260440"/>
            <a:ext cx="838224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be allowed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ever be allowed to use his noteboo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in a lesson, students were not allowed to speak unless ask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I am allowed to look inside the computer, I wi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trying to ingratiate himself with her to be allowed to walk her ho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905120"/>
            <a:ext cx="838224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have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vided he has to submit his essay by the end of this week, he should start his research as soon as possi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be able to use Unix, he had to learn some basic comma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you want to interconnect so many computers, you will have to use a hu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sliked the rule due to having to keep t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ne, yours, his, hers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447920"/>
            <a:ext cx="8305920" cy="50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ou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i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friend of mine (one of my friends) taught me how to use hash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computer is far faster than h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RAM is somewhat larger than thei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ad’s computer does not have any USB port as opposed to my Mum’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ne, yours, his, hers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752480"/>
            <a:ext cx="822960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gative implic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 something about that dog of yours. It keeps messing up my flowerb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ever talk to that neighbor of hers because she despises 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u you think I will ever install that bloody software of hers agai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about doing something about that hair of yours. It looks appall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conjun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1440000"/>
            <a:ext cx="807696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at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can be left out unless it represents subjec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(that) the file transfer resu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at’s the card (that) I bought a few years ag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resumed (that) the computer would not report buffer underr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old me (that) he would not like her to tamper with the dev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is the person that informed me about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y should I use the software that is so bulk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 that cannot be configured properly belongs to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ing Infinitive Instead of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2200320"/>
            <a:ext cx="80769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ubjects in Czech sentence a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dentic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efragmented the disk to speed up data loa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gave me a bonus to make me work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ought himself a new VGA to be able to play 3D ga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formatted her disk so as not to leave any data on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d not dare open the attachment so as not to catch a vir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covered his face so as not to scare the pants off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6-11-01T17:34:23Z</dcterms:modified>
  <cp:revision>60</cp:revision>
  <dc:subject/>
  <dc:title>Lecture 1:</dc:title>
</cp:coreProperties>
</file>