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9CB3-FFEC-42DC-9F4D-433E6EA1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329F-E5D7-4F72-9664-A93CC655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1669-1173-4106-8E3F-E7698AB7C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3BF3-A382-4E0F-9AE4-DCDEB331D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8E3A-FE70-40A0-8AEC-B223309F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B3CA-3FB0-48A3-BE68-1DF35666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817F-A4B8-4B01-B71A-03A0E624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DE4B-3756-4C0D-87DC-04CDB8B7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655C-34E7-47BC-8045-89C4A344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BB68-89DC-47B5-9ABE-21D2F953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0751-CDA6-4229-99D2-2A96D869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0BFA-F107-4D6D-86AA-5B74EE60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75D0-1203-46C2-A93F-9808FB9A7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00200"/>
            <a:ext cx="815328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eripherals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Ready for the Bazillion-Byte D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6:32Z</dcterms:modified>
  <cp:revision>54</cp:revision>
  <dc:subject/>
  <dc:title>Lecture 1:</dc:title>
</cp:coreProperties>
</file>