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5F04-0840-417B-81C4-3BD54989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E185-AB5C-4A60-ACBF-56724519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7BC3-8BF3-4BD9-A033-462F23F1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59AE-2E0F-48A5-B049-477237EF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CF58-7553-4FFE-A9D5-D5631086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CC3E-55BD-4826-83CB-DB806088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EF9A-0E5B-4385-8A0B-AC9C5CFB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31E5-D371-4C12-9C2F-9DF1ABA4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3807-69BA-426D-A89C-447AA0D1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C98C-2402-4458-A8E4-C489285D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9167-FBCA-4F9A-B890-42CFED07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E804-AD61-4322-B42A-0DBC6D5B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3883-381C-4B8F-9053-9405C8592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i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3:36Z</dcterms:modified>
  <cp:revision>34</cp:revision>
  <dc:subject/>
  <dc:title>Lecture 1:</dc:title>
</cp:coreProperties>
</file>