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AC4D-9C66-4343-B200-966CFFC31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D3A0-760C-4512-9C27-6147CE072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D10B-9E2E-4B8B-A21C-97581BF4D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4C8A-E312-49D9-9908-DEB9677DE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746D-4DF5-4B0A-8FA0-917867B91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8D1E-1D60-469C-9586-D0062AF24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B3EB-205E-4967-90F9-CCB7264EF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7A2A-1442-422B-9AA9-6B28D07FD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441B-0751-4533-98D6-E1C11C32F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A494-F92E-451B-A620-A815D007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C602-6068-4FC1-A106-F451D865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C05C-6B80-4A16-9581-4FB7991C8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1C506-0306-46F8-AC3A-4BE54EFF2B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st common verbs combined with prepos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gree with, apologize for, approve of (souhlasit s, schvalovat), benefit from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prospěch 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epend on, feel lik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ít chu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insist on (trvat na), look forward to, object to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námitky vůč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rely on, resort to (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hýlit se 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cceed in, think of, vote for (hlasovat p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ologized for sending him a virus-infected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rongly objected to using FLASH technology on that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feel like learning to work with another 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sorted to launching the applications from the command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teacher succeeded in mastering some basic Unix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6 exercise 2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nfigu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alog and Digital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ciples are often used to shorten sent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simple -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for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to refer to simultaneous actions or parallel stat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browsing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en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row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 subjects are iden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tempering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il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mper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gateways amplify the signal they receive, they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plif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received signal, gateways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it is a terminal which comprises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termina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ri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ive fo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 file was transferred in the binary mode, it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transferred in the binary mode, the file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y are not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being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ast participle for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which was discussed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which was addressed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dre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which is connected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st Gerund form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aving + past participle) - used to denote chronological sep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data-link layer  receives confirmation that the packet has arrived undamaged, it deletes the pa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received confirmation that the packet has arrived undamaged, the data-link layer deletes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modem detected noise on the line, it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detected noise on the line, the modem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she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the message was not re-routed properly, it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having been re-routed properly, the message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 Use of participles makes speech (writing) sound (look) formal and academic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king scripts for my boss is my worst nightm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aking of scripts for my boss is my worst nightma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rcha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most common preposition-free verbs followed by gerun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mit, appreciate, avoid, celebrate, commenc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začí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consider, deny, detest (nes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š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islike, enjoy, fear, finish, go, imagine, keep, mention, mind, miss, postpone, practice, resist (o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áv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tand (vys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gg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golden rule to rememb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n you can put “something” behind the verb, if you want to put another verb behind it, it should be in the gerund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52388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dmitted making a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debugging the source code. (I appreciate that she is debugging/she debugs the source cod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having debugged the source code. (I appreciated that she has debugged the sourc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choolmate considered buying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oes not enjoy working with that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te him/his smoking in this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4:14Z</dcterms:modified>
  <cp:revision>153</cp:revision>
  <dc:subject/>
  <dc:title>Lecture 1:</dc:title>
</cp:coreProperties>
</file>