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F6B7-0A09-483F-BD51-2FC677E64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C238-DE4E-45F4-A6B6-858EC198F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261B-FD10-4DA8-8F94-84B1F5288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67A3-341B-450C-83FF-2BAAE9A51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CD48-9998-44C8-A664-D4FFB8132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FE9C-7252-4479-A4CE-9BB1D5997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C5BD-9625-423D-8BFB-A12BC2545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5B91-EF04-4802-B39F-036363D9C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4C1A-368C-4142-8396-A800F23F8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2926-330C-4460-B844-A79479B31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838A-5BEA-4703-A84E-33FC9B27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1804-BD1B-4FA1-985E-E2E14C37C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00346-EEC9-4EEF-B544-97C77088F8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initive Replacing a Clause - Additional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75896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noun which can be preceded by an adjective. If the noun is countable (singular),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compuls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rashy jack! It doesn’t fit 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nonsense! Never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errible and time-consuming project to work 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an adjective or adver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nasty of you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ophisticated the system i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urprising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iro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175896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 questions can also be use to exclai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Windows the best O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the transfer sluggis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esn’t the processor have a beautiful col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2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5 exercise 2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6 exercise 2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rld Wide Web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-mail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v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installed a modem to be able to connect to the internet via a phone li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hut down the system for it not to irritate her any mo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situations in which infinitive is used instead of a cl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adové číslovky)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ast,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he first to reveal the bug in the program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vní, kdo ..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ere the last to see the computer functional. (posled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 was the only person in our family to know how to ground the device. (jedi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ou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ostat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ně, do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lway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llo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adjective or adverb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ass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per display. (dost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elká na to, aby …)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 you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play the game. 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knows Perl well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career as a program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large enough a mediu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rogram on it uncompres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od enough software to me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needs available for downloading on the 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říliš (alway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ce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adjective or adverb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snowhite" descr=""/>
          <p:cNvPicPr/>
          <p:nvPr/>
        </p:nvPicPr>
        <p:blipFill>
          <a:blip r:embed="rId2"/>
          <a:stretch/>
        </p:blipFill>
        <p:spPr>
          <a:xfrm>
            <a:off x="3386160" y="2470320"/>
            <a:ext cx="2633760" cy="2939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62120" y="5715000"/>
            <a:ext cx="7391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rry, but you’re too short for us to get marri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nowhite and the Seven Dwar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21932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und the mod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clumsy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to be fit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a car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fit 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for him to f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pretty a girl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concentrate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s and frequent mistak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cess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st enough for me to instal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install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gu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mart enough for me to d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ate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bl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me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use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dwarf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Snowhite to mar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arry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stupidit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hard for her to put up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ut up with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1698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ten occurs in phras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married, get angry, get ready, et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for more details see pp. 193-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you get the program ready in time, you will even be given a bon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aving heard about the system freezing, he got ang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com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ten intruduces a neutral change usually meaning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„stát s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has become too dificult to socialize wi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device has become too outdated to be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204804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low (or gradual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hair’s grown gr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finding out the dwarf had grown up, Snowhite began to grow fond of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udden (abrupt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his keyboard soiled, he turned red with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urning blue, the screen predicted a sleepless night full of adven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occurs in phrases - for more details see p. 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fallen in love with his new interface. He can’t take his eyes of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fall behind their schoolmates i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introduces a change for the wo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ut for the screen filter, he would have gone bl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you failed to stick the meat in the fridge, it has gone o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spent a month trying to get rid of the blue screen, he went craz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204804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to/come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ed to refer to a gradual change (developmen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the beginning I liked the blue color, but I came to hate it with each its recur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nowhite needed to get to know the dwarf a little before marrying him. Why buy a pig in a po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6:00Z</dcterms:modified>
  <cp:revision>179</cp:revision>
  <dc:subject/>
  <dc:title>Lecture 1:</dc:title>
</cp:coreProperties>
</file>