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165BD-CBF6-4AB3-BB18-EF87929F1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893C5-4E71-4A22-975D-FDCE8D455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1CD45-6640-4AFD-879A-A73A7A97C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66FCC-2CED-439D-BCB3-4225FA162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5BC42-2FDD-468B-88FE-DC06EC358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8AFF2-2869-45B4-BB25-65C3B1031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AE5B5-D6B8-43B2-95D2-66651DC69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A6F96-87B2-4BB4-9D9E-675A4C5A7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5F078-1374-4CC3-B000-91EA8B730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0C1E5-0C0D-4126-B9A7-96DAB575F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ADA91-7A51-46D9-AF2C-63637E167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48CA0-C169-4BFB-AFD1-7104D6DE49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98986-FC72-4885-8E47-3A8943BD93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8"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2:44Z</dcterms:modified>
  <cp:revision>131</cp:revision>
  <dc:subject/>
  <dc:title>Lecture 1:</dc:title>
</cp:coreProperties>
</file>