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C4F8-0FCC-4EBD-A047-1F487A73B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B5E9-9C9C-498F-8A72-77C2C0DF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3A87-967C-4C3B-B4D9-EC29486B3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647D-5EB7-49D6-BF4F-939BE0A58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D02A-76DA-44E9-8800-B064FF0C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3ACA-9E70-471D-95DE-BE45C392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FC27-2855-4A25-B1B3-6032403B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2B50-00C3-4BB3-B340-3A26DC89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2495-D63D-4B42-B32E-7D3B39A5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8D1B-6C4C-4F58-B1A2-3C236F97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49D2-1176-4FD5-92B6-8E81536B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7E20-8A8C-46AB-93BC-2E99E663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BC1D-67E5-476A-BAE1-52BD90384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20T10:55:42Z</dcterms:modified>
  <cp:revision>198</cp:revision>
  <dc:subject/>
  <dc:title>Lecture 1:</dc:title>
</cp:coreProperties>
</file>