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4A5A-3137-4DB1-87BC-C8A7AB6A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4F05-E073-4C53-92A3-D1BCE11D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EC42-B102-4AAC-89B2-BEFFA760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D3FB-DC1D-4FB0-98F9-3D461F1D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BE1-7528-4496-991B-48ED4507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CA7B-D226-440E-B7D2-0FE18398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B567-1C38-467C-ADC9-54C2B8D5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3616-CEFB-46DD-887F-66FAB8C5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E228-54B8-4249-9DFD-7446BE77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D305-3185-4594-880B-CFFD2EA7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E935-94C4-4AA9-9ADC-419B9FF1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0829-5040-4EEF-AFB5-CF3E507E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C05C-0211-4FC9-8D92-C044D3104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r. Dvořá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 you th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you could check m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 shee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nd possibly award 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ore point fo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question you mentioned at 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’s lecture? I am writing this e-mail since I am not completely sure of what alternatives I have selected for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sincerely (Best regards, Kind regards, Regards, All the best, Best wish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a Polofor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76520"/>
            <a:ext cx="79250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al rules to 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 reply to any e-mail you receive letting the sender know you have received it and you have not ignored its contents. You should do so even if it were in the form of a simple ‘Allright’ 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ware of the person who does not reply to your e-mail despite receiving it since there is always a problem to surface in the future!! That is, such a person is likely to turn out slapdash, boorish, conceited, complacent, or having any other negative trait that might eventually get you in troubl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 of Lecture S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05360"/>
            <a:ext cx="763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nomial [bai’n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l] coefficient [kəui’f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nt] of the natural number n and the integer k is the number of combinations tha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 binomial coefficient of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s often read as "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choose 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76000"/>
          </a:blip>
          <a:stretch/>
        </p:blipFill>
        <p:spPr>
          <a:xfrm>
            <a:off x="3995640" y="2205000"/>
            <a:ext cx="804960" cy="13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48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oric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[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bi: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’to:riks]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28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here n is the number of objects from which you can choos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is the number to be chosen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lum contrast="36000"/>
          </a:blip>
          <a:srcRect l="0" t="0" r="10290" b="-2151"/>
          <a:stretch/>
        </p:blipFill>
        <p:spPr>
          <a:xfrm>
            <a:off x="611280" y="1844640"/>
            <a:ext cx="784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poorly composed mes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 teach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nt the point for the question I wrote cor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 Bal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k Balíkov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Sir/Mad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sending this message with regard to your e-mail of April 2, 200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re you say I might be awarded one more point for a question in my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 h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swere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rrect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I wonder if you would be so kind as to check the test and make sure the question has been evalu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faith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iel Kultivova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rak</cp:lastModifiedBy>
  <dcterms:modified xsi:type="dcterms:W3CDTF">2007-05-03T10:57:33Z</dcterms:modified>
  <cp:revision>221</cp:revision>
  <dc:subject/>
  <dc:title>Lecture 1:</dc:title>
</cp:coreProperties>
</file>