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47F7-785E-4AFE-9DD9-EB200F5DF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DEEE-F4EF-4523-86D4-D2A3A6C4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6531-134A-4328-8F0C-10DB0C374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ABBF-A7BD-4EA9-A26B-5869FF538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DC1D-CF36-4F80-803F-8451C4CB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403E-C52D-4D07-A1FA-4D8D3173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2156-B0EE-4304-80AC-40A08633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5BAF-A16E-4AE1-9879-5146068F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36AA-D25B-49E5-9E44-6F00DF2F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2376-CD5F-477A-9DF7-2B6CEC37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3A15-40F3-4846-AF02-589AFEBC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58A9-8025-4A3A-BACC-4054FD03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BE92-AC3F-49CB-BEE4-3C6A57385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říliš 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ce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snowhite" descr=""/>
          <p:cNvPicPr/>
          <p:nvPr/>
        </p:nvPicPr>
        <p:blipFill>
          <a:blip r:embed="rId2"/>
          <a:stretch/>
        </p:blipFill>
        <p:spPr>
          <a:xfrm>
            <a:off x="3386160" y="2470320"/>
            <a:ext cx="2633760" cy="2939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120" y="5715000"/>
            <a:ext cx="7391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rry, but you’re too short for us to get marr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and the Seven Dwar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6:00Z</dcterms:modified>
  <cp:revision>179</cp:revision>
  <dc:subject/>
  <dc:title>Lecture 1:</dc:title>
</cp:coreProperties>
</file>