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B8DA-7F67-4194-80CA-135B95D8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C610-F948-4522-B123-B7614C28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59D5-06AA-4BDF-8A35-EA4309E3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1D2C-87D4-46B3-BEDB-DF4A2FD1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AE66-55D6-424B-8206-86207116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54B3-87B0-461A-9384-8A4445C9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5379-7461-42C3-AC25-3DC51358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DA6E-7733-4480-8E05-DCDE3FE7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2F08-7181-4E76-8ADB-CDCDBCDA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8E26-C674-4719-BE0D-B82081BF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7FEC-7700-43B1-B893-3454F63D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0CDA-9967-41E8-AF2F-7314DA37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52D0-CA1C-461D-961B-27CEDE447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e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4:14Z</dcterms:modified>
  <cp:revision>153</cp:revision>
  <dc:subject/>
  <dc:title>Lecture 1:</dc:title>
</cp:coreProperties>
</file>