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3836-739E-485A-A946-36EF360E3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5D14-7B22-4E5C-8EA5-FB4A31425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D90E-459F-4FC1-A0C9-A50627D21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6F98-392E-4B6E-BD12-B827A77F6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240C-49CE-4375-95C1-3F6C467EA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477C-9FC3-4222-B679-27D3E876E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CC6E-1AF9-499D-88ED-C00D4355E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9ECC-1B05-46CB-810F-E78727BE3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4B08-E8A4-424C-8614-A748BDE54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4E99-C4C2-44DC-9515-F35FA244F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1675-4ACF-4EAD-9A0A-C64FD1044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157C-835C-477B-8E48-D951108C5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A88F4-DA8F-43A4-A17D-1DF140CD13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finitive Replacing a Clause - Additional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175896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noun which can be preceded by an adjective. If the noun is countable (singular),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compuls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rashy jack! It doesn’t fit 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nonsense! Never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errible and time-consuming project to work 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an adjective or adver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nasty of you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ophisticated the system i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urprising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iro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175896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 questions can also be use to exclai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Windows the best O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the transfer sluggish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esn’t the processor have a beautiful colo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2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5 exercise 2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6 exercise 2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rld Wide Web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-mail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v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installed a modem to be able to connect to the internet via a phone li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hut down the system for it not to irritate her any mo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situations in which infinitive is used instead of a cla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adové číslovky)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ast,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he first to reveal the bug in the program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vní, kdo ..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ere the last to see the computer functional. (posled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 was the only person in our family to know how to ground the device. (jedi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ý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oug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ostat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ně, dos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lway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llow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 adjective or adverb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ass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per display. (dost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elká na to, aby …)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 you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play the game. 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knows Perl well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career as a programm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large enough a mediu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rogram on it uncompres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od enough software to me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needs available for downloading on the Inter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říliš (alway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ce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 adjective or adverb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snowhite" descr=""/>
          <p:cNvPicPr/>
          <p:nvPr/>
        </p:nvPicPr>
        <p:blipFill>
          <a:blip r:embed="rId2"/>
          <a:stretch/>
        </p:blipFill>
        <p:spPr>
          <a:xfrm>
            <a:off x="3386160" y="2470320"/>
            <a:ext cx="2633760" cy="29397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62120" y="5715000"/>
            <a:ext cx="7391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rry, but you’re too short for us to get marri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nowhite and the Seven Dwar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21932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und the mod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clumsy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to be fit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a car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fit 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for him to f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pretty a girl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concentrate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s and frequent mistak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cess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st enough for me to instal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install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gu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mart enough for me to d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ate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bl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me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use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dwarf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Snowhite to mar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arry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stupidit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hard for her to put up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ut up with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1698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ten occurs in phras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married, get angry, get ready, et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for more details see pp. 193-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you get the program ready in time, you will even be given a bon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aving heard about the system freezing, he got ang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com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ften intruduces a neutral change usually meaning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„stát se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has become too dificult to socialize wi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device has become too outdated to be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204804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low (or gradual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hair’s grown gr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finding out the dwarf had grown up, Snowhite began to grow fond of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udden (abrupt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his keyboard soiled, he turned red with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urning blue, the screen predicted a sleepless night full of adven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occurs in phrases - for more details see p. 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fallen in love with his new interface. He can’t take his eyes of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fall behind their schoolmates i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introduces a change for the wo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ut for the screen filter, he would have gone bli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you failed to stick the meat in the fridge, it has gone o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spent a month trying to get rid of the blue screen, he went craz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2048040"/>
            <a:ext cx="800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to/come 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ed to refer to a gradual change (developmen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the beginning I liked the blue color, but I came to hate it with each its recurr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nowhite needed to get to know the dwarf a little before marrying him. Why buy a pig in a po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6:00Z</dcterms:modified>
  <cp:revision>179</cp:revision>
  <dc:subject/>
  <dc:title>Lecture 1:</dc:title>
</cp:coreProperties>
</file>