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52F9C-9B21-471E-B2AA-0544AE351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EB9F7-AE3A-4902-AC32-352533AED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823B4-50EA-46AA-88FF-347CFD732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9694A-3F01-41A4-B2E0-851FBF853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80CF0-B631-4BB1-910E-F5BFA3ADC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76E89-4395-491A-ACE9-C2B006A45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44B29-DF33-4F6B-A151-5F29FBAE0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71315-2187-4D76-B429-A1FB21BCD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D2FAE-AA3C-466D-9A64-BC90B62B0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957E6-AB3A-4185-AAC8-EFB311A53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070A1-0C47-4C5B-874D-6B439B247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1B07B-11E4-4E60-861F-B26CACF3B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84CC5-612B-4813-B0ED-D150185CD1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0"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2"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pic>
        <p:nvPicPr>
          <p:cNvPr id="64" name="bookworm" descr=""/>
          <p:cNvPicPr/>
          <p:nvPr/>
        </p:nvPicPr>
        <p:blipFill>
          <a:blip r:embed="rId2"/>
          <a:stretch/>
        </p:blipFill>
        <p:spPr>
          <a:xfrm>
            <a:off x="2971800" y="3505320"/>
            <a:ext cx="3200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9:27Z</dcterms:modified>
  <cp:revision>205</cp:revision>
  <dc:subject/>
  <dc:title>Lecture 1:</dc:title>
</cp:coreProperties>
</file>