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7BAF-665B-4CD8-92D3-15A9B27BE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45C1-363B-4948-8500-9D5E2280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DFC3-76CE-4CF8-9F60-28360159A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02FA-67C3-40C7-AF94-B40AEC1FF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58A3-1115-43B5-9D56-FFAD97CD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872C-1BD5-4C9A-9D0D-7CDF2E3C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9629-DFE7-47DE-9B4E-F6158E87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1D53-0A21-4430-B06E-C017CB62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6210-35E6-45F4-B82C-5890FB92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CC89-74B3-4134-AEA4-45C7EC36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546D-EDF1-451A-B217-0294CB92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1893-0881-4653-A546-265A87AA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1201-75AC-4EF4-BA12-F0F13271C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World Wide Web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39Z</dcterms:modified>
  <cp:revision>190</cp:revision>
  <dc:subject/>
  <dc:title>Lecture 1:</dc:title>
</cp:coreProperties>
</file>