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659FF9-FA54-4460-9FF4-FAF0680DF2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8E1FD-E836-4EEB-8BA0-914F37713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C317DB-B0B7-4116-B827-83CDF4C66A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83F492-24F7-4C67-8E58-D87F80F7F0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3012D-A12F-4C12-8911-A40FE0304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8DA7B-B83D-4678-850D-BA554AB66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9CBDF-306A-40B6-B3A3-06099CBA0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643D3-C9E0-411F-914D-558BC0483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6CAE3-434E-450E-BF66-DE20BCF39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A869F-507B-4197-B1BA-982ECFD71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58A70-1853-46BF-823B-1BE3F500D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B5682-82FE-4856-97C1-4385CEE151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8B72F-E3AE-40C1-BE5B-53C21CE594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0"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2"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pic>
        <p:nvPicPr>
          <p:cNvPr id="64" name="bookworm" descr=""/>
          <p:cNvPicPr/>
          <p:nvPr/>
        </p:nvPicPr>
        <p:blipFill>
          <a:blip r:embed="rId2"/>
          <a:stretch/>
        </p:blipFill>
        <p:spPr>
          <a:xfrm>
            <a:off x="2971800" y="3505320"/>
            <a:ext cx="3200400" cy="29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9:27Z</dcterms:modified>
  <cp:revision>205</cp:revision>
  <dc:subject/>
  <dc:title>Lecture 1:</dc:title>
</cp:coreProperties>
</file>