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1B11A7-7D24-43AD-BA18-C4EA137694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C9E6A-2250-4EDE-899A-45539A284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D21552-61B6-490C-8849-552253E31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119699-371E-4D44-8952-9A02854AC2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7CB87-2BB4-4F61-A728-CA59B4665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65403-6CBF-402A-8216-65ECAD5C0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6C1E8-EEA5-4C82-B89C-95ED600D2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5A75B-85E3-4ECD-97E8-A1F8F4B86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DFE88-D212-4BD5-A9B6-226E7E595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6E6DA-9238-40EC-9680-2D95DFC04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D484E-82AC-482D-BC87-36788B732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2E687-2903-4EC3-8EB1-D52508516C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9AF92-85AD-4A32-B18C-E9D67EEDD1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0"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2"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pic>
        <p:nvPicPr>
          <p:cNvPr id="64" name="bookworm" descr=""/>
          <p:cNvPicPr/>
          <p:nvPr/>
        </p:nvPicPr>
        <p:blipFill>
          <a:blip r:embed="rId2"/>
          <a:stretch/>
        </p:blipFill>
        <p:spPr>
          <a:xfrm>
            <a:off x="2971800" y="3505320"/>
            <a:ext cx="3200400" cy="29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9:27Z</dcterms:modified>
  <cp:revision>205</cp:revision>
  <dc:subject/>
  <dc:title>Lecture 1:</dc:title>
</cp:coreProperties>
</file>