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E3FC-A029-494D-A4A1-773DF31A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B2E7-E606-4860-B2DC-31046763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BD05-1A04-42ED-BDAD-CC864E30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605A-F035-4F8D-8E4D-9E3F4E4F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44C3-4A01-44A2-A209-F5D2B990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5E12-9EEE-4175-83F6-7DBCC6B2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22B6-13F2-40FD-B962-581213CB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C424-BDA7-4891-852D-EED212D0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50D-C1C7-4666-A0A5-61D7E47A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29C0-7E09-4BD7-BBDC-28BE2B31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B1BA-A447-47E4-B579-69DBC6EA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DF0A-6535-485E-895E-7903AEB9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1C6C-C8BA-423E-BEC8-BD5B681E3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3:27Z</dcterms:modified>
  <cp:revision>144</cp:revision>
  <dc:subject/>
  <dc:title>Lecture 1:</dc:title>
</cp:coreProperties>
</file>