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B4EC-E234-484E-A9BB-03E01EC5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D5AE-2BDD-4741-AB5A-99276231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A5C4-5279-4ABB-AD8F-C0789ECAA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2D13-BFF9-4899-B65B-F287E53F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DB72-0F74-48C7-B49D-75D20EBF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B36E-A58F-4FF5-BE46-11EE945E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0C37-5134-47DC-B210-ACA547CA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10E8-CB61-4E4C-BF7F-52FC7721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3E0F-11A2-4DF5-AEBD-669ED6F8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B581-E208-4B0C-A8B8-4DDA41AE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4454-546C-473D-9095-7D3CD0D5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764E-C90D-44BE-9BB8-9BC2AFAA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C4C0-AB2E-4737-8164-1B32A3B24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e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4:14Z</dcterms:modified>
  <cp:revision>153</cp:revision>
  <dc:subject/>
  <dc:title>Lecture 1:</dc:title>
</cp:coreProperties>
</file>