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0265-1B17-44CD-B47A-85D1E5B7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61D5-D0AA-4961-8109-2F9C3836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A523-9900-4EE0-AA52-D6E382CEF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A3C1-6ADD-4731-93DF-7070B83DE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36E0-F425-4977-8870-8CB988C0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8666-1BE0-453C-92DC-355D7AEB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CE39-6138-487B-9F79-D6A94FA5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8CD1-669D-460A-B7D2-9E865799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B001-B66B-4E0C-95F6-5579463C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89D4-7396-4639-801C-2F0EF071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D087-FBB0-465B-98D9-D7252228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310C-7974-4D31-B8D1-D13AC12E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DA0D-2E1D-4ACA-8839-51EB3D815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600200"/>
            <a:ext cx="815328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eripherals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Ready for the Bazillion-Byte D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6:32Z</dcterms:modified>
  <cp:revision>54</cp:revision>
  <dc:subject/>
  <dc:title>Lecture 1:</dc:title>
</cp:coreProperties>
</file>