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0F7-6993-4FBA-B753-9BDD2052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05E-4078-4E21-A705-EDE6000A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6F7-69FF-4B1E-8FA1-948DCFA9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11F-9D21-47FB-8B59-4C5CE0CA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8FB-B0A3-4E33-8811-FF25512C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5D3-EB93-435D-84DB-D6ADDA0C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995-CF92-4030-8BE5-C8330997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2DD-D899-413B-A35C-4B39839F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4E8-283A-4200-81DB-AA3AC6D1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DF5-228A-48FC-AC95-39ADC0DD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777-7501-45DD-8103-94A5CE7C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1F4-9C3E-4D34-B260-C54BD9CA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6F89-0A0F-4496-8F01-BA3F6DBC3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RW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1-02T17:27:01Z</dcterms:modified>
  <cp:revision>19</cp:revision>
  <dc:subject/>
  <dc:title>Lecture 1:</dc:title>
</cp:coreProperties>
</file>