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CF12-3FB7-4DFA-B8D7-7390313E6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631A-AAFD-45C0-9825-71BC5C9F9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72B8-65F1-460E-B581-7BE6C9212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8319-362B-4E2E-B32C-C30D433FF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13E8-8F75-4874-B2C4-1C1A3BF63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F630-B47E-4331-B9C8-B25274E2C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9598-5709-4592-ABB7-34E033D44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DCF4-E62E-4B0B-9C9C-2FF51C6CD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A667-9ACA-41DC-BC8C-F819291DF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C1D0-9F53-4B4A-A1DD-92122EBA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2C2D-6B0A-4BB4-8B23-B135F26D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ECBC-C438-4BEB-BFA4-02170A1A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7D13C-847F-4E1A-AA5D-61AEF8C686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-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-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443320"/>
            <a:ext cx="82296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, wh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efining and non-defining relativ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(that) is 10 play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is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ays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523880"/>
            <a:ext cx="80769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 which (that) is at the beginning of the source code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, which is at the beginning of the source code,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st the CD (which, that) I had lent him, which got me down.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 (Czech “kte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 and additional information (Czech “c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-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990720"/>
            <a:ext cx="8076960" cy="57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n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(see eye to eye with h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CD writer. (do with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tragedy of my Marry contracting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sual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r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ting 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n/of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/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ar! I’m lea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marry her, but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 (backed out of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how I ca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b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money I m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is lectu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and done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1337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61 exercise 5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71 exercis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reading assigned this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future” - Czech has its equivalent in “hodla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chystat se něco udělat”; used when something is planned before being defi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assign this value to the scalar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not going to have her license renewed unless they tell her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change the IRQ of the modem to reconcile it with your sound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75248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ction that is likely to happen (taking into account the conditions we are witnessing and that normally lead to the a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ky has got overcast. It is going to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s turned red. He is going to 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ampering with the computer. It is going to free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crosoft have raised prices. Linux is going to be praised for being fre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461960"/>
            <a:ext cx="8381880" cy="52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fix the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fix the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divorce him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ivorce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decision, fact (hig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b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don’t pla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, 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752480"/>
            <a:ext cx="83818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you be doing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programmer going to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be using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260440"/>
            <a:ext cx="838224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: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thin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ot succeed in getting the OS to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supp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dem will not work with this initializ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reck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ever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think he is not going to succeed in getting the OS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suppose the modem is not going to work with th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ckon he is never going to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226044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onna + infinitive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y informal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nna grass on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’s not gonna discuss that with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ways of expressing inten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about to say it, but you beat me to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on the point of starting the virus-infected program when I entered the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, whom, 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used in connection with people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so allows other uses; h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, hi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m, 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he kind of pers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never lear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te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ave me the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d you give it to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d you give it 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b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s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t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ses of “whose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computer whose hard disk is faulty. This is the computer the hard disk of which is faul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buy a disk whose size is lower than 10 GB. I am not going to buy a disk the size of which is lower than 10 G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a keyboard whose cable was frayed. He brought me a keyboard the cable of which was fray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03T13:55:32Z</dcterms:modified>
  <cp:revision>69</cp:revision>
  <dc:subject/>
  <dc:title>Lecture 1:</dc:title>
</cp:coreProperties>
</file>