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EB8-58F7-48EE-9A39-A4E5732E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2A2-F0FF-4E5D-992B-D1E36CD7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A7D-52B9-4A7D-BB55-F16316AC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2E7-6F0D-4BED-8DA7-F378BC1A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32F-4FE8-4BA2-B358-717FF086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733-CD76-4E64-B4CE-CDE049B4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B2E-EA8C-4C04-910E-DF7155F7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5A6-38AB-4D57-AD2B-4A68EA28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481-82DF-412C-A28D-C9530509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679-89BE-4AF4-8925-02FA526D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844-21D8-4FA9-B476-81035A6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960-0B8E-4B6D-91EE-9C327B4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8CD3-3666-41CE-BE19-A611A33FC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RW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1-02T17:27:01Z</dcterms:modified>
  <cp:revision>19</cp:revision>
  <dc:subject/>
  <dc:title>Lecture 1:</dc:title>
</cp:coreProperties>
</file>