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E326-8B76-4821-996D-9BB1C38B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DE0F-6353-4F08-BF13-FAD875D8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FCB6-1348-427C-90A4-103D22EE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2614-B07D-457E-8944-44C483206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7CD3-CEA1-42AD-81FC-5AD72534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9A84-1A45-4520-AE17-984D5858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BCD7-42B8-4FB7-9879-35455BCB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D601-F370-43D3-AA3C-185CCD58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B95E-483C-4B3B-BAA6-D3CF60F0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7DFC-1BA0-49D4-B2C8-911B2F46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B2EF-BC8E-4271-A684-51FE3893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5C06-DF7C-4C7E-9FB2-C409F009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6A36-12ED-4F6E-B871-C5A656B2F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05T11:14:06Z</dcterms:modified>
  <cp:revision>168</cp:revision>
  <dc:subject/>
  <dc:title>Lecture 1:</dc:title>
</cp:coreProperties>
</file>