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7DB4-8B21-407D-B4C6-72C77C62A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F440-4BEF-4BE1-91CF-CE8C05FE2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3242-CD2D-48FA-B069-80E6A6282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FD86-25AC-4A73-AB0D-F208B0E0A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681E-6330-4BEB-BBE6-5CD0AB88F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CC4A-0F64-40CA-8D9A-A985437FD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0915-FC70-499F-B613-310EBA8A1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5474-F71B-416C-9FA4-1C0E9973D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2E1B-78CF-41CE-B7AD-96DE3F5F5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9BD7-C46A-48C2-8AD7-C53BD68CC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E1D5-B0F8-4A04-877E-DFB6A291C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DD0B-C6FA-41EE-95E1-9CE53FC51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0B2A7-BC8C-48BC-8C2C-A70CC995A9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7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wish …, If only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212400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 of repetition in the 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ed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pressing frequent repetition and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used to play computer games when he was young. He no longer does so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rával, ale už nehraj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used to chase chicks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onil, ale už nehoní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ndows used to be unstable, but now it is the best O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býval, ale už ne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1676520"/>
            <a:ext cx="792504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08 exercise 29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21 exercise 3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 World Wide Web –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E-mail Protoc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wish …, If only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40976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member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pen sentences that are in Czech known as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ací vě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 The rules governing their formation are the same as those which hold for the clause following conditional conjunction in 2nd or 3rd condition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iece of cloth, I would wipe the monitor with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iece of cloth (to wipe the monitor with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ga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a Philips screwdriver, I would loosen the scre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ga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a Philips screwdriv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wish …, If only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835280"/>
            <a:ext cx="8382240" cy="42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ould have assembled the computer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 not los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l the belt c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 not los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l the belt c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increa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buffer size, the computer would not have reported buffer underru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increa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buffer siz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wish …, If only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14300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ther u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used to express a wish for something that the speaker finds annoying to change in the fu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…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used to express a “neutral” wish concerning the fu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he would not play with the live wire next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the weather would impro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the computer would stop freez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the monitor would not flicker that mu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they (will) fix the drive by 6 o’clo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she (will) marries (marry) me one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52388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fective aspect - dokon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ý v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mperfective aspect - nedokonavý v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he imperfective aspect is usually expressed by means of continuous tenses - stress is laid on duration (trván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e was reconfiguring the system the whole afterno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  programmer has been writing the manual since he finished the pro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y say it will be raining the whole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member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Some verbs cannot occur in continuous tenses or they change their meaning in these (see Lecture 1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2048040"/>
            <a:ext cx="8381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, however, a sentence refers to a repeated action, simple tense is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configured the system every other day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reconfiguring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grammer usually wrote the manual when he was fre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grammer was usually writing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we were in Greece, it often rained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as 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monitor flickers every now and then. X My monitor is flickering all the tim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expression of annoyance - see Lecture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72404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-off actions are usually expressed by means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a + infinitive (without “to”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like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show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f it’s O.K. with you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sprchova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abou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ing a drink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ap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í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nted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danc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me, but I turned him down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zat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čit 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fired because he would often leave his office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smok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zakou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řit 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y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loo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t it? It may only need some cleaning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odíva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204804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 of repetition in the 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past si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usually used a temporary file for storage of calculation resul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regularly failed to notice his neglig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s never did the handshaking right with these initialization strin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971720"/>
            <a:ext cx="8229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 of repetition in the 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+ infinitive without “to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pressing frequent repet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e would ask for assistance whenever he was in trouble.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(žádával mě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 would get a blue screen after installation of some new hardware under Windows 3.11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setkávával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at operating system would give me sleepless nights on weeke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7-10-24T18:16:39Z</dcterms:modified>
  <cp:revision>190</cp:revision>
  <dc:subject/>
  <dc:title>Lecture 1:</dc:title>
</cp:coreProperties>
</file>