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C285-DD36-4A78-A9B1-F21F2470C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9D48-32DC-4852-ADE0-0F9AC0A8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E9D0-E1BC-446D-9677-97BBCCC5B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8FEA-E709-44CE-989B-37586B43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5FD3-A871-4F2E-A124-9AA77F21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0080-FF48-486F-A93D-39CC515D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E258-DF24-4B82-B9F9-DE5AC9D2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50DC-62B6-4EB5-9615-EC28F8F2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B4EA-2CAF-4B38-B695-46892907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4CA5-370E-43B8-AE24-AC227967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E04C-66C7-4CD7-B85B-D94591AC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EE8D-B68F-4197-99EB-7E8D71F7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4E94-BD29-4038-B9D2-D430EB9C5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3:27Z</dcterms:modified>
  <cp:revision>144</cp:revision>
  <dc:subject/>
  <dc:title>Lecture 1:</dc:title>
</cp:coreProperties>
</file>