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AF59-A313-4929-94D4-C2D26E47B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90D5-48DE-4DE9-84B1-ECDF136A2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FAC6-EAAE-4A51-AB3E-B8A7AB568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D201-3648-409D-B511-07B97FC39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AAEA-5953-4631-A634-45D123ED4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5BD0-E29E-4486-8BBE-3E0114C36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8D42-90BC-4F2E-B5CD-022B60384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99D3-5CBC-48DD-9246-42ED6AD7C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C040-7FDE-4C9C-84D1-10BB013A2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7DAF-B04C-4AC1-9475-066AB58DF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D7AC-2417-4E99-9DC3-8D4364588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F60A-379E-49B9-B5B4-417626C82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891C3-4E90-477E-8C1A-E38EBCD785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0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ditiona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ditional conj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ero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rst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ond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rd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xed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xed Condit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127332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the combination of unreal conditions in the past and unreal present or future resul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nction + past perfect, … would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uld … + conditional conjunction + past per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omputer had not caugh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virus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y disk would not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mpty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be able to sha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data with the others now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connec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computer to the network and configured it right yester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not m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a while ago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not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o frustrated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itional Notes - Special Cas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9480" y="2057400"/>
            <a:ext cx="7925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nse shift in conditiona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wou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ake an umbrella in cas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rain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repli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would not p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m unle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di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s work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+ would (expressing politenes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you would let me use your CD writer, I would really appreciate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ould really be helpful if you would rent some disk space for us with an AS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itional Notes - Special Cas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905120"/>
            <a:ext cx="7925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 if, as though, like (informal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looks 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does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know chalk from chee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keyboar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ooke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wa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out to go into pieces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ense shif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talk to him 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 old man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econd conditional - he is not ol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r keyboard looks 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y brother had play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it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y brother did not play with 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95 exercise 12.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99 exercise 13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ltimedia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lay MP3 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ricks to MPEG’s Su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ditional Conjuction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787400"/>
            <a:ext cx="8381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jestli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že, kdyby (depending on the type of conditional)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unles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jestliže ne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rovided/providing (that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za předpokladu, ž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ppose/supposing (that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za předpokladu, předpokládejm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long 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okud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 condition 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od podmínkou, ž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c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ro případ, ž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Zero Condit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838080"/>
            <a:ext cx="8382240" cy="56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conditions which are always true. Conditional conjunction is usually translated into Czech as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estliž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dy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ction + present tense, presen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resent tense + conditional conjuction + presen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overcloc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rocessor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produc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re heat than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do not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y antivirus software, you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ata is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af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ata is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afe unle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ome antivirus softw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pu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alt on ice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melt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 not prepa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asta right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boi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for more than 12 min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rst Conditional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re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álná podmínk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371600"/>
            <a:ext cx="8382240" cy="50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conditions usually probable and related to the future. Conditional conjunction is usually translated into Czech as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estliž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dy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ture structu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nction + present tense, future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uture tense + conditional conjunction + presen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tu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co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a lesson without your homework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ill be consider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s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rst Conditional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re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álná podmínk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501920"/>
            <a:ext cx="8382240" cy="52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vid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high bandwidth connection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ill be able t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ownload large amounts of data without any probl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long 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ant t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nnect to the Internet via the modem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ill have t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dify its initialization st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ill tak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 umbrella with me in cas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rain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to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 to perform the query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certainly wan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 to do 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manag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connect to the network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certainly filled ou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fo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uld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ve debugged the program unle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s source c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cond Conditional (nereálná podmínka v přítomn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63836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conditions which are improbable (or impossible) in the present or future. Conditional conjunction is usually translated into Czech as “kdyby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ction + past tense, … would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uld … + conditional conjuction + pas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u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different refresh rate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is monitor would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be flicke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understan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very word he says provid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spok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little more slow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cond Conditional (nereálná podmínka v přítomn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866960"/>
            <a:ext cx="8381880" cy="31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bough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full version of the program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cou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e all its featu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t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rd item of the array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string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would not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ossible to assign it to this type of variab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uppose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knew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how to use logical operators,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 he mak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such a mista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uppose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o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a million. What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 you do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</a:t>
            </a:r>
            <a:r>
              <a:rPr b="1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 you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chec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the syntax of that source c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ird Conditional (nereálná podmínka v minul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67004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unreal condition in the past. Conditional conjunction is usually translated into Czech as “kdyby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nction + past perfect, … would + past infinitive (without to)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uld + past infinitive (without to) ... + conditional conjunction + past per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studi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rd enough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have pa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ex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wouldn’t have bur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port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 turn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off before plugging in the prin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ird Conditional (nereálná podmínka v minul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2136600"/>
            <a:ext cx="8381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ast night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ompiler wouldn’t have repor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syntax error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rogrammer had termina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very line with a semicol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have u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ls -l command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wan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know the contents of the directory with all file attrib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had know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at punishment you would get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 you have owned up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the de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2-08T15:03:15Z</dcterms:modified>
  <cp:revision>124</cp:revision>
  <dc:subject/>
  <dc:title>Lecture 1:</dc:title>
</cp:coreProperties>
</file>