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0703-CA3A-4A53-ACDA-151D562BA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50C5-72EF-4071-B580-DA95CA384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1339-90D6-402B-B0AB-A15EB674C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6303A-DC34-4DA7-B273-4A04B63AD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B883-6E5A-4D79-96E9-FC2BF241C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B39E-63CA-4D45-96E2-BD23D210C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13BE-3506-4091-BCC3-5C3D3D1B4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79BE-1379-4193-B9A1-3F21E8728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72D7-DFEB-4115-BE1D-AC30F5008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4069C-FE57-487A-9270-85F6CAA61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B2E2-7CDE-4D45-8D94-3E575A934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91F9-B849-459B-9A41-F6BB4CA2F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95EED-A802-47EF-BE61-6FEA1FA93F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3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most common verbs combined with preposi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ree with, apologize for, approve of (souhlasit s, schvalovat), benefit from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prospěch z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epend on, feel lik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mít chuť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insist on (trvat na), look forward to, object to (m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t námitky vůč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rely on, resort to (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chýlit se 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cceed in, think of, vote for (hlasovat pr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ologized for sending him a virus-infected fi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trongly objected to using FLASH technology on that si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don’t feel like learning to work with another 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sorted to launching the applications from the command l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teacher succeeded in mastering some basic Unix comman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676520"/>
            <a:ext cx="792504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56 exercise 21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nfigu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nalog and Digital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52388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ciples are often used to shorten sentenc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simple -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ng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form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d to refer to simultaneous actions or parallel stat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he was browsing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en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row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site, he received several cook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he subjects are iden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ile he was tempering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Whil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mper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hardware, he made a real mess of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3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gateways amplify the signal they receive, they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mplify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received signal, gateways ensure its appropriate strengt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it is a terminal which comprises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e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termina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mprisin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monitor and keyboard only, it is considered a dumb cli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1676520"/>
            <a:ext cx="8001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ssive for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 file was transferred in the binary mode, it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eing transferred in the binary mode, the file was stripped of carriage retur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they are not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being asked, they should be qui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523880"/>
            <a:ext cx="792504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ast participle for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which was discussed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matt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scu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any times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which was addressed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received the e-mail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ddre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every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which is connected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the station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net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i.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Past Gerund form: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having + past participle) - used to denote chronological sepa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data-link layer  receives confirmation that the packet has arrived undamaged, it deletes the pack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received confirmation that the packet has arrived undamaged, the data-link layer deletes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fter the modem detected noise on the line, it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detected noise on the line, the modem terminated the connec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artici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37160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 she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aving found out her boyfriend was cheating on her, she broke up with hi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ince the message was not re-routed properly, it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t having been re-routed properly, the message did not avoid the conges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ote: Use of participles makes speech (writing) sound (look) formal and academic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1371600"/>
            <a:ext cx="80010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aking scripts for my boss is my worst nightm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making of scripts for my boss is my worst nightmare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archai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most common preposition-free verbs followed by gerund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mit, appreciate, avoid, celebrate, commence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začí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consider, deny, detest (nes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š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dislike, enjoy, fear, finish, go, imagine, keep, mention, mind, miss, postpone, practice, resist (o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láva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tand (vyst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á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sugg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golden rule to remember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can put “something” behind the verb, if you want to put another verb behind it, it should be in the gerund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Use of Gerun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914400" y="190512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523880"/>
            <a:ext cx="83818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admitted making a mistak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debugging the source code. (I appreciate that she is debugging/she debugs the source code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appreciate her having debugged the source code. (I appreciated that she has debugged the source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y schoolmate considered buying himself a new compu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oes not enjoy working with that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te him/his smoking in this roo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4:14Z</dcterms:modified>
  <cp:revision>153</cp:revision>
  <dc:subject/>
  <dc:title>Lecture 1:</dc:title>
</cp:coreProperties>
</file>