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DE9F-5B2F-49E5-B808-FD359C85C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ADC8-EEB8-4215-B04D-D6E2A5E4B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93D72-B2B4-4E57-8921-95648115B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A749-9F18-4715-8522-416840BA7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48C1-E796-457E-A203-7565205C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2B95-6F0D-4816-AB0A-0A5E5A5B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E2CB-F79E-4E23-8353-ABFDFF7B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3765-1275-4852-8B18-0D24520F2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D2263-30C5-4301-9DD6-AE26D1127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F33D-A159-4E61-9C0A-DAB2A2A03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F76BB-0D5E-4FF8-9E94-526F455F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61138-F04B-46BB-8BA5-113FD32E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BB2B6-59A3-448B-BC84-F4C74D9819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8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3 exercise 31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bsite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ML takes on 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14300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can be used two different ways - either meaning Czec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y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used if the subjects of the clauses are not identical)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When used in the sense of Czech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ab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an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d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may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usually (but not always) follow it provide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ain clause (the first part) contains present tense, present perfect or future tens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, however, the main clause (the first part) contains past tense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igh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ually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for my system to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update my virus definitions regularly so that my system can (may) operate flawless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6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for him to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recently installed a new spam filter so that he can (may) receive less junk ma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 for us to be able to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network administrator will try to get that e-mail client to 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 we can contribute to the discus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2120" y="1523880"/>
            <a:ext cx="7391160" cy="42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for his students to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lotted the data into graphs so that his students could (might) read them easi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for the others to be able to read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et his e-mail client to use IMAP4 so that the others could read the messages from other locatio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 o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hould not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ually follow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rovided the clause preceding it contains past tense and the speaker wants to express a negative in the clause following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for the children not to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 the knife away so that the children should not cut themsel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for it not to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ystem locked the file so that it should not be overwritt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that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97172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for his processor not to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placed his heat sink so that his processor should not overhea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for the assignment not to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ype-cast the variable so that the assignment should not be erroneo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tak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learnt he had not received my message, I was taken aback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zaražen, překvap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e the bloody lemon away! I can’t bear the sight of it any mor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nést pryč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tried to take me in, but did not succeed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napálit, oklam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aking into account my previous experience, he decided to hire 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ít v úvahu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udents are required to take their shoes off before entering the computer hall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vyzout, od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boarded the plane shortly before it took off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zlétnou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had better take on some more people because otherwise we will not meet the deadlin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ibrat - zaměstn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34928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oing the job for 10 years he wanted someone to take (it) over (from him)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převzí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much disk space does the program take up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bírat - o rozloz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to pu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puts aside a good deal of money every month to be able to buy a more powerful computer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dklád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the book back on the shelf after you are done with it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dát zpět, vrát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ut down everything I say, please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sat, z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act I have to know all those commands puts me off from working with that system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dra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hrasal Verb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1752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rather you did not put on that jacket. Look how dirty it i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obléci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his computer caught fire, he did his best to put it (the fire) out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has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ould you please put me through to Mr. Smith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pojit s - při telefonová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dismantling the device, do you think they will ever be able to put it together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slož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England, we were searching for someone to put us up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ubytovat, většinou dočasně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put up with the situation and make the best of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míři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20T10:55:42Z</dcterms:modified>
  <cp:revision>198</cp:revision>
  <dc:subject/>
  <dc:title>Lecture 1:</dc:title>
</cp:coreProperties>
</file>