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3900-C745-4959-89B7-408EDD242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F3AC-ABDB-49C6-9BB7-1AC7FA41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65C49-5B49-4BDF-AB30-075EF73B66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01BA-59E9-4AF8-AEC2-ACBF1C91E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31BF-5C03-4362-BA7E-5FC68C6A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217D3-4DAA-421C-8399-FB7455F88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86B5-B0A8-483B-9A76-160EE19BC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00DA-436A-415A-BE96-F07F4FB6F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86F6-77F8-4276-A127-4FFF1E5B7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0BD4D-6CC6-4692-863B-FB8AD721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A296-6B1D-4F78-9756-5A698DFE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B963-0EBC-4960-8F9D-ECAA3CF7B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48586-A08B-4DA1-A6B9-FB3E6B061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6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rithmetic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, Subtraction, Multiplication, Divi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27664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add st to st [œd]; add up two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subtract st from st [s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’trœkt]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ultiply st by st [maltiplai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ivide st by st [di’vai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+ 3 = 9 (six plus (and) three equal(s) (is) (are) n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- 3 = 3 (six minus three equal(s) (is) (are) three) (three from six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6 x 123 = 738 (6 times (multiplied by) 123 equal(s) (is) (are) 73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738 / 123 =  6  (738 divided by 123 equal(s) (is) (are) 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ower, Roo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19320"/>
            <a:ext cx="8382240" cy="534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4 (2 squared equals (is) (are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(2 cubed equals (is) (are) 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16 (2 to the fourth (to the power of four) equals (is) (are) 1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32 (2 to the fifth (to the power of five) equals (is) (are) 3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wer is a result of raising a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ba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xpone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ks’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t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8 is a power of 2 since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8 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2 is a base, 3 is an expon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9 = 3 (the square root of 9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7 = 3 (the cube root of 27 equals (is)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56 = 4 (the fourth root of 256 equals (is) 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5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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2 = 2 (the fifth root of 32 equals (is)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219320"/>
            <a:ext cx="8001000" cy="54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rac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frœ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 is a ratio of numbers or vari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following should be read as three fifths, two thirds, nine tenths respectivel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3   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in the first fraction represents a numerator and 5 denomin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qua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[i’kwe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š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]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 + 1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3          15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15 represents the common denominator of the two fractions (the least common multiple [maltipl]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ractions - Variab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1994040"/>
            <a:ext cx="8001000" cy="23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 +3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 (two x plus three ov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3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qua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3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+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2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=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9x + 10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=  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19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ts val="15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5         3             15              1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ne, Cos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523880"/>
            <a:ext cx="792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38080" y="160020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295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n, sine [sain]; sin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[sain of œlf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s, cosine [k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usain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hypotenuse [hai‘pot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nju:z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sine" descr=""/>
          <p:cNvPicPr/>
          <p:nvPr/>
        </p:nvPicPr>
        <p:blipFill>
          <a:blip r:embed="rId2"/>
          <a:stretch/>
        </p:blipFill>
        <p:spPr>
          <a:xfrm>
            <a:off x="1981080" y="3429000"/>
            <a:ext cx="508176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ou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2057400"/>
            <a:ext cx="80010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round a number up    x    to round a number d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0.16666 rounded to two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laces is 0.1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.8875 rounded to three decimal places is 2.88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ig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37160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     - decimal [desim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l] point       &lt;  - inequality sign (is less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+   - plus sign                                 &gt; - inequality sign (is grea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-    - minus sign                                     tha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    - multiplication sign                  $  -  dollar 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/     - division sign                           &amp; - ampersand [œmp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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œnd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  - equal 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%  - percent symb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:    - 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;    - semico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    - vertical 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 )  - parenthe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}  - braces, curly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[]  - square bra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04-05T11:14:06Z</dcterms:modified>
  <cp:revision>168</cp:revision>
  <dc:subject/>
  <dc:title>Lecture 1:</dc:title>
</cp:coreProperties>
</file>