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DBA5-226F-45B2-833C-F6E4E2FAD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B39B-00C0-4236-BE35-8D733FEA8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D285-5051-41DC-979D-27F64FCE1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118F-A1E5-44CF-B19E-47954B220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DF90-D87B-4766-8ED1-D811486C2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D3D6-89B9-4B53-A0FB-7127AB344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40A8-02B7-448A-A4F6-23551A5EC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4169-BF69-4662-967D-C721992F7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53463-60C1-496C-A2D5-36B475606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E662-F49E-413C-B2D6-5E05DE23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9550-65D0-4DE8-A144-A134E01F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150FC-6E61-4A7D-8918-E38E044B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BDC92-7107-48CA-B432-D963F9063F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5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Infinitive Replacing a Clause - Additional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33520" y="175896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noun which can be preceded by an adjective. If the noun is countable (singular),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s compulso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rashy jack! It doesn’t fit 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nonsense! Never heard anything like that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 a terrible and time-consuming project to work on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ow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the use of an adjective or adver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nasty of you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ophisticated the system i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surprising!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iro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Exclam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75896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gative questions can also be use to exclai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Windows the best O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sn’t the transfer sluggish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esn’t the processor have a beautiful colo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3 exercise 26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5 exercise 2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206 exercise 2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World Wide Web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-mail Protoc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is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installed a modem to be able to connect to the internet via a phone li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shut down the system for it not to irritate her any mo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ther situations in which infinitive is used instead of a clau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rdinal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řadové číslovky),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ast, 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was the first to reveal the bug in the program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vní, kdo .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ere the last to see the computer functional. (posled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Dad was the only person in our family to know how to ground the device. (jedi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kd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835280"/>
            <a:ext cx="8382240" cy="44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oug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dostat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čně, dos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llow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assu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per display. (dost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velká na to, aby …)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- same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emory of the VGA is large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or you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play the game.  -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fferent su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knows Perl well enough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career as a programm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large enough a medium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sto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rogram on it uncompres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r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od enough software to me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needs available for downloading on the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říliš (alway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ece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 adjective or adverb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snowhite" descr=""/>
          <p:cNvPicPr/>
          <p:nvPr/>
        </p:nvPicPr>
        <p:blipFill>
          <a:blip r:embed="rId2"/>
          <a:stretch/>
        </p:blipFill>
        <p:spPr>
          <a:xfrm>
            <a:off x="3386160" y="2470320"/>
            <a:ext cx="2633760" cy="29397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62120" y="5715000"/>
            <a:ext cx="7391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rry, but you’re too short for us to get marri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and the Seven Dwar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finitive Replacing a Cla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219320"/>
            <a:ext cx="792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found the mod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clumsy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to be fit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a car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 fit 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card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big for him to f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to the slo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’ve met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pretty a girl to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le to concentrate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s and frequent mistak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rocessor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st enough for me to instal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install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gu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mart enough for me to dat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date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cable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me to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use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dwarf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short for Snowhite to marr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marry hi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stupidity i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oo hard for her to put up wit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no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o put up with 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09480" y="169848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ften occurs in phrases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et married, get angry, get ready, etc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- for more details see pp. 193-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you get the program ready in time, you will even be given a bonu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aving heard about the system freezing, he got ang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com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ften intruduces a neutral change usually meaning 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„stát se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He has become too dificult to socialize wi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he device has become too outdated to be us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204804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r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low (or gradual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is hair’s grown gre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finding out the dwarf had grown up, Snowhite began to grow fond of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ur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refers to a sudden (abrupt) chang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his keyboard soiled, he turned red with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urning blue, the screen predicted a sleepless night full of adven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724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fal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ually occurs in phrases - for more details see p. 194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gli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tina pro jazykové školy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fallen in love with his new interface. He can’t take his eyes of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fall behind their schoolmates in programm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ften introduces a change for the wor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ut for the screen filter, he would have gone bli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you failed to stick the meat in the fridge, it has gone off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spent a month trying to get rid of the blue screen, he went craz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erbs Denoting a Change of Sta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33520" y="2048040"/>
            <a:ext cx="8001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.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get to/come t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used to refer to a gradual change (development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the beginning I liked the blue color, but I came to hate it with each its recurrenc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nowhite needed to get to know the dwarf a little before marrying him. Why buy a pig in a po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6:00Z</dcterms:modified>
  <cp:revision>179</cp:revision>
  <dc:subject/>
  <dc:title>Lecture 1:</dc:title>
</cp:coreProperties>
</file>