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E841-079C-4E37-BD21-7B217E927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B835-A641-45CA-918A-B47FA2905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F5F5-8112-4657-97B2-E3B74F2D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095B-607F-448D-8958-79BE7E4C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F3F-BC57-4A75-92FF-C78F4769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975D-4CC8-4390-891C-079F15561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A9EBE-9B3E-4C03-86B2-FE751251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A2B4-A9F0-4D1A-95E7-530492F8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2C71-EF91-4F2F-8E10-95B2A665A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5306B-30B0-4586-BEA1-DD775DBED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DD512-D1FB-4266-8119-D180BAF9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6D78-CC17-40E6-A789-0460141A3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5DFB-3DC9-43E7-BF64-EE74AE30F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2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213372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nctions introducing time claus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while, before, after, as soon as (jakmile), till, until, once (jak jednou), by the time (kdy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ž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, whenever (kdykoliv), the moment (v tu chv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íli, kd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rule to remember: Time clauses (introduced with one of the conjunctions above) must never conta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uture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When referring to future, they have to u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esent ten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1600200"/>
            <a:ext cx="8382240" cy="49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picture will be breaking up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 you star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laying the file without the new code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fter you pl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new piece of hardware in, Windows will automatically detect it and assign the right driver to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not start selling the progra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ntil I debug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say they will check my hardware setting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ile I wai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(na p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čkání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be able to install that operating system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 soon as you re-partitio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r dri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receive the fil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y the time you are don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the conver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henever he ask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e for it, I will not help him o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840" y="15840"/>
            <a:ext cx="1828800" cy="707760"/>
          </a:xfrm>
          <a:prstGeom prst="rect">
            <a:avLst/>
          </a:prstGeom>
          <a:solidFill>
            <a:srgbClr val="fcfdc6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tin Dvořák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ime Clauses and their Conjun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19908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1981080"/>
            <a:ext cx="792504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 case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use of present perfect in time clauses introduced b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hen, as soon as, after, once,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tc. to describe an action which will be completed before the action in the main cla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will get a pretty well-paid job when you have graduated from this schoo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ce I have finished reading the manual, I will try to get it to 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will let you go out as soon as you have done your homewor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tudent will be admitted to a higher grade after he/she has passed all the necessary exa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9480" y="1066680"/>
            <a:ext cx="800100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axon Genitive 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. express belonging to a person or, sometimes, anima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is my father’s mod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o one is allowed to touch my children’s to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eachers often underestimate their students’ learning potent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. to express place, distance, periods of time, measure, value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 set out for an hour’s walk. (a one-hour wal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 have bought a sixteen inches’ monitor. (a sixteen-inch monito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is twenty kilometers’ trip will never end. (twenty-kilometer tr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axon Geni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371600"/>
            <a:ext cx="83818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at’s what I told you at the last week’s lectu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ope they don’t thwart the tomorrow’s plan of mi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has only brought me a fifty centimeters’ cable. (a fifty-centimeter cab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otice the differen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nday’s newspapers (this Sunday’s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Sunday papers (Sunday edition - generall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hirty Year’s War (the name of the war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 thirty-year war (the one lasting thirty year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2124000"/>
            <a:ext cx="8381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o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á také. 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o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ither do I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J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á také ne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Neither + auxiliary (modal verb) + subject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dislikes the FLASH technology. So does sh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can’t work with that program. Neither can my 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have overslept today. So has my broth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ur bandwidth does not enable us to transfer a large volume of data. Neither does thei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is as thick as two short planks. So is his sis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o do I., Neither do I., and their Vari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33520" y="2260440"/>
            <a:ext cx="8001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memb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e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has got a new car. So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as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he mustn’t increment that value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the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needn’t have used fractions in the equation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ed 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mustn’t speak during the lessons. Neithe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ust sh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never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roduce bug-free software. Neither do 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5 exercise 16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6 exercise 17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128 exercise 1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s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twork Commun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7-10-24T18:13:27Z</dcterms:modified>
  <cp:revision>144</cp:revision>
  <dc:subject/>
  <dc:title>Lecture 1:</dc:title>
</cp:coreProperties>
</file>