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56FB3-1DA6-444B-9530-A1E98260A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7F59-1AD4-4E14-B1CC-5A57176F5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BE46-B41B-4617-B66F-20010DCF6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0427-B35F-483A-875E-FDCE5C7E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0DE60-FBE7-4A23-A75E-CA04B756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43CFC-28C0-49AF-A406-BE3CF99C8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68BEA-C0B5-4D41-A35E-2AE8BF5F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767C-22C5-4ED3-99A7-CB33589A1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6890-5866-4834-9568-2E7107AE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770DE-E059-46F2-B4F8-11712BA7E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F76FC-CEF2-4D68-8BF3-E19D47EC5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EB31-1DC8-4418-A20E-10B03D81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D451D-31B2-48DF-BB96-E11EB236F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2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676520"/>
            <a:ext cx="792504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r. Dvořá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do you thi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you could check m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swer shee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nd possibly award 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e more point for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question you mentioned at tod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’s lecture? I am writing this e-mail since I am not completely sure of what alternatives I have selected for the qu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sincerely (Best regards, Kind regards, Regards, All the best, Best wishe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a Polofor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lní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676520"/>
            <a:ext cx="792504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5360" indent="-4953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incipal rules to 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ways reply to any e-mail you receive letting the sender know you have received it and you have not ignored its contents. You should do so even if it were in the form of a simple ‘Allright’ no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95360" indent="-495360">
              <a:spcBef>
                <a:spcPts val="1500"/>
              </a:spcBef>
              <a:buClr>
                <a:srgbClr val="000000"/>
              </a:buClr>
              <a:buFont typeface="Times New Roman"/>
              <a:buAutoNum type="roman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ware of the person who does not reply to your e-mail despite receiving it since there is always a problem to surface in the future!! That is, such a person is likely to turn out slapdash, boorish, conceited, complacent, or having any other negative trait that might eventually get you in trouble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61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mpu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iding Hard Dr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End of Lecture Ser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0666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n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an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(x)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unction of the variable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at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iv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tiv] – deriva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 expression representing the rate of change of a function with respect to an independent vari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df(x,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the partial [‘pa: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l] derivative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(x,y)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44792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deri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di’raiv] – odvodi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btain a function or equation from another by a sequence of logical steps (e.g. by different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integra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grəl] – int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grál </a:t>
            </a:r>
            <a:r>
              <a:rPr b="0" i="1" lang="cs-CZ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nction of which a given function is a derivative (which may express the area under the curve of a graph of the func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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 (x)dx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-- the indefinite integral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f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with </a:t>
            </a:r>
            <a:r>
              <a:rPr b="0" lang="en-US" sz="2400" spc="-1" strike="noStrike">
                <a:solidFill>
                  <a:srgbClr val="000000"/>
                </a:solidFill>
                <a:latin typeface="NPPIFK+TimesNewRoman"/>
              </a:rPr>
              <a:t>respect </a:t>
            </a:r>
            <a:r>
              <a:rPr b="1" lang="en-US" sz="2400" spc="-1" strike="noStrike">
                <a:solidFill>
                  <a:srgbClr val="000000"/>
                </a:solidFill>
                <a:latin typeface="OAABLB+TimesNewRoman,Bold"/>
              </a:rPr>
              <a:t>to </a:t>
            </a:r>
            <a:r>
              <a:rPr b="0" lang="en-US" sz="2400" spc="-1" strike="noStrike">
                <a:solidFill>
                  <a:srgbClr val="000000"/>
                </a:solidFill>
                <a:latin typeface="OAABBF+TimesNewRoman,Italic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logarith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lo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riδəm] – logaritm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common logarithm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g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- logarithm (base a) of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sain]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tang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[kəu’tæ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si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– calculated as a ratio of the side opposite a given angle to the hypoten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- sine x, cosine x, tangent x, cotangent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447920"/>
            <a:ext cx="8001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 x, cos x, tg x, cotg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a| - the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bsolute valu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of 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remaind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ri’mei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ə]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- zbyt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quantit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kwontiti] – ve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x], pl.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matri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meitrisi:z] – matice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rectangular array of quantities or expressions in rows and columns that is treated as a single entity and manipulated according to particular ru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Σ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– sum [sam]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u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826920" y="4005360"/>
            <a:ext cx="7632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binomial [bai’nə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m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l] coefficient [kəui’f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ənt] of the natural number n and the integer k is the number of combinations that ex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e binomial coefficient of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is often read as "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choose k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>
            <a:lum contrast="76000"/>
          </a:blip>
          <a:stretch/>
        </p:blipFill>
        <p:spPr>
          <a:xfrm>
            <a:off x="3995640" y="2205000"/>
            <a:ext cx="804960" cy="13683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971640" y="1484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binatoric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[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bi: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ə’to:riks]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rithmetic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328464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where n is the number of objects from which you can choose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is the number to be chosen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>
            <a:lum contrast="36000"/>
          </a:blip>
          <a:srcRect l="0" t="0" r="10290" b="-2151"/>
          <a:stretch/>
        </p:blipFill>
        <p:spPr>
          <a:xfrm>
            <a:off x="611280" y="1844640"/>
            <a:ext cx="784836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676520"/>
            <a:ext cx="79250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poorly composed messa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 teacher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ant the point for the question I wrote correct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tr Bal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k Balíkovi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Politeness in Correspond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676520"/>
            <a:ext cx="792504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 of a correctly composed messag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ar Sir/Mada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m sending this message with regard to your e-mail of April 2, 2007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ere you say I might be awarded one more point for a question in my 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 h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swered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orrectl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I wonder if you would be so kind as to check the test and make sure the question has been evaluated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nk yo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s faithfu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aniel Kultivova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rak</cp:lastModifiedBy>
  <dcterms:modified xsi:type="dcterms:W3CDTF">2007-05-03T10:57:33Z</dcterms:modified>
  <cp:revision>221</cp:revision>
  <dc:subject/>
  <dc:title>Lecture 1:</dc:title>
</cp:coreProperties>
</file>