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A232F-8359-4DB1-AE6A-070378B4A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D14F-641E-4E1D-8E3A-121039414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3C85-D6EF-4B95-8C94-54DB7B46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69BB-E8BD-4369-87ED-291A9D5EF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81F5-2F4E-481D-9BC8-5C889CEC6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ADD8F-BDA7-4D2A-B23C-43896CA87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90E7-3194-42B9-8571-B1D40D20E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FA98C-CA75-4A32-9158-58C694194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EB2D1-C31F-4657-A5EC-AFA68AEC9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8667-DF2D-4269-B641-22D4F5535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C513-0117-4FB3-887D-9006E002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3F0F-E385-4DEB-B8FD-2519CD58D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D3973-FB84-414B-855D-9CAA002DF8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4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ces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dditional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 If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- Related Infor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67 exercise 2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0 exercise 24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91 exercise 25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Internet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TCP/IP Links Dissimilar Machi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219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rund is also used after the preposition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,after, before, instead of, besides, without, despite, in spite o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Gerund after these prepositions ca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onl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be used provided the subject of the Czech subordinate clause (vedle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ší věta) is the same as the subject of the main clause (hlavní věta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y typing a wrong password, he could not log in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tím, že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installing cables in every office, they mounted sockets on the walls. (po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é, co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had better consult the documentation before changing its default settings. (před tím, než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stead of trying to fix the computer by yourself, you should call in a programmer. (místo toho, a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3814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29528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 pushing the variable into the array, she also changed its value. (kromě toho, že …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s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o you think you could write the source code without using any ‘while’ loops? (aniž bys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pite having terminated the chain, he could not get the SCSI hardware to operate. (přesto, že …) -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terminated the cha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fo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 could not get the hardware to op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colleague could not hear any sound  in spite of turning his speakers up as much as he coul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sound could be he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 spite of the fac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lleague turned the speakers up. (different subjects 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n spite of the fact, despite the fa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Gerunds I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went out despite the fact it was raining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We went out despite the r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decided to tell him in spite of the fact he was angry. (different sub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 They decided to tell him in spite of his ang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P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řípustkové vě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cessions are usually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spite of, despite, although (though), even if, even though, no mat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lthough he updated his virus definitions, his anti-virus program could not detect the worm. (ačkoli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ayed at home though he did not want 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you searched the Internet for it, you would not find it. (i kdyby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ven if he searches the Internet for it, he will not find it. (i když ..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the same rules like those governing conditiona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0948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o = whoever = kd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at = whatever = co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= whichever = který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n = whenever = kdy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ere = wherever = kde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+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verb or adjectiv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!!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= however + adverb = jakko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oever (no matter who) told you to uninstall the driver, he/she (they) was (were) wro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chever (no matter which) man she marries, one day he will turn into a fat friend any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which (whichever) of them says so, don’t believ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cessions - No matter 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ever (no matter when) he hooks up the computers tomorrow, we will not be able to use th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ll him to drop me a line wherever (no matter where) he is. (napsa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ever (no matter how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malfunctions, I don’t want to throw her aw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matter how (however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ll-writte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cript is, it always takes some time to execu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ecided to marry her howev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rribl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lip fissure look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part of the sentence containing “no matter” or (-ever) does not contain future tense even if it refers to the future. The future tense is put into the other part (main claus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atever happens, I will always stand by your s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ave (get) something d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21932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nechat si n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ěco uděl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ortant not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ake sure you always keep the items making up the phrase in the same ord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uld like to have the system configured by a special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re you having the software delivered or do you plan to pick it up on your ow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e you ever had your hard drive repartition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must have got the homework done by someone. It does not have a single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w could you have had a live wire insulated by him. Look at his fingers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d her purse stolen. - Ukradli j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 peněžen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juction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if, when</a:t>
            </a: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 - additional in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33520" y="2048040"/>
            <a:ext cx="8001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cases in which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re followed by a future tense since they do not function as time conjunc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 not know if he will use the disk. Its capacity is too low for him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onder when he will drop by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would like to know when we will start using the device in the full-duplex mode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can’t really tell you now if I will let her know about it. It depends on the circumstances. (ved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jší věta předmětná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5:06Z</dcterms:modified>
  <cp:revision>175</cp:revision>
  <dc:subject/>
  <dc:title>Lecture 1:</dc:title>
</cp:coreProperties>
</file>