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6575-E8E0-48CB-AB52-E29A25F92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B7D0-5DF3-4544-A46A-9E69D3F3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5F51F-6429-4B3C-98CF-C4F1D5411C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69A07-7CB7-4C3D-84D5-C75081E78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0B00-09F2-4627-BE34-4499A4F7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929C-80BE-4626-9CE1-D2D85452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A6AC-C2BA-4A26-867F-C33C20845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D67F-2CFF-4543-8572-EF2BD9CA6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6EFC4-98FA-4EF6-9FF0-3F5315A06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9EE0-FA00-4404-9549-9FE69B9B8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660E4-B6C7-43CA-96F9-1B5D7E92A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3D93-D6AF-4715-A2D7-0D6CBC10A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497D-433A-4FC4-9DF7-B9CA7D98C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7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 wish …, If only 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33520" y="212400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sed + infinitiv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 and 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play computer games when he was young. He no longer does so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rával, ale už nehraj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ed to chase chick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onil, ale už nehoní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indows used to be unstable, but now it is the best OS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býval, ale už ne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8 exercise 29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21 exercise 30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World Wide Web –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4097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pen sentences that are in Czech known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ací vět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 The rules governing their formation are the same as those which hold for the clause following conditional conjunction in 2nd or 3rd conditional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, I would wipe the monitor with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iece of cloth (to wipe the monitor with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, I would loosen the scre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gav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a Philips screwdriv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2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have assembled the compute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not los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ll the belt c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, the computer would not have reported buffer underru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increa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buffer siz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 wish …, If only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14300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e used to express a wish for something that the speaker finds annoying to change in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…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s used to express a “neutral” wish concerning the fu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he would not play with the live wire next ti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weather would impro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computer would stop freez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sh (If only) the monitor would not flicker that mu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they (will) fix the drive by 6 o’cloc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ope she (will) marries (marry) me on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fective aspect - dokon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mperfective aspect - nedokonavý v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The imperfective aspect is usually expressed by means of continuous tenses - stress is laid on duration (trván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as reconfiguring the system the whole afterno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 programmer has been writing the manual since he finished the progr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y say it will be raining the whole 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Some verbs cannot occur in continuous tenses or they change their meaning in these (see Lecture 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204804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n, however, a sentence refers to a repeated action, simple tense is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onfigured the system every other day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reconfigur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usually wrote the manual when he was fre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grammer was usually writing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we were in Greece, it often rained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as 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monitor flickers every now and then. X My monitor is flickering all the tim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expression of annoyance - see Lecture 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-off actions are usually expressed by means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a + infinitive (without “to”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how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it’s O.K. with you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osprcho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abou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ing a drink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ap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í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nted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danc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me, but I turned him down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ta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č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fired because he would often leave his office t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sm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zakou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it si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y I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ve a loo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t it? It may only need some cleaning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odívat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0480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past si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usually used a temporary file for storage of calculation resul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gularly failed to notice his neglig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odems never did the handshaking right with these initialization string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spect - Perfective and Imperf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971720"/>
            <a:ext cx="82296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ression of repetition in the 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ould + infinitive without “to”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ressing frequent repet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would ask for assistance whenever he was in trouble.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(žádával mě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 would get a blue screen after installation of some new hardware under Windows 3.11.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(setkávával s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at operating system would give me sleepless nights on weeke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39Z</dcterms:modified>
  <cp:revision>190</cp:revision>
  <dc:subject/>
  <dc:title>Lecture 1:</dc:title>
</cp:coreProperties>
</file>