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0305-FA19-42CC-A2A9-4351C3C8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C978-7E75-4762-B6A6-37349F9E2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49213-F004-4F30-B4B8-19AD36105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36D0-7791-4106-97CA-B25C01E76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4D395-DBCE-496C-BDDD-2CF4D372F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8DED7-BE32-444F-AB89-D02429F25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B80DA-D9F9-426C-A702-CA819612F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67A43-FAF0-4A7C-9AD0-EF4ADCE80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FFC4-2EBA-4AD3-A67B-7265DA1C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3B4B-3A3F-46AC-9C70-D682D7433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5E6F2-B2DE-48BF-BAC8-6A7D9BF22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3242-7304-486C-81C1-3DE74722B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D73FA-1188-4DB4-BE46-E045BF38BF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Lecture 10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1523520"/>
            <a:ext cx="6400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ditional conj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econ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ir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Mixed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1273320"/>
            <a:ext cx="8381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the combination of unreal conditions in the past and unreal present or future resul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uter had not ca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virus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disk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mpty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be able to sh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data with the others now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connec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y computer to the network and configured it right yesterda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not me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er a while ago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 frustrated n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09480" y="205740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ense shift in conditional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sai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w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ake an umbrella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repli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 not pay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i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is work proper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f + would (expressing politenes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you would let me use your CD writer, I would really appreciate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t would really be helpful if you would rent some disk space for us with an AS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Additional Notes - Special C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9480" y="1905120"/>
            <a:ext cx="79250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 if, as though, like (informal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He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doe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know chalk from che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keyboar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ooke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a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out to go into pieces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tense shif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talk to him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old man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econd conditional - he is not ol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keyboard looks as if (as though, like)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my brother had play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ith it.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y brother did not play with 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omework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09480" y="1676520"/>
            <a:ext cx="7925040" cy="441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gli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Times New Roman"/>
              </a:rPr>
              <a:t>čtina pro jazykové školy II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5 exercise 12.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. 99 exercise 13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pecialist Rea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Multimedia - Introd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lay MP3 Fi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 Tricks to MPEG’s Suc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onditional Conjuctions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57200" y="1787400"/>
            <a:ext cx="8381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jestli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že, kdyby (depending on the type of conditional)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unless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jestliže ne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provided/providing (that)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- za předpoklad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uppose/supposing (that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za předpokladu, předpokládejm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kud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n condition tha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od podmínkou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 cas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- pro případ, že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Zero Conditiona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838080"/>
            <a:ext cx="8382240" cy="56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always tru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resent tense,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resent tense + conditional conju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overclock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processor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produc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re heat than befo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do not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y antivirus software, 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r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ata is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fe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ome antivirus softwar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p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salt on ic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melt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ou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o not prepa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asta righ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boil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 for more than 12 min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371600"/>
            <a:ext cx="838224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usually probable and related to the future. Conditional conjunction is usually translated into Czech as 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jestliž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kdy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struc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resent tense, future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future tense + conditional conjunction + presen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com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a lesson without your home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consider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bse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Conditional</a:t>
            </a:r>
            <a:br>
              <a:rPr sz="4400"/>
            </a:b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(re</a:t>
            </a:r>
            <a:r>
              <a:rPr b="1" lang="cs-CZ" sz="4400" spc="-1" strike="noStrike">
                <a:solidFill>
                  <a:srgbClr val="000000"/>
                </a:solidFill>
                <a:latin typeface="Times New Roman"/>
              </a:rPr>
              <a:t>álná podmínk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501920"/>
            <a:ext cx="8382240" cy="52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us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high bandwidth connection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be abl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download large amounts of data without any problem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s long a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ant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connect to the Internet via the mode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ill have to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modify its initialization st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ill ta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n umbrella with me in cas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rai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to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perform the query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you to do 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manag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connect to the network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ertainly filled ou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for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ve debugged the program unless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its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3836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conditions which are improbable (or impossible) in the present or future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ction + past tense, … would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… + conditional conjuction + past te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different refresh rate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is monitor would no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e flicker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understan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word he says provided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spok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little more slowl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Second Conditional (nereálná podmínka v přítomn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" y="1866960"/>
            <a:ext cx="8381880" cy="31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bough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full version of the program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coul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use all its featu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the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rd item of the array </a:t>
            </a:r>
            <a:r>
              <a:rPr b="1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tring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t would not be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possible to assign it to this type of variabl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he knew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how to use logical operators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he make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such a mista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Suppose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won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a million. What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do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</a:t>
            </a:r>
            <a:r>
              <a:rPr b="1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were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 you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cs-CZ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check</a:t>
            </a:r>
            <a:r>
              <a:rPr b="0" i="1" lang="cs-CZ" sz="2400" spc="-1" strike="noStrike">
                <a:solidFill>
                  <a:srgbClr val="000000"/>
                </a:solidFill>
                <a:latin typeface="Times New Roman"/>
              </a:rPr>
              <a:t> the syntax of that source c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57200" y="1670040"/>
            <a:ext cx="83818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Used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ress unreal condition in the past. Conditional conjunction is usually translated into Czech as “kdyby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conditional conjunction + past perfect, … would + past infinitive (without to)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would + past infinitive (without to) ... + conditional conjunction + past per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studi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hard enough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pas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exa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wouldn’t have burn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port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y had turn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computer off before plugging in the print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hird Conditional (nereálná podmínka v minulosti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0880" y="190512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2136600"/>
            <a:ext cx="8381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ast nigh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compiler wouldn’t have repor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a syntax error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e programmer had termina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every line with a semicol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would have us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he ls -l command 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I had wanted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know the contents of the directory with all file attribu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9080" indent="-19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you had know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what punishment you would get, </a:t>
            </a:r>
            <a:r>
              <a:rPr b="0" i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ould you have owned up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to the de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30T06:17:46Z</dcterms:created>
  <dc:creator>Jana Smržová</dc:creator>
  <dc:description/>
  <dc:language>en-US</dc:language>
  <cp:lastModifiedBy>Martin Dvořák</cp:lastModifiedBy>
  <dcterms:modified xsi:type="dcterms:W3CDTF">2005-12-08T15:03:15Z</dcterms:modified>
  <cp:revision>124</cp:revision>
  <dc:subject/>
  <dc:title>Lecture 1:</dc:title>
</cp:coreProperties>
</file>