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1FAC-9F5D-47CD-9635-BA1C2C997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B67D-C262-4EE2-8C80-92683FCD6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B4EE-0BFA-4519-A9D4-94C24F385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DFE2-38E7-445E-90D7-EB790B2AE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2FC7-FADC-40D2-9EF7-A94B00172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1D90-B677-462E-8DDD-1C1B46815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D037-5115-46CB-8F18-E218E1FBB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71E1-1E0F-40F3-911F-62FE51B1D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4FD0-A01C-4304-AA39-7D9B31040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06A9-A08A-4D25-B044-BF480BDF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D709-3812-4E39-B937-B34FF38E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138A-E773-45D4-AC3D-FD786FCB8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DF4DE-F28B-42C1-96E7-5A0A817445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, Subtraction, Multiplication, Di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27664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add st to st [œd]; add up two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subtract st from st [s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trœkt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ultiply st by st [maltiplai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ivide st by st [di’vai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+ 3 = 9 (six plus (and) three equal(s) (is) (are) n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- 3 = 3 (six minus three equal(s) (is) (are) three) (three from six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x 123 = 738 (6 times (multiplied by) 123 equal(s) (is) (are) 73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738 / 123 =  6  (738 divided by 123 equal(s) (is) (are)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, Ro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19320"/>
            <a:ext cx="8382240" cy="53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4 (2 squared equals (is) (are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(2 cubed equals (is) (are) 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16 (2 to the fourth (to the power of four) equals (is) (are) 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32 (2 to the fifth (to the power of five) equals (is) (are) 3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wer is a result of raising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a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pon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ks’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t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8 is a power of 2 sinc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2 is a base, 3 is an ex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9 = 3 (the square root of 9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7 = 3 (the cube root of 27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56 = 4 (the fourth root of 256 equals (is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2 = 2 (the fifth root of 32 equals (is)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219320"/>
            <a:ext cx="8001000" cy="54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r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rœ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 is a ratio of numbers or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ollowing should be read as three fifths, two thirds, nine tenths respective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3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in the first fraction represents a numerator and 5 denomin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qu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’kwe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 +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3          15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5 represents the common denominator of the two fractions (the least common multiple [maltipl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 -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994040"/>
            <a:ext cx="800100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 +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(two x plus three ov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qu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x + 10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   3             15  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ne, Cos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52388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16002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295280"/>
            <a:ext cx="7162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, sine [sain]; s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sain of œlf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, cosine [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sai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ypotenuse [hai‘pot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ju:z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sine" descr=""/>
          <p:cNvPicPr/>
          <p:nvPr/>
        </p:nvPicPr>
        <p:blipFill>
          <a:blip r:embed="rId2"/>
          <a:stretch/>
        </p:blipFill>
        <p:spPr>
          <a:xfrm>
            <a:off x="1981080" y="3429000"/>
            <a:ext cx="50817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ou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205740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ound a number up    x    to round a number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.16666 rounded to two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laces is 0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.8875 rounded to three decimal places is 2.8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37160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    -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oint       &lt;  - inequality sign (is less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   - plus sign                                 &gt; - inequality sign (is gre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    - minus sign                                    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   - multiplication sign                  $  -  dollar 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/     - division sign                           &amp; - ampersand [œm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œn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  - equal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%  - percent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:    - 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;    - semi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    - vertical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 )  - parenth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{}  - braces, curly br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]  - square br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04-05T11:14:06Z</dcterms:modified>
  <cp:revision>168</cp:revision>
  <dc:subject/>
  <dc:title>Lecture 1:</dc:title>
</cp:coreProperties>
</file>