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3870-741E-4095-B255-EC1F062F2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E803-4919-4834-8528-FF99894E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65DA-EB1B-4A89-93DF-F7C557F0F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136B-60D6-4CED-998E-7F395C758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6533-A545-4B20-B7C5-F6435E59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7546-B9E5-414A-A583-CCF071B2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A732-04CD-4F66-AC24-AE2E5345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0AFC-6A52-48EC-8C61-D61BF7D7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F69D-6AA8-46A1-B9D9-30E739F5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EB14-7B18-43A8-BF0F-0A04126B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CC48-413F-43B7-9466-F86C5BDC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247B-C495-4EA0-B2F4-C28E8A99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2356-6A23-4798-8510-29EC8DAD6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20T10:55:42Z</dcterms:modified>
  <cp:revision>198</cp:revision>
  <dc:subject/>
  <dc:title>Lecture 1:</dc:title>
</cp:coreProperties>
</file>