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7997-46A7-4CC1-9582-540A04785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1D78-E142-4123-8370-1ECB677D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87E8-4F6F-48FA-8ACE-B0142F6F4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928B-31D0-488A-A6EF-2E70BCFEA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B2B4-A65B-421C-8096-CF4B896F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042A-A764-4D57-9DF3-DCE7A5D0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4563-F531-43FC-BED8-EB84AF58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4AAD-0F2C-47E3-BC65-92F52BD5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0C0B-7BCE-4AA4-8E54-CDBA2CFD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786E-B6C0-44B4-B932-CA8AD5F4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26DE-BBB5-4BA6-A4C0-CD5050AC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2AE4-854C-4EA9-A985-6AE87ECA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E29B-9B99-4BA3-A53D-E8CA4D781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r. Dvořá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 you th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you could check m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swer shee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nd possibly award 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ore point fo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question you mentioned at 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’s lecture? I am writing this e-mail since I am not completely sure of what alternatives I have selected for the qu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sincerely (Best regards, Kind regards, Regards, All the best, Best wishe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a Polofor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l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676520"/>
            <a:ext cx="79250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incipal rules to 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 reply to any e-mail you receive letting the sender know you have received it and you have not ignored its contents. You should do so even if it were in the form of a simple ‘Allright’ n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ware of the person who does not reply to your e-mail despite receiving it since there is always a problem to surface in the future!! That is, such a person is likely to turn out slapdash, boorish, conceited, complacent, or having any other negative trait that might eventually get you in troubl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d of Lecture S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4005360"/>
            <a:ext cx="7632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inomial [bai’n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l] coefficient [kəui’f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nt] of the natural number n and the integer k is the number of combinations that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 binomial coefficient of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is often read as "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choose 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>
            <a:lum contrast="76000"/>
          </a:blip>
          <a:stretch/>
        </p:blipFill>
        <p:spPr>
          <a:xfrm>
            <a:off x="3995640" y="2205000"/>
            <a:ext cx="804960" cy="1368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71640" y="1484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binatoric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[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bi: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’to:riks]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32846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where n is the number of objects from which you can choose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is the number to be chosen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>
            <a:lum contrast="36000"/>
          </a:blip>
          <a:srcRect l="0" t="0" r="10290" b="-2151"/>
          <a:stretch/>
        </p:blipFill>
        <p:spPr>
          <a:xfrm>
            <a:off x="611280" y="1844640"/>
            <a:ext cx="7848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67652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poorly composed mess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 teach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nt the point for the question I wrote correc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 Bal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k Balíkovi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76520"/>
            <a:ext cx="79250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Sir/Mada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sending this message with regard to your e-mail of April 2, 2007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ere you say I might be awarded one more point for a question in my 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 h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swere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orrect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I wonder if you would be so kind as to check the test and make sure the question has been evaluated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faithf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niel Kultivova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rak</cp:lastModifiedBy>
  <dcterms:modified xsi:type="dcterms:W3CDTF">2007-05-03T10:57:33Z</dcterms:modified>
  <cp:revision>221</cp:revision>
  <dc:subject/>
  <dc:title>Lecture 1:</dc:title>
</cp:coreProperties>
</file>