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4802-75CC-486A-9421-93178E66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0EA0-7994-4005-AF6B-AE6D79EB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7142-348B-4309-A81F-BED8A7FB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3827-EA2B-4A83-9030-12A36DAC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DB15-4911-4F98-8E43-A351B9D8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5096-7342-4763-BB3D-CF515940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93E-8812-4305-B418-3717928D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743A-D85A-4702-8A87-683DE2DB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A3DD-E975-4950-877D-124379D2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DF50-3A82-453E-8A3D-40EAC769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834B-1A7C-4A0F-84C9-A723AA3C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15D9-C23F-48B5-968C-D8DB0D9F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C47C-CEAA-4646-944D-871521C81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e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4:14Z</dcterms:modified>
  <cp:revision>153</cp:revision>
  <dc:subject/>
  <dc:title>Lecture 1:</dc:title>
</cp:coreProperties>
</file>