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CE1E2E5-ADD8-4B92-A3D4-D8AD7EAB4BC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 1.2.3 – all of the graphics on pages 1-3 are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2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1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rom section 1.2.2 pages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s found in section 1.2.1 &amp; 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044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5320" y="17812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5556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044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5320" y="36471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45720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6471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7812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6471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1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327C6F-3368-4DA2-BBA2-57ECC96B301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55560" y="1781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200400" y="-156996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I Chapter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11378FE-CC91-4F28-BA6F-B534AAD80D8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50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62760" y="1650960"/>
            <a:ext cx="3033720" cy="2698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314496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1312920"/>
            <a:ext cx="35514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39720" y="3390480"/>
            <a:ext cx="7940880" cy="185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indent="0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1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2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3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4">
              <a:lnSpc>
                <a:spcPct val="90000"/>
              </a:lnSpc>
              <a:buClr>
                <a:srgbClr val="717171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5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  <a:p>
            <a:pPr lvl="6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8e8e9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e8e9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6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005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BSCI Module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69424C5-4DEA-4443-B4E7-6A112DF435B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520" y="267660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AN Desig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65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CA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LAN Switching and Wireless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8e8e95"/>
                </a:solidFill>
                <a:latin typeface="Arial"/>
              </a:rPr>
              <a:t>– Chapter 1</a:t>
            </a:r>
            <a:endParaRPr b="1" lang="en-US" sz="2000" spc="-1" strike="noStrike">
              <a:solidFill>
                <a:srgbClr val="8e8e95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1920" y="2749680"/>
            <a:ext cx="8370720" cy="3790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760" y="142704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1760400"/>
            <a:ext cx="42307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E – Power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6680" y="2548080"/>
            <a:ext cx="8810640" cy="3286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92440" y="2571840"/>
            <a:ext cx="55872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7160" y="2570040"/>
            <a:ext cx="790560" cy="403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84240" y="1554120"/>
            <a:ext cx="71611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54160" y="1606680"/>
            <a:ext cx="6775560" cy="5124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2840" y="1765440"/>
            <a:ext cx="70056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sco switches used in SMB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4880" y="2246400"/>
            <a:ext cx="554364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5200" y="457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90400" y="1422360"/>
            <a:ext cx="794088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addresses performance, scalability, maintainability &amp; manageabil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 is used to monitor network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ign Model is composed of 3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selected for each layer must meet the needs of each hierarchical layer as well as the needs of th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0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0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principles of hierarchical network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46320" y="2157480"/>
            <a:ext cx="7016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887120"/>
            <a:ext cx="794088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78040" y="2263680"/>
            <a:ext cx="7681680" cy="4106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608200" y="1735200"/>
            <a:ext cx="3689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09520" y="2260440"/>
            <a:ext cx="6828120" cy="42562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46080" y="1611360"/>
            <a:ext cx="33465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twork diamet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0400" y="5686560"/>
            <a:ext cx="1055520" cy="8380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9640" y="5424480"/>
            <a:ext cx="901800" cy="744480"/>
          </a:xfrm>
          <a:prstGeom prst="ellipse">
            <a:avLst/>
          </a:prstGeom>
          <a:noFill/>
          <a:ln w="50760">
            <a:solidFill>
              <a:srgbClr val="0183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46080" y="1611360"/>
            <a:ext cx="5888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k aggregation = several parallel links combined onto one logical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73120" y="2620800"/>
            <a:ext cx="66978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46080" y="1611360"/>
            <a:ext cx="588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dundant links = to ensur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60640" y="2532240"/>
            <a:ext cx="681012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Hierarchical Network Supports the Needs of a Small &amp; Medium-Sized Business</a:t>
            </a:r>
            <a:endParaRPr b="1" lang="en-US" sz="28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le of a converged network in supporting small and medium-sized (SMB) business voice, video, and data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4120" y="2725560"/>
            <a:ext cx="5284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siderations used to select a switch for a hierarchical net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7560" y="2451240"/>
            <a:ext cx="4513320" cy="351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92560" y="3800520"/>
            <a:ext cx="43768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5760" y="420840"/>
            <a:ext cx="84884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Appropriate Cisco Switch to each Layer in the Hierarchical Network Design Model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  <a:ea typeface="ＭＳ Ｐゴシック"/>
              </a:rPr>
              <a:t> 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 features of switches that are used in hierarchic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33680" y="2249640"/>
            <a:ext cx="52848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JK</cp:lastModifiedBy>
  <cp:lastPrinted>1999-01-27T00:54:54Z</cp:lastPrinted>
  <dcterms:modified xsi:type="dcterms:W3CDTF">2012-02-20T15:20:53Z</dcterms:modified>
  <cp:revision>317</cp:revision>
  <dc:subject/>
  <dc:title>The Internet and Its U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