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4E92D3A-B3D9-4EF7-A937-03834B9BFFC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6.3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901F6C3-84D3-43C2-B2B6-C539C06B3CF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7766DBB-E7F1-4D81-B5B6-3323DBA5944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AA292A8-CAD6-42FC-A63D-D795ACD8AAFE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Inter-VLAN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6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is the process of routing information between V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VLAN routing requires the use of a router or a layer 3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router interfaces that are each connected to separate V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044360"/>
            <a:ext cx="7940880" cy="5422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on a st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nter-VLAN routing topology that uses  router sub interfaces connected to a layer 2 swi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binterface must be configured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d VLAN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of inter 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connected to router with correct V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each router subinterface with the correct IP address &amp; VLA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configuration on switch and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8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8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ing between VL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4560" y="2347920"/>
            <a:ext cx="8283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-VLAN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1520" y="2271600"/>
            <a:ext cx="6537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17560" y="2728800"/>
            <a:ext cx="72151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ow Network Traffic is Routed Between VLANs in a Converged Network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interfaces and subinterfaces in supporting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52600" y="2668680"/>
            <a:ext cx="6087960" cy="3771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32320" y="3728880"/>
            <a:ext cx="441360" cy="20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er-VLAN routing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router on a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9720" y="2254320"/>
            <a:ext cx="72356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ps to configure inter-VLAN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9120" y="2692440"/>
            <a:ext cx="89233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Inter-VLAN Rout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62160" y="3130560"/>
            <a:ext cx="51595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mmon Inter-VLAN Connectivity Issues Troubleshoot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ing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53684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mmon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uter configuration 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08160" y="2577960"/>
            <a:ext cx="67690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3-11T15:13:18Z</dcterms:modified>
  <cp:revision>32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