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6E66884D-91A2-45F2-B62B-CEA9ED8B6B0E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4.3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4.3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4.2.4.1 &amp; 4.2.4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4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4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4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4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C1A943B7-E221-4B9E-AED4-B194C32016BA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7A3199AA-0FA1-4051-86B0-05FCBCDC64F4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50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A194E3F9-3EEA-4784-B1EF-4662E6A17EFB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mplement VT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LAN Switching and Wireless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4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VTP on the Switches in a Converged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y and troubleshoot common VTP configuration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63560" y="3125880"/>
            <a:ext cx="7864560" cy="15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VTP on the Switches in a Converged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746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 VLANs on a VTP enabled net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4044960"/>
            <a:ext cx="4000680" cy="27702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827440" y="1797120"/>
            <a:ext cx="631656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520" y="509400"/>
            <a:ext cx="8610840" cy="609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Adding a 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new 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witch to an existing VTP domain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55560" y="1317240"/>
            <a:ext cx="8180640" cy="5178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9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caution when inserting a new switch into an existing doma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9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rform the following steps.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41436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lete the VLAN database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 vlan.d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41436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rase the startup configuration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rase startup-confi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41436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wer cycle the 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41436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onfigure VTP mode and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414360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sword protect the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9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will avoid potential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blem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sulting from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sidual VLAN configur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r adding a switch with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igher VTP configuration revision numb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at could result in the propagation of incorrect VLAN inform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90400" y="1422360"/>
            <a:ext cx="7940880" cy="474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TP is a Cisco proprietary protocol used to exchange VLAN information across trunk lin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witch can be in one  of 3 VTP operating m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350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2700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create, modify or delete V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350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2700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create, modify &amp; delete V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3508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2700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create, modify, &amp; delete LOCAL V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-2700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wards VTP advertisem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TP pru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s unnecessary dissemination of VLAN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VTP configu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VTP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interfaces tr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209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210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VTP components  and r</a:t>
            </a: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ol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1852560"/>
            <a:ext cx="9144000" cy="41688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881600" y="2611440"/>
            <a:ext cx="4262400" cy="4122720"/>
          </a:xfrm>
          <a:prstGeom prst="ellipse">
            <a:avLst/>
          </a:prstGeom>
          <a:noFill/>
          <a:ln w="381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20640" y="2592360"/>
            <a:ext cx="4200480" cy="4122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76240" y="2092320"/>
            <a:ext cx="20145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ain L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40480" y="2060640"/>
            <a:ext cx="20145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ai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5200" y="385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Operation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of VTP – Server, Client mode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5560" y="3612960"/>
            <a:ext cx="7940880" cy="2920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0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TP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erv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do all ope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TP clients cannot create, modify, or delete VLAN inform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only role of VTP clients is to process VLAN changes and send VTP messages out all trunk p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VTP client maintains a full list of all VLANs within the VTP domain, but it does not store the information in NVRA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y changes made must be received from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TP serv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dvertise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1471680"/>
            <a:ext cx="7286760" cy="19047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800600" y="1533600"/>
            <a:ext cx="1676520" cy="14475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97400" y="1527120"/>
            <a:ext cx="1257120" cy="1447920"/>
          </a:xfrm>
          <a:prstGeom prst="rect">
            <a:avLst/>
          </a:prstGeom>
          <a:noFill/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55200" y="547560"/>
            <a:ext cx="8145720" cy="704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Operation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of VTP – Transparent mod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55560" y="3517920"/>
            <a:ext cx="7940880" cy="2922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cept for forwarding VTP advertisements, VTP is disabled on a transparent switch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formation contained in the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T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ssag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is ignor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transparent switch will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modify its database when updates are received, nor will the switch send out an update indicating a change in its own VLAN statu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75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e is also an “off” VTP mode in which switches behave the same as in the VTP transparent mode, except VTP advertisements a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forwar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38080" y="1343160"/>
            <a:ext cx="7286760" cy="19047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477120" y="1419120"/>
            <a:ext cx="1523880" cy="1447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Operation of VTP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11120" y="2127240"/>
            <a:ext cx="8447040" cy="40021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940040" y="3586320"/>
            <a:ext cx="225360" cy="2412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77880" y="4967280"/>
            <a:ext cx="525600" cy="2412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500880" y="4900680"/>
            <a:ext cx="525240" cy="2412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546960" y="3165480"/>
            <a:ext cx="525240" cy="241200"/>
          </a:xfrm>
          <a:prstGeom prst="rect">
            <a:avLst/>
          </a:prstGeom>
          <a:noFill/>
          <a:ln w="63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9040" y="3780000"/>
            <a:ext cx="1123920" cy="2268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5560" y="5589720"/>
            <a:ext cx="1123920" cy="2268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65960" y="5510160"/>
            <a:ext cx="1123920" cy="22716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40040" y="3586320"/>
            <a:ext cx="225360" cy="2412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40040" y="5386320"/>
            <a:ext cx="225360" cy="2412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756560" y="5310360"/>
            <a:ext cx="225360" cy="2412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3165480"/>
            <a:ext cx="525600" cy="241200"/>
          </a:xfrm>
          <a:prstGeom prst="rect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Operation of VTP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portance of the default VTP configu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022400" y="2036880"/>
            <a:ext cx="736452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VTP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frame structur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1943280"/>
            <a:ext cx="91440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VTP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 message conten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88960" y="2052720"/>
            <a:ext cx="809136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Operation of VTP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63960" y="1244520"/>
            <a:ext cx="6080040" cy="22417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9600" y="3578400"/>
            <a:ext cx="546588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K</cp:lastModifiedBy>
  <cp:lastPrinted>1999-01-27T00:54:54Z</cp:lastPrinted>
  <dcterms:modified xsi:type="dcterms:W3CDTF">2013-02-26T06:41:55Z</dcterms:modified>
  <cp:revision>348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