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D91FD57-477E-4FC9-8BD3-2C09D67A1CD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F89F533-DFC9-43BF-91B0-AFABCDE81C4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C1A606F-52FD-4793-9F3B-29485694A52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062151-9199-46C6-A101-DAE0FE9CE4F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nd troubleshoot c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560" y="3125880"/>
            <a:ext cx="78645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746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VLANs on a VTP enabled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000680" cy="277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27440" y="1797120"/>
            <a:ext cx="631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547560"/>
            <a:ext cx="8145720" cy="70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77120" y="141912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6T06:41:55Z</dcterms:modified>
  <cp:revision>348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