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845696B-F914-4F99-84E9-25DECE44124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6009D23-2AF7-4528-9D6A-F555FD96394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0F5A172-7DD7-4FE1-8269-D9C8E61B2FD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F41243E-114D-4FCD-AB47-A1AB5056FBBB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lement Inter-VLAN Rou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6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VLAN routing is the process of routing information between V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VLAN routing requires the use of a router or a layer 3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inter-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multiple router interfaces that are each connected to separate V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044360"/>
            <a:ext cx="7940880" cy="5422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on a st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inter-VLAN routing topology that uses  router sub interfaces connected to a layer 2 swi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ubinterface must be configured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P add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d VLA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of inter 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switch ports connected to router with correct V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each router subinterface with the correct IP address &amp; VLAN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configuration on switch and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85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86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Network Traffic is Routed Between VLANs in a Converged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tiona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ing between VL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74560" y="2347920"/>
            <a:ext cx="8283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-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71520" y="2271600"/>
            <a:ext cx="65372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to configure inter-VLAN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17560" y="2728800"/>
            <a:ext cx="72151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Network Traffic is Routed Between VLANs in a Converged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le of interfaces and subinterfaces in supporting inter-VLAN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52600" y="2668680"/>
            <a:ext cx="6087960" cy="3771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432320" y="3728880"/>
            <a:ext cx="441360" cy="20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"/>
              </a:rPr>
              <a:t>F0/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ter-VLAN routing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router on a s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09720" y="2254320"/>
            <a:ext cx="723564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to configure inter-VLAN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9120" y="2692440"/>
            <a:ext cx="89233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62160" y="3130560"/>
            <a:ext cx="51595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mmon Inter-VLAN Connectivity Issues Troubleshoot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mon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r configuration 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08160" y="2577960"/>
            <a:ext cx="676908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3-11T15:13:18Z</dcterms:modified>
  <cp:revision>32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