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6477D94-88DC-4B98-AB24-A205B96A2E7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A7FBC7-C1BE-4952-BE26-8AADB128FB0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30CB74F-D7BE-4CA2-8455-53D5912F6EA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4A10106-34DD-4BBF-8F08-96C7BBE77CD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nd troubleshoot c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560" y="3125880"/>
            <a:ext cx="78645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746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VLANs on a VTP enabled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000680" cy="277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27440" y="1797120"/>
            <a:ext cx="631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547560"/>
            <a:ext cx="8145720" cy="70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77120" y="141912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6T06:41:55Z</dcterms:modified>
  <cp:revision>348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