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19F33B9-D7B2-459A-90B9-0825E56C121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rom section 1.2.2 pages 2 &amp;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ound in section 1.2.1 &amp; 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4A91411-E873-49EF-B9DD-83CC74C1A3F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528988D-1E0B-4310-82D4-BD194C31261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E30C905-FD64-4BB1-8CC6-F80394DBC32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 Desig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1920" y="2749680"/>
            <a:ext cx="837072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760" y="142704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8760" y="176040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6680" y="2548080"/>
            <a:ext cx="8810640" cy="3286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92440" y="2571840"/>
            <a:ext cx="55872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77160" y="2570040"/>
            <a:ext cx="79056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84240" y="1554120"/>
            <a:ext cx="7161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54160" y="1606680"/>
            <a:ext cx="6775560" cy="5124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2840" y="1765440"/>
            <a:ext cx="70056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switches used in SMB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04880" y="2246400"/>
            <a:ext cx="554364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addresses performance, scalability, maintainability &amp; manageability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Analysis is used to monitor network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is composed of 3 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selected for each layer must meet the needs of each hierarchical layer as well as the needs of th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0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principles of hierarchical network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46320" y="2157480"/>
            <a:ext cx="7016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887120"/>
            <a:ext cx="7940880" cy="4581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78040" y="2263680"/>
            <a:ext cx="7681680" cy="4106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608200" y="1735200"/>
            <a:ext cx="3689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09520" y="2260440"/>
            <a:ext cx="6828120" cy="4256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46080" y="1611360"/>
            <a:ext cx="3346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twork diamet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30400" y="5686560"/>
            <a:ext cx="1055520" cy="8380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9640" y="5424480"/>
            <a:ext cx="901800" cy="7444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46080" y="1611360"/>
            <a:ext cx="5888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k aggregation = several parallel links combined onto one log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3120" y="2620800"/>
            <a:ext cx="66978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46080" y="1611360"/>
            <a:ext cx="5888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dundant links = to ensur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60640" y="2532240"/>
            <a:ext cx="681012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 of a converged network in supporting small and medium-sized (SMB) business voice, video, and data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4120" y="2725560"/>
            <a:ext cx="52848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siderations used to select a switch for a hierarchical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7560" y="2451240"/>
            <a:ext cx="4513320" cy="3512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92560" y="3800520"/>
            <a:ext cx="437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switches that are used in hierarchical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33680" y="2249640"/>
            <a:ext cx="52848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2-20T15:20:53Z</dcterms:modified>
  <cp:revision>31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