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6BD8C06-6F11-4363-A05E-ABF47DF4E56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CA8924C-4D1B-41FE-BB78-E034F50B3D2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0F0158C-3D8E-4B26-BD8F-041E2CD7CC1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6A68FEE-E67C-451D-AD18-3FF37C6E806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 between V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interfaces and subinterfaces in supporting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2600" y="2668680"/>
            <a:ext cx="6087960" cy="377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32320" y="3728880"/>
            <a:ext cx="441360" cy="2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62160" y="3130560"/>
            <a:ext cx="5159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3-11T15:13:18Z</dcterms:modified>
  <cp:revision>32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