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CE828A54-6E1B-4A20-A7F4-C4CCB8226B4B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2.2, 2.1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3.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1.1.1, 2..1.1.2, 2.1.1.3, 2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7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graphics in section 2.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graphics in section 2.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6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6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6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1.1.1, 2..1.1.2, 2.1.1.3, 2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1.1.1, 2..1.1.2, 2.1.1.3, 2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3.1, 2.1.3.2 (pick some of these maybe one or 2 – whatever will fit 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3.1, 2.1.3.2 (pick some of these maybe one or 2 – whatever will fit 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F9864962-F0C8-4C77-84D4-022936C4C8AA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03BB799-8EA0-4240-9CCA-07E942828423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2371A693-375F-4DF2-B2A9-344C401548BD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figure a Switch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LAN Switching and Wireless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2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5200" y="469800"/>
            <a:ext cx="8145720" cy="393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 frame propagation dela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n considerations for Ethernet/802.3 networ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406520" y="2230560"/>
            <a:ext cx="642132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5200" y="418680"/>
            <a:ext cx="8145720" cy="507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S</a:t>
            </a: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witch forwarding method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71280" y="5511960"/>
            <a:ext cx="35967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 Cisco specific: fragment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85640" y="1974960"/>
            <a:ext cx="81727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ctions that Enable a Switch to Forward Ethernet Frames in a LAN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mmetric and asymmetric Switc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1800" y="2109960"/>
            <a:ext cx="6486480" cy="43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ctions that Enable a Switch to Forward Ethernet Frames in a LAN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w memory buffering work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176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Quality of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04840" y="3094200"/>
            <a:ext cx="6934320" cy="29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5200" y="418680"/>
            <a:ext cx="8145720" cy="507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Layer 2 and Layer 3 switching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564000" y="4734000"/>
            <a:ext cx="5567400" cy="20732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52320" y="1371600"/>
            <a:ext cx="657252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Switch for Operation in a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sco IOS com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imilar like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UI –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 Network As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downloaded from Cisco (CCO username/password require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; i.e. regist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View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mmercial, 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dalone application or part of a Simple Network Management Protocol (SNMP) platfo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 Devic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Web based; web server is part of switch 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P Network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5200" y="393480"/>
            <a:ext cx="8145720" cy="571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B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ot sequence of a Cisco switch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tch loads the boot load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from ROM-like mem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ot load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s low-level CPU initialization. It initializes the CPU registers, which control where physical memory is mapped, the quantity of memory, and its spe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s power-on self-test (POST) for the CPU subsystem. It tests the CPU DRAM and the portion of the flash device that makes up the flash file syst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es the flash file system on the system boar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s a default operating system software image into memory and boots the switch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ating system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ads system configuration 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fig.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ored in flas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5200" y="393480"/>
            <a:ext cx="8145720" cy="571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Emergency boot, password recove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ot load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vides access into switch if operating system cannot be loa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vides access to the files stored in the fl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llows password recovery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flash_ini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load_hel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name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flash:config.text flash:config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b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name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flash:config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old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flash:config.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py startup-config running-conf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enable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secret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cs-CZ" sz="16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py running-config startup-conf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419040"/>
            <a:ext cx="9156600" cy="53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Switch for Operation in a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Ds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Cisco swi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exa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280040" y="2006640"/>
            <a:ext cx="4813200" cy="4800240"/>
            <a:chOff x="4280040" y="2006640"/>
            <a:chExt cx="4813200" cy="480024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4280040" y="2006640"/>
              <a:ext cx="4813200" cy="229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4280040" y="4281120"/>
              <a:ext cx="4813200" cy="2525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38160" y="2001960"/>
            <a:ext cx="4267080" cy="10000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2600" y="3327480"/>
            <a:ext cx="4216680" cy="118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PS LED (Redundant Power Supply) – 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87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f on, the switch is powered directly by DC (Cisco RPS bo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88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2 V DC for switch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88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52 V DC for Po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80040" y="2006640"/>
            <a:ext cx="799920" cy="3301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943280"/>
            <a:ext cx="1117440" cy="3301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600" y="3289320"/>
            <a:ext cx="851040" cy="3301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w to prepare the switch to be configu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484280" y="2604960"/>
            <a:ext cx="5694480" cy="3699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-360" y="419040"/>
            <a:ext cx="9156600" cy="53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Switch for Operation in a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31640"/>
            <a:ext cx="8145720" cy="47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 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basic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herne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802.3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57360" y="2146320"/>
            <a:ext cx="8221680" cy="1676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97040" y="4413240"/>
            <a:ext cx="758808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ic switch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P adddress for remot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nly one IP address for whole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ied with just one VLAN, no with real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11960" y="3505320"/>
            <a:ext cx="3606480" cy="319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configure term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nterface vlan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p address 172.17.99.11 255.255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no shutd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p default gateway 172.17.99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nterface fastethernet 0/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witchport mode 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witchport access vlan 9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3495600"/>
            <a:ext cx="5499000" cy="31464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0" y="444600"/>
            <a:ext cx="9144000" cy="482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Switch for Operation in a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55200" y="1391760"/>
            <a:ext cx="848844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34000" indent="-23400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ample of some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sco IOS comman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show mac address-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sh mac address-table cou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number of MAC addresses in the t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opy running-config flash:config.backu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interface fastethernet 0/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uplex a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speed a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ip http authentication enabl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us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nab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asswo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ip http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mote access – s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ip domain-name mydomain.co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any domain can be s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ypto key generate s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ip ssh ver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iny vty 0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transport input s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-360" y="419040"/>
            <a:ext cx="9156600" cy="53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Switch for Operation in a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642000" y="1657440"/>
            <a:ext cx="2438640" cy="1962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C address flo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 address table over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ofing att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HCP spoofing device replies to client DHCP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 fact, Man In The Mid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HCP sta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ttacker changes MAC addresses and exhausts DHCP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HCP snooping as a countermeasure against sp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rusted access ports should not send any DHCP server respons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p dhcp snoop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lobal configur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p dhcp snooping tru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mmand on a trusted 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457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Basic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attacks against s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witch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DP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suses information provided by the C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net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nsecured traffic eavesdr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te force password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/D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457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Basic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attacks against s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witch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7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work security tools used to improve network 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d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enetration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pen source/freeware/commercial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 identification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 Assigned Numbers Authority port numbers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ing services that use SSL level security, including HTTPS, SMTPS, IMAPS, and security certificat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destructive and destructive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base of vulner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ure chat messag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ure files from NFS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ure HTTP requests in Common Log Form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ure mail messages in Berkeley mbox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ure pass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 captured URLs in browser in real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od a switched LAN with random MAC addr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ge replies to DNS address / pointer quer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cept packets on a switched L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655200" y="393840"/>
            <a:ext cx="8145720" cy="558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Security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Tools and Method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55200" y="1392120"/>
            <a:ext cx="8488440" cy="4772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t security -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roup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 MAC addresses allowed on a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hutdown if unauthorized MAC addresses are det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e MAC Address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secure MAC addresse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in the address tabl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unning configuratio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port port-security mac-address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mac-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secure MAC addresse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ally learne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only in the address tabl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cky secure MAC addresse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ally lear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d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sav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the running configu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655200" y="431640"/>
            <a:ext cx="8145720" cy="508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Basic Security on a Switch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Basic Security on a Switch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5560" y="1780920"/>
            <a:ext cx="7940880" cy="4562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17784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 security violation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s packets with unknow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ric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s packets with unknown source addresses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s the SecurityViolation counter to inc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tdow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s the interface into the error-disabled state immediately and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n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NMP tra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4940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me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Courier New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shut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Courier New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no shut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Courier New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errdisable recovery cause mac-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r automatically after preset period (seco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Courier New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errdisable recovery interval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706320" y="1361880"/>
            <a:ext cx="7940880" cy="5368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#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rrdisable detect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(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on for the errdisable status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Disable Reason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ction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urity-violatio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nel-misconfi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secure-viol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m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opba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cast-floo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p-fla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tp-fla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-fla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fp-config-misma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bic-inval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hcp-rate-lim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m-contro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ty-lim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alid-polic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#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show interfaces status err-disabled (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ch local ports are in the errdisabled stat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Basic Security on a Switch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that explains how a LAN is to b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to consider in LAN design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ision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cast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la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4286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forward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&amp; forward – used by Cisco Catalyst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 through – 2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 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isco specific - Fragment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5200" y="380880"/>
            <a:ext cx="8145720" cy="571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Ethernet - category of addresse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elements of Ethernet/802.3 networ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782720" y="1752480"/>
            <a:ext cx="6091200" cy="35686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587600" y="5308560"/>
            <a:ext cx="4140000" cy="14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Multicast addresses examp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01-00-0C-CC-CC-CC (V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01-80-C2-00-00-00 (S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01-00-5E-xx-xx-xx (IPv4 multica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33-33-xx-xx-xx-xx (IPv6 multica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 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is conducted between ports that have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is conducted between ports that ha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ke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 IOS C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 IO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word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SSH for remot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43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44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419040"/>
            <a:ext cx="8145720" cy="495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 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– collision and broadcast domain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14400" y="1673280"/>
            <a:ext cx="731520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200" y="431640"/>
            <a:ext cx="8145720" cy="508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 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– interface modes 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99880" y="1413000"/>
            <a:ext cx="7940880" cy="2746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38040" y="4448160"/>
            <a:ext cx="7940880" cy="2098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07960" y="3098880"/>
            <a:ext cx="3073320" cy="957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witch interface comm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duplex au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duplex f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duplex ha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5200" y="431640"/>
            <a:ext cx="8145720" cy="508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 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– switching principle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08200" y="1552680"/>
            <a:ext cx="7940520" cy="3571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57200" y="5753160"/>
            <a:ext cx="44830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witch learns source addre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5200" y="444600"/>
            <a:ext cx="8145720" cy="482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 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– shared segment and switch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21314"/>
          <a:stretch/>
        </p:blipFill>
        <p:spPr>
          <a:xfrm>
            <a:off x="1217520" y="1971720"/>
            <a:ext cx="65754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973680" y="4067280"/>
            <a:ext cx="5106960" cy="27525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444240"/>
            <a:ext cx="814572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LAN segmentation using switche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2600" y="1422360"/>
            <a:ext cx="48769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5200" y="419040"/>
            <a:ext cx="8145720" cy="495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LAN segmentation using router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181400" y="3990960"/>
            <a:ext cx="4962600" cy="28670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1206360"/>
            <a:ext cx="49244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3-02-20T08:01:03Z</dcterms:modified>
  <cp:revision>377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