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890D34BC-43F1-43E1-BEF4-7E9D5185253F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 1.2.3 – all of the graphics on pages 1-3 are g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 1.2.3 – all of the graphics on pages 1-3 are g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 1.2.3 – all of the graphics on pages 1-3 are g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 1.2.3 – all of the graphics on pages 1-3 are g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 1.2.3 – all of the graphics on pages 1-3 are g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2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from section 1.2.2 pages 2 &amp;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found in section 1.2.1 &amp; 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575C21B6-1D77-4D26-ACFB-CAC6EFCFFCA7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831944E1-7A00-4BBF-9F80-54AD81C8D639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CBD9A5BC-F3A9-43EA-A7E7-A2150509F853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AN Design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LAN Switching and Wireless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1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31920" y="2749680"/>
            <a:ext cx="8370720" cy="37908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760" y="1427040"/>
            <a:ext cx="42307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E – Power over Eth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8760" y="1760400"/>
            <a:ext cx="42307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E – Power over Eth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66680" y="2548080"/>
            <a:ext cx="8810640" cy="32860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692440" y="2571840"/>
            <a:ext cx="558720" cy="403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77160" y="2570040"/>
            <a:ext cx="790560" cy="403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984240" y="1554120"/>
            <a:ext cx="716112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154160" y="1606680"/>
            <a:ext cx="6775560" cy="51242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212840" y="1765440"/>
            <a:ext cx="7005600" cy="49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sco switches used in SMB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604880" y="2246400"/>
            <a:ext cx="554364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90400" y="1422360"/>
            <a:ext cx="7940880" cy="474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 Design model addresses performance, scalability, maintainability &amp; manageability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Analysis is used to monitor network perform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 Design Model is composed of 3 lay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selected for each layer must meet the needs of each hierarchical layer as well as the needs of the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06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07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ierarchical Network Supports the Needs of a Small &amp; Medium-Sized Busines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y principles of hierarchical network desig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46320" y="2157480"/>
            <a:ext cx="701676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ierarchical Network Supports the Needs of a Small &amp; Medium-Sized Busines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5560" y="1887120"/>
            <a:ext cx="7940880" cy="4581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878040" y="2263680"/>
            <a:ext cx="7681680" cy="4106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608200" y="1735200"/>
            <a:ext cx="36892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109520" y="2260440"/>
            <a:ext cx="6828120" cy="42562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ierarchical Network Supports the Needs of a Small &amp; Medium-Sized Busines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46080" y="1611360"/>
            <a:ext cx="33465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twork diameter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30400" y="5686560"/>
            <a:ext cx="1055520" cy="838080"/>
          </a:xfrm>
          <a:prstGeom prst="ellipse">
            <a:avLst/>
          </a:prstGeom>
          <a:noFill/>
          <a:ln w="507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89640" y="5424480"/>
            <a:ext cx="901800" cy="744480"/>
          </a:xfrm>
          <a:prstGeom prst="ellipse">
            <a:avLst/>
          </a:prstGeom>
          <a:noFill/>
          <a:ln w="507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ierarchical Network Supports the Needs of a Small &amp; Medium-Sized Busines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46080" y="1611360"/>
            <a:ext cx="588816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ink aggregation = several parallel links combined onto one logical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473120" y="2620800"/>
            <a:ext cx="669780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ierarchical Network Supports the Needs of a Small &amp; Medium-Sized Busines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46080" y="1611360"/>
            <a:ext cx="58881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dundant links = to ensure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160640" y="2532240"/>
            <a:ext cx="6810120" cy="39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ierarchical Network Supports the Needs of a Small &amp; Medium-Sized Busines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le of a converged network in supporting small and medium-sized (SMB) business voice, video, and data nee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824120" y="2725560"/>
            <a:ext cx="528480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siderations used to select a switch for a hierarchical net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47560" y="2451240"/>
            <a:ext cx="4513320" cy="35128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192560" y="3800520"/>
            <a:ext cx="43768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y features of switches that are used in hierarchical networ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633680" y="2249640"/>
            <a:ext cx="528480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K</cp:lastModifiedBy>
  <cp:lastPrinted>1999-01-27T00:54:54Z</cp:lastPrinted>
  <dcterms:modified xsi:type="dcterms:W3CDTF">2012-02-20T15:20:53Z</dcterms:modified>
  <cp:revision>317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