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723AA24-8C46-4F31-B8E3-6A0087CC999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4.1 &amp; 4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6874792-9A19-4D1F-97C7-835503E07B2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D19DD59-8E40-4DD4-8E1F-865B1364B88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1C45005-EDA6-4AAC-987F-0196D0EB07C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 VT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4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VTP on the Switches in a Converged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y and troubleshoot common VTP configura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3560" y="3125880"/>
            <a:ext cx="786456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VTP on the Switches in a Converged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746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VLANs on a VTP enabled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4044960"/>
            <a:ext cx="4000680" cy="27702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827440" y="1797120"/>
            <a:ext cx="631656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50940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dding a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new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witch to an existing VTP domai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5560" y="1317240"/>
            <a:ext cx="8180640" cy="517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caution when inserting a new switch into an existing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form the following steps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ete the VLAN databas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vlan.d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ase the startup configuration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rase startup-confi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cycle the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onfigure VTP mode and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sword protect the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ill avoid potenti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bl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sulting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sidual VLAN configur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 adding a switch with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gher VTP configuration revision numb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t could result in the propagation of incorrect VLAN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is a Cisco proprietary protocol used to exchange VLAN information across trunk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itch can be in one  of 3 VTP operating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create, modify or delet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reate, modify &amp; delet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reate, modify, &amp; delete LOCAL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s VTP advertis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pr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s unnecessary dissemination of VLAN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VTP config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VTP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nterfaces tr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09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10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VTP components  and r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l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4168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81600" y="2611440"/>
            <a:ext cx="4262400" cy="4122720"/>
          </a:xfrm>
          <a:prstGeom prst="ellipse">
            <a:avLst/>
          </a:prstGeom>
          <a:noFill/>
          <a:ln w="381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0640" y="2592360"/>
            <a:ext cx="4200480" cy="4122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76240" y="2092320"/>
            <a:ext cx="2014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ain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40480" y="2060640"/>
            <a:ext cx="2014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ai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385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peratio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of VTP – Server, Client mod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3612960"/>
            <a:ext cx="7940880" cy="2920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er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do all op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clients cannot create, modify, or delete VLAN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nly role of VTP clients is to process VLAN changes and send VTP messages out all trunk 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VTP client maintains a full list of all VLANs within the VTP domain, but it does not store the information in NV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y changes made must be received from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ser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dvertis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1471680"/>
            <a:ext cx="7286760" cy="1904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800600" y="1533600"/>
            <a:ext cx="1676520" cy="1447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7400" y="1527120"/>
            <a:ext cx="1257120" cy="144792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547560"/>
            <a:ext cx="8145720" cy="70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peratio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of VTP – Transparent mo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560" y="3517920"/>
            <a:ext cx="7940880" cy="2922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cept for forwarding VTP advertisements, VTP is disabled on a transparent switch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formation contained in th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T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ssag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is igno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transparent switch wi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odify its database when updates are received, nor will the switch send out an update indicating a change in its own VLAN stat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is also an “off” VTP mode in which switches behave the same as in the VTP transparent mode, except VTP advertisement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war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080" y="1343160"/>
            <a:ext cx="7286760" cy="1904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477120" y="1419120"/>
            <a:ext cx="1523880" cy="1447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1120" y="2127240"/>
            <a:ext cx="8447040" cy="4002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940040" y="35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7880" y="4967280"/>
            <a:ext cx="52560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00880" y="4900680"/>
            <a:ext cx="52524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46960" y="3165480"/>
            <a:ext cx="525240" cy="241200"/>
          </a:xfrm>
          <a:prstGeom prst="rect">
            <a:avLst/>
          </a:prstGeom>
          <a:noFill/>
          <a:ln w="63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9040" y="3780000"/>
            <a:ext cx="1123920" cy="2268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560" y="5589720"/>
            <a:ext cx="1123920" cy="2268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65960" y="5510160"/>
            <a:ext cx="1123920" cy="22716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40040" y="35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40040" y="53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56560" y="531036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165480"/>
            <a:ext cx="52560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of the default VTP configu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22400" y="2036880"/>
            <a:ext cx="73645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frame structur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1943280"/>
            <a:ext cx="9144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message conten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88960" y="2052720"/>
            <a:ext cx="8091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63960" y="1244520"/>
            <a:ext cx="6080040" cy="2241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9600" y="3578400"/>
            <a:ext cx="54658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3-02-26T06:41:55Z</dcterms:modified>
  <cp:revision>348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