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8207E9D-C3EB-41CA-A07D-30E633969AA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F6B6ED2-D82C-4F62-8DE6-28E2AD60EB4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AD8965D-933E-4FFB-A9C1-77BF4BB89D1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FB2185B-5478-419F-8553-D17C7FC40EB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Inter-VLAN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is the process of routing information between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requires the use of a router or a layer 3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router interfaces that are each connected to separate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044360"/>
            <a:ext cx="7940880" cy="5422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on a st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nter-VLAN routing topology that uses  router sub interfaces connected to a layer 2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interface must be configur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VLA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inter 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connected to router with correct V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each router subinterface with the correct IP address &amp; VLA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nfiguration on switch and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8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8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ing between V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4560" y="2347920"/>
            <a:ext cx="8283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71520" y="2271600"/>
            <a:ext cx="6537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17560" y="2728800"/>
            <a:ext cx="7215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interfaces and subinterfaces in supporting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52600" y="2668680"/>
            <a:ext cx="6087960" cy="3771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32320" y="3728880"/>
            <a:ext cx="441360" cy="20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F0/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er-VLAN routing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router on a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9720" y="2254320"/>
            <a:ext cx="7235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9120" y="2692440"/>
            <a:ext cx="89233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62160" y="3130560"/>
            <a:ext cx="51595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mon Inter-VLAN Connectivity Issues Troubleshoot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configuration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08160" y="2577960"/>
            <a:ext cx="6769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3-11T15:13:18Z</dcterms:modified>
  <cp:revision>32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