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CCB182D-C36B-4D32-8208-BF2D034B227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7D70AA9-D84B-4E3B-B9B5-9DBAB873144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5DAE395-FEC3-400B-9B08-9E5616807C4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3EFFF01-5AE3-4F8F-A907-8C0FF657FD9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 between V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interfaces and subinterfaces in supporting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2600" y="2668680"/>
            <a:ext cx="6087960" cy="37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32320" y="3728880"/>
            <a:ext cx="441360" cy="2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62160" y="3130560"/>
            <a:ext cx="5159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3-11T15:13:18Z</dcterms:modified>
  <cp:revision>32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