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2AB18AA-69B7-4B04-9656-DA47CB553B7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2.1, 7.2.2.2 &amp; 7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2.1, 7.2.2.2 &amp; 7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2.1, 7.2.2.2 &amp; 7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2.1, 7.2.2.2 &amp; 7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6.1 &amp; 7.2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8.1 &amp; 7.2.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5.1 &amp; 7.3.5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3.7.1, 7.3.7.2 &amp; 7.3.7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3.7.1, 7.3.7.2 &amp; 7.3.7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3.8.1 &amp; 7.3.9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9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948BE1C-2AE7-4743-B778-98543DA1E6A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9653853-1774-4FC1-8657-1A6D70EC8F4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D859C0C-EB46-484F-9908-A42FB682DE3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Implementing IP Addressing Servic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7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ndows, Linux; Linksys 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r as a DHCP 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60520" y="1913040"/>
            <a:ext cx="80485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911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ay DHCP messages when the server and the client are not on the same seg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3102120"/>
            <a:ext cx="5027760" cy="3755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952880" y="3146400"/>
            <a:ext cx="4191120" cy="371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162840" y="3873600"/>
            <a:ext cx="2257200" cy="199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5648400"/>
            <a:ext cx="552240" cy="542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bleshoo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DHCP config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09520" y="2200320"/>
            <a:ext cx="8699400" cy="2197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04920" y="5105520"/>
            <a:ext cx="698472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show ip dhcp b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how ip dhcp server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how ip dhcp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bug ip packe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ation and benefits of using private and public IP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22240" y="2274840"/>
            <a:ext cx="7381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NAT and NAT over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246320" y="2193840"/>
            <a:ext cx="68338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side/Outside, Local/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34960" y="2044800"/>
            <a:ext cx="6870960" cy="46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53880" indent="-266400">
              <a:lnSpc>
                <a:spcPct val="90000"/>
              </a:lnSpc>
              <a:buClr>
                <a:srgbClr val="b21a1a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bout the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 Lo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ourc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ic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one) before transla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 Glob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source address as it can be seen by the destination h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2664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266400">
              <a:lnSpc>
                <a:spcPct val="90000"/>
              </a:lnSpc>
              <a:buClr>
                <a:srgbClr val="b21a1a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Out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the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side Local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 of an outside host as it appears to the inside network. The address is typically allocated from address space that is routable insid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side Gl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destination address on th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ide networ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ssig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it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r. T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ress is globally uniq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NAT and NAT over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31640" y="2409840"/>
            <a:ext cx="782028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NAT and NAT over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44520" y="2362320"/>
            <a:ext cx="8486640" cy="4314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876920" y="3772080"/>
            <a:ext cx="1536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209.165.200.2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vantages and disadvantages of N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123920" y="2540160"/>
            <a:ext cx="6819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35080" y="2730600"/>
            <a:ext cx="874368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DHCP in an enterprise branch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NAT on a Cisco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new generation RIP (RIPng) to use IPv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58800" y="2230560"/>
            <a:ext cx="791532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5200" y="285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5560" y="128700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e N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2600" y="1660680"/>
            <a:ext cx="6766200" cy="2638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341520" y="4140360"/>
            <a:ext cx="5802480" cy="2717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739880" y="5219640"/>
            <a:ext cx="1511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er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NAT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n a Cisco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7640" y="1473120"/>
            <a:ext cx="7962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nterface Ethernet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address 10.0.0.254 255.255.25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nat 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nterface Etherne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address 160.216.1.137 255.255.25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nat out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nat inside source list 10 interface Ethernet1 over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route 0.0.0.0 0.0.0.0 160.216.1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access-list 10 permit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Home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e port forwar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54000" y="1822320"/>
            <a:ext cx="768204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f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troubleshoo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AT and NAT overload configu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37960" y="2200320"/>
            <a:ext cx="4959360" cy="2779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000680" y="3957480"/>
            <a:ext cx="5143320" cy="2854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9960" y="5153040"/>
            <a:ext cx="35910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show ip nat trans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active NAT translation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6 addresses and the appropriate methods for abbreviatin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050840" y="2354400"/>
            <a:ext cx="7445520" cy="41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ious methods of assigning IPv6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UI-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4-bit interface identifier is most commonly derived from its 48-bit MAC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6040" indent="-2649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MAC address 00:1D:BA:06:37:64 is turned into a 64-bit EUI-64 by inserting FF:FE in the middle: 00:1D:BA:FF:FE:06:37:6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1920" y="2308320"/>
            <a:ext cx="90201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nsition strategies for implementing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79360" y="2060640"/>
            <a:ext cx="85978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al stack enables IPv6 to run concurrently with IPv4 in a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82680" y="2306520"/>
            <a:ext cx="692316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cept of IPv6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over-IPv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unne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2614680"/>
            <a:ext cx="916632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ction of DHCP in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6800" y="2016000"/>
            <a:ext cx="80121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IPv6 affects common routing protocols, and how these protocols are modified to support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98640" y="2585880"/>
            <a:ext cx="7508880" cy="40514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676520" y="5587920"/>
            <a:ext cx="2476440" cy="292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 router to use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55600" y="4341960"/>
            <a:ext cx="6289560" cy="2050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600440" y="2131920"/>
            <a:ext cx="43243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 router to use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2406600"/>
            <a:ext cx="91440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nd verify RIPng for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360440" y="1933560"/>
            <a:ext cx="69595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verify and troubleshoot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69840" y="2036880"/>
            <a:ext cx="7174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0400" y="1422000"/>
            <a:ext cx="7940880" cy="5108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Host Control Protocol (DH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means of assigning IP address and other configuration information automatic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different allocation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 to configure 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range of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DHCP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DHCP pool specif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511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 R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 of using a router configured to listen for DHCP messages from DHCP clients and then forwards those messages to servers on different sub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shooting DH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problems arise due to configuration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s to aid troublesho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735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3000" y="813960"/>
            <a:ext cx="7940520" cy="5651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= 10.x.x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= 172.16.x.x – 172.31.x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= 192.168.x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ddress Translation (N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ans of translating private IP addresses to public I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s of 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mands used for troublesho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nat trans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nat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 ip 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200" y="3646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5560" y="1676520"/>
            <a:ext cx="7940880" cy="4486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28 bit address that uses colons to separate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ly written as 8 groups of 4 hexadecimal dig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OS Dual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ay of permitting a node to have connectivity to an IPv4 &amp; IP v6 network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6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PV6 packet is encapsulated within another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RIPng with 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obally enable 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 IPv6 on interfaces on which IPv6 is to be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 RIPng using 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rotuer ri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rou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differences between BOOTP and DHCP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ldest ancestor - RA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1120" y="2220840"/>
            <a:ext cx="780552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7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7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DHCP dynamically assigns an IP address to a 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2306520"/>
            <a:ext cx="6410160" cy="4527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399360" y="4073400"/>
            <a:ext cx="16430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an be multi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88120" y="2209680"/>
            <a:ext cx="1295640" cy="81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indent="177840"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5760" y="469440"/>
            <a:ext cx="8958240" cy="406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History – bootp (Internet Bootstrap  Protocol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858960"/>
            <a:ext cx="7940880" cy="1317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etc/bootpd (bootp daem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etc/bootptab (bootp cofiguration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/etc/ho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146320"/>
            <a:ext cx="914400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@(#)bootptab,v 6.4 1995/01/27 12:54:50 neil Exp - STREAMware TCP/IP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SCCS 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/etc/bootptab: database for bootp server (/etc/bootp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Legend:       (see bootptab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3251160"/>
            <a:ext cx="410184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first field -- hostname (not inden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bf -- boo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bs -- bootfile size in 512-octet 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cs -- cookie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df -- dump fil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dn -- domain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s -- domain name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ef -- extensi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w -- gate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a -- hardware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hd -- home directory for boot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hn -- host name set for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ht -- hardware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im -- impress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p -- ho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76640" y="3162240"/>
            <a:ext cx="506736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lg -- log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lp -- LPR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ns -- IEN-116 name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ra -- reply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rl -- resource location protocol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rp -- root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sa -- boot server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m -- subnet m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sw -- swap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c -- template host (points to similar host ent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d -- TFTP 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o -- time offset (secon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s -- time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vm -- vendor magic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n -- generic option tag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5760" y="469440"/>
            <a:ext cx="8958240" cy="406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History – bootp (Internet Bootstrap  Protocol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3200" y="1486080"/>
            <a:ext cx="84708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 example /etc/bootptab file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# Sample bootptab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xterm-1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bf=bootimage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ds=160.216.1.1 160.216.1.3 147.251.6.10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gw=160.216.1.10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hd=/usr/boot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bf=null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ha=7FF8100000AF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ht=6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ip=160.216.1.11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sm=255.255.255.0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ts=160.216.1.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HCP server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n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3080" y="1955880"/>
            <a:ext cx="80769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ip dhcp excluded-address 10.0.0.1 10.0.0.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ip dhcp excluded-address 10.0.0.250 10.0.0.2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ip dhcp pool INTERNALNET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network 10.0.0.0 255.255.255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efault-router 10.0.0.2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ns-server 147.251.6.10 160.216.40.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omain-name unob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lease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ip dhcp pool INTERNALNET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network 10.0.1.0 255.255.255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efault-router 10.0.1.2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ns-server 147.251.6.10 160.216.40.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omain-name unob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lease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RFC 2131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55560" y="1781280"/>
          <a:ext cx="7940880" cy="4541760"/>
        </p:xfrm>
        <a:graphic>
          <a:graphicData uri="http://schemas.openxmlformats.org/drawingml/2006/table">
            <a:tbl>
              <a:tblPr/>
              <a:tblGrid>
                <a:gridCol w="1986120"/>
                <a:gridCol w="1984320"/>
                <a:gridCol w="1985760"/>
                <a:gridCol w="1984680"/>
              </a:tblGrid>
              <a:tr h="356760"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 Code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rdware Type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rdware Address Length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ps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action Identifier 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2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conds (2) – since acquisition 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lags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lient IP address  (4) – only in BOUND, RENEW or REBINDING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'Your' (client) IP address 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P address of next server (4) -  bootstrap; in DHCPOFFER, DHCPACK by 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y agent IP address (4), used in booting via a relay a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lient Hardware Address (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tional server host name (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oot file name (12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tional parameters field (v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2-05-18T05:48:25Z</dcterms:modified>
  <cp:revision>405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