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9819176-0650-4407-9AC6-EDBE468FAF1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2.1, 7.2.2.2 &amp; 7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2.6.1 &amp; 7.2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2.8.1 &amp; 7.2.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5.1 &amp; 7.3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7.1, 7.3.7.2 &amp; 7.3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7.3.8.1 &amp; 7.3.9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3.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7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0F8E2C1-C88A-4C0B-98D7-A4855F87221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79CB552-E253-4AC3-98AB-63316C39E48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2864377-BE55-436B-8B60-4B85446971F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Implementing IP Addressing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7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ndows, Linux; Linksys 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as a DHCP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0520" y="1913040"/>
            <a:ext cx="8048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9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y DHCP messages when the server and the client are not on the same seg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5027760" cy="3755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952880" y="3146400"/>
            <a:ext cx="4191120" cy="371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162840" y="3873600"/>
            <a:ext cx="2257200" cy="199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5648400"/>
            <a:ext cx="552240" cy="542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DHC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9520" y="2200320"/>
            <a:ext cx="8699400" cy="2197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5105520"/>
            <a:ext cx="69847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show ip dhcp b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server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how ip dhcp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bug ip pack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ation and benefits of using private and public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22240" y="2274840"/>
            <a:ext cx="7381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46320" y="2193840"/>
            <a:ext cx="68338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side/Outside, Local/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34960" y="2044800"/>
            <a:ext cx="687096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ourc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one) before transl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Glob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ource address as it can be seen by the destination h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266400">
              <a:lnSpc>
                <a:spcPct val="90000"/>
              </a:lnSpc>
              <a:buClr>
                <a:srgbClr val="b21a1a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Loca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 of an outside host as it appears to the inside network. The address is typically allocated from address space that is routable insi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side 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estination address on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ide networ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ssig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it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. T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is globally uniq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1640" y="2409840"/>
            <a:ext cx="78202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NAT and NAT over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44520" y="2362320"/>
            <a:ext cx="8486640" cy="4314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876920" y="3772080"/>
            <a:ext cx="1536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09.165.200.2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vantages and disadvantages of 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23920" y="2540160"/>
            <a:ext cx="6819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35080" y="2730600"/>
            <a:ext cx="87436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DHCP in an enterprise branc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AT on a Cisco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new generation RIP (RIPng) to use IPv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58800" y="2230560"/>
            <a:ext cx="79153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285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5560" y="128700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N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600" y="1660680"/>
            <a:ext cx="6766200" cy="2638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341520" y="4140360"/>
            <a:ext cx="5802480" cy="2717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739880" y="5219640"/>
            <a:ext cx="1511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AT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1473120"/>
            <a:ext cx="7962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0.0.0.254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nterface Etherne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address 160.216.1.137 255.255.25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nat inside source list 10 interface Ethernet1 ov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p route 0.0.0.0 0.0.0.0 160.216.1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access-list 10 permit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Home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e port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54000" y="1822320"/>
            <a:ext cx="76820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AT on a Cisco Router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f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troublesho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AT and NAT overload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7960" y="2200320"/>
            <a:ext cx="4959360" cy="2779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000680" y="3957480"/>
            <a:ext cx="5143320" cy="2854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9960" y="5153040"/>
            <a:ext cx="3591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show ip nat 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active NAT translation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addresses and the appropriate methods for abbreviatin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50840" y="2354400"/>
            <a:ext cx="744552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ous methods of assigning IPv6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UI-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4-bit interface identifier is most commonly derived from its 48-bit MAC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6040" indent="-2649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MAC address 00:1D:BA:06:37:64 is turned into a 64-bit EUI-64 by inserting FF:FE in the middle: 00:1D:BA:FF:FE:06:37:6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920" y="2308320"/>
            <a:ext cx="90201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sition strategies for implementing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79360" y="2060640"/>
            <a:ext cx="85978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al stack enables IPv6 to run concurrently with IPv4 in a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82680" y="2306520"/>
            <a:ext cx="69231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cept of IPv6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over-IPv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2614680"/>
            <a:ext cx="91663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ction of DHCP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800" y="2016000"/>
            <a:ext cx="801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IPv6 affects common routing protocols, and how these protocols are modified to suppor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8640" y="2585880"/>
            <a:ext cx="7508880" cy="4051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76520" y="5587920"/>
            <a:ext cx="2476440" cy="292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5600" y="4341960"/>
            <a:ext cx="6289560" cy="2050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00440" y="2131920"/>
            <a:ext cx="43243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router to use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2406600"/>
            <a:ext cx="9144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nd verify RIPng for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60440" y="1933560"/>
            <a:ext cx="6959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New Generation RIP (RIPng) to use IPv6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verify and troubleshoot IP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69840" y="2036880"/>
            <a:ext cx="7174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0400" y="1422000"/>
            <a:ext cx="7940880" cy="5108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Host Control Protocol (DH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means of assigning IP address and other configuration information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ifferent alloc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configure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range of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HCP pool specif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511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of using a router configured to listen for DHCP messages from DHCP clients and then forwards those messages to servers on different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problems arise due to configura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s to aid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73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3000" y="813960"/>
            <a:ext cx="7940520" cy="565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= 10.x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= 172.16.x.x – 172.31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= 192.168.x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ns of translating private IP addresses to public 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s of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mands used for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trans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na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 ip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200" y="364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5560" y="167652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28 bit address that uses colons to separat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 written as 8 groups of 4 hexadecimal dig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Dua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ay of permitting a node to have connectivity to an IPv4 &amp; IP v6 network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V6 packet is encapsulated within anoth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RIPng with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obally enable 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IPv6 on interfaces on which IPv6 is to be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RIPng using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tuer ri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rou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differences between BOOTP and DHCP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ldest ancestor - RA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1120" y="2220840"/>
            <a:ext cx="78055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7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7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DHCP dynamically assigns an IP address to a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06520"/>
            <a:ext cx="6410160" cy="452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99360" y="4073400"/>
            <a:ext cx="164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an be mult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88120" y="2209680"/>
            <a:ext cx="1295640" cy="81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858960"/>
            <a:ext cx="7940880" cy="131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d (bootp daem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etc/bootptab (bootp cofiguration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/etc/h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146320"/>
            <a:ext cx="91440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@(#)bootptab,v 6.4 1995/01/27 12:54:50 neil Exp - STREAMware TCP/IP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SCCS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/etc/bootptab: database for bootp server (/etc/bootp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Legend:       (see bootptab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3251160"/>
            <a:ext cx="410184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first field -- hostname (not inden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f -- boo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bs -- bootfile size in 512-octet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cs -- cooki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f -- dump file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dn -- domain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s -- domain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ef -- extensi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w -- gate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a -- hardwar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d -- home directory for boot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n -- host name set fo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ht -- hardware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im -- impress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p -- ho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76640" y="3162240"/>
            <a:ext cx="506736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g -- log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lp -- LPR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ns -- IEN-116 na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a -- repl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l -- resource location protocol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rp -- root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a -- boot server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m -- subnet m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sw -- swa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c -- template host (points to similar host ent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d -- TFTP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o -- time offset (secon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s -- time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vm -- vendor magic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#       Tn -- generic option tag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5760" y="469440"/>
            <a:ext cx="8958240" cy="40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History – bootp (Internet Bootstrap  Protocol)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00" y="1486080"/>
            <a:ext cx="84708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 example /etc/bootptab file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# Sample bootptab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xterm-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bootimage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ds=160.216.1.1 160.216.1.3 147.251.6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gw=160.216.1.1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d=/usr/boot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bf=null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a=7FF8100000AF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ht=6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ip=160.216.1.11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sm=255.255.255.0: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:ts=160.216.1.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n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1955880"/>
            <a:ext cx="80769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1 10.0.0.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excluded-address 10.0.0.250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0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0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ip dhcp pool INTERNALNET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network 10.0.1.0 255.255.255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efault-router 10.0.1.2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ns-server 147.251.6.10 160.216.40.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domain-name unob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leas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DHCP in an Enterprise Branch Network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FC 2131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55560" y="1781280"/>
          <a:ext cx="7940880" cy="4541760"/>
        </p:xfrm>
        <a:graphic>
          <a:graphicData uri="http://schemas.openxmlformats.org/drawingml/2006/table">
            <a:tbl>
              <a:tblPr/>
              <a:tblGrid>
                <a:gridCol w="1986120"/>
                <a:gridCol w="1984320"/>
                <a:gridCol w="1985760"/>
                <a:gridCol w="1984680"/>
              </a:tblGrid>
              <a:tr h="35676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 Cod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Typ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rdware Address Length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ps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action Identifier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onds (2) – since acquisition be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lags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IP address  (4) – only in BOUND, RENEW or REBINDING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'Your' (client) IP address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>
                        <a:lnSpc>
                          <a:spcPct val="100000"/>
                        </a:lnSpc>
                        <a:tabLst>
                          <a:tab algn="l" pos="0"/>
                          <a:tab algn="l" pos="253368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P address of next server (4) -  bootstrap; in DHCPOFFER, DHCPACK by 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lay agent IP address (4), used in booting via a relay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lient Hardware Address (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server host name (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ot file name (1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760">
                <a:tc gridSpan="4">
                  <a:txBody>
                    <a:bodyPr lIns="82080" rIns="82080" tIns="41040" bIns="41040" anchor="t">
                      <a:noAutofit/>
                    </a:bodyPr>
                    <a:p>
                      <a:pPr marL="236520" indent="-236520" algn="ctr">
                        <a:lnSpc>
                          <a:spcPct val="100000"/>
                        </a:lnSpc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al parameters field (v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5-18T05:48:25Z</dcterms:modified>
  <cp:revision>40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