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6C56F28-44D6-4E6B-9CAD-FC4B659D6C4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1.1 &amp;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3.2.1 &amp; 6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1.1.1 (use this if you don’t want to make the changes that I recommend be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bove objective is too long and wordy.  Consider breaking it down into 2 objectives for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the benefits of teleworkers for business, society and the environment (graphic 6.1.1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20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  remote connection technologies and describe scenarios  in which each would be implemented (graphic 6.1.2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6.2.3.1 &amp; 6.2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9D30AF8-84EE-4C75-BF4F-FEBADF593E4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1C666FC-BB0C-4BB4-87FA-CC3BFADE44B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70BEEF1-9160-4D60-A087-22867D4C779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roviding Teleworker Servic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defend themselves from threats to wireless network 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52680" y="2459160"/>
            <a:ext cx="58672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28600" y="1857240"/>
            <a:ext cx="7086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and benefits of VPN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87360" y="1897200"/>
            <a:ext cx="651348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881360"/>
            <a:ext cx="82375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8560" y="1827360"/>
            <a:ext cx="8115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12800" y="1768320"/>
            <a:ext cx="76899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secure VP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69960" y="2127240"/>
            <a:ext cx="76993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tunn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08080" y="1969920"/>
            <a:ext cx="6953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VPN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03400" y="2038320"/>
            <a:ext cx="66405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VPN Technology Provides Secure Teleworker Services in an Enterprise Setting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IPsec Protoc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89000" y="2109960"/>
            <a:ext cx="6637320" cy="45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enterprise requirements for providing teleworker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broadband services extend Enterprise Networks including DSL, cable, an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VPN technology provides secure teleworker services in an Enterprise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468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providing teleworker servic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continuity of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increas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&amp; reliable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needed for a teleworker to connect to an organization’s network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171080"/>
            <a:ext cx="7940880" cy="5318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band services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s signal in either direction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inimal changes to existing telephone        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high bandwidth data rates to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vailability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 Wi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ng telework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security achieved through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a secure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1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2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benefits of teleworkers for business, society and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58680" y="2422440"/>
            <a:ext cx="6762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remote connection technologies and describe scenarios in which each would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03480" y="2303640"/>
            <a:ext cx="67546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nterprise Requirements for Providing Teleworker Service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differences between private and public network infrastru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7680" y="2144880"/>
            <a:ext cx="6794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efly describe how broadband services allow teleworkers to use the Internet to connect to the Enterprise 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69880" y="2505240"/>
            <a:ext cx="62960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cable connectivity to extend their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1400" y="2092320"/>
            <a:ext cx="7405920" cy="463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7600" y="1868400"/>
            <a:ext cx="34164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9280" indent="-1792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SIS 3.0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a Over Cable Service Interfac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.62 Mbit/s per 8 MHz EuroDOCS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up to 8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457200"/>
            <a:ext cx="88138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Broadband Services extend Enterprise Network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DSL connectivity to extend their 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104920"/>
            <a:ext cx="5576760" cy="3351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32360" y="5121360"/>
            <a:ext cx="5111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456840"/>
            <a:ext cx="8813880" cy="56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oadband wirele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390680"/>
            <a:ext cx="450864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61000" y="709560"/>
            <a:ext cx="429732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-3240" y="3852720"/>
            <a:ext cx="470700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43440" y="3949560"/>
            <a:ext cx="4300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1-05-04T20:31:46Z</dcterms:modified>
  <cp:revision>345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