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0C39C19-67C6-421D-8706-CBCB9694FBB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1.3.3.1 &amp; 1.3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bjective stated above does not make sense to me.  Reword the above objective as follows:  List factors to consider when selecting a WAN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3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1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ace permits add graphics 1.2.2.2 &amp; 1.2.2.3 (if forced to make a choice between the 2 graphic pick 1.2.2.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graphic can be found at the following URL (not necessary to use – just a thought):  http://www.cisco.com/image/jpg/en/us/guest/products/ps6438/c1244/cdccont_0900aecd802c2010_0900aecd802c2010-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1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66CBB85-A589-4606-A50A-D6525ED6C2D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44CDCA6-E4C0-4325-A1AB-64BA70AC6E4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A61E5C5-E660-4949-95E6-DEF67BB5C40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Services in a Converged WA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Accessing the WAN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the various options for connecting subscribers to the W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9000" y="2577960"/>
            <a:ext cx="50896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how Enterprises use leased line services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14360" y="2732040"/>
            <a:ext cx="6343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circui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0280" y="2800440"/>
            <a:ext cx="4064040" cy="2168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867200" y="2824200"/>
            <a:ext cx="4057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acket switching options available to provide a WAN conn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7160" y="2333520"/>
            <a:ext cx="58071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4520" y="349200"/>
            <a:ext cx="8601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lect the Appropriate WAN Technology to meet ECNM Requirement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factors to consider when selecting a WAN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9240" y="2341440"/>
            <a:ext cx="64879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N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munications network that operates beyond the geographic scope of a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primarily operate on layer 1 &amp; 2 of the OSI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 technologie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-768 / STM-256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.84 Mbit/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8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3360" y="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996840"/>
            <a:ext cx="7940880" cy="545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Enterpris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expansion of the hierarchical model that further divides the enterprise network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the appropriate WAN technology requires considering some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’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scope of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AN uses a public or priv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and function of W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87360" y="2340000"/>
            <a:ext cx="60804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tages of business growth, the corresponding business requirements for services and how those requirements are reflected in the Enterprise’s changing network top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00120" y="3095640"/>
            <a:ext cx="59547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problems with the Hierarchical Design Model that Cisco's Enterprise Composite Model has been designed to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009880" y="2633760"/>
            <a:ext cx="48672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How ECNM Provides Integrated Services over an Enterprise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ain the purpose of Cisco Enterprise Archit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62360" y="3565440"/>
            <a:ext cx="4326120" cy="2859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91960" y="2143080"/>
            <a:ext cx="4122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AN functions in terms of the OSI Reference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17720" y="2552760"/>
            <a:ext cx="72421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WAN physical layer concepts for network and Internet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4440" y="2789280"/>
            <a:ext cx="4181400" cy="290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65680" y="2776680"/>
            <a:ext cx="40543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key WAN data link layer protocols used in today’s Enterprise WAN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33400" y="2387520"/>
            <a:ext cx="553428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Describe the Key WAN Technology Concep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witching technologies used for WANs in an Enterprise 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2760" y="2859120"/>
            <a:ext cx="3779640" cy="2197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06920" y="3071880"/>
            <a:ext cx="43275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osef Kaderka</cp:lastModifiedBy>
  <cp:lastPrinted>1999-01-27T00:54:54Z</cp:lastPrinted>
  <dcterms:modified xsi:type="dcterms:W3CDTF">2012-04-02T12:59:47Z</dcterms:modified>
  <cp:revision>333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