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A101B10-EB80-4907-87CD-FADAF6AE2C8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1.1 &amp; 3.2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2.1 &amp; 3.3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1.1 (frame r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BE350E0-DE0E-4262-98AD-D05E1602ADB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5C2299A-E68C-4E9A-AFA1-BA8C3396F87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D718A83-D86D-41C2-9E28-0D89030645C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Frame Rela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3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18000" y="3787920"/>
            <a:ext cx="4626000" cy="30700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2282760"/>
            <a:ext cx="46274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2400" y="457200"/>
            <a:ext cx="899136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pes of topologies that are used for implementing Frame Relay in differ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116080"/>
            <a:ext cx="4610160" cy="360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52920" y="3073320"/>
            <a:ext cx="45910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er attached to a Frame Relay network uses LMI status messages and inverse ARP queries to map VCs to layer 3 network IP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63680" y="2865600"/>
            <a:ext cx="65847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43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verse 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interface is enabled, the router will send Inverse-Arp requests out all DLCIs learned via LMI for all protocols configured on the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13000" y="3201840"/>
            <a:ext cx="64576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basic Frame Relay PVC on a router serial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2336760"/>
            <a:ext cx="5100480" cy="3448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718160" y="3538440"/>
            <a:ext cx="44258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Basic Frame Relay PVC</a:t>
            </a:r>
            <a:endParaRPr b="1" lang="en-US" sz="36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e a static Frame Relay m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41480" y="5076720"/>
            <a:ext cx="4297320" cy="1530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006560" y="1895400"/>
            <a:ext cx="6084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28640" y="1846440"/>
            <a:ext cx="7013880" cy="4878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7720" y="456840"/>
            <a:ext cx="8514000" cy="554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ability issues associated with the Frame Relay NBMA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1000" y="457200"/>
            <a:ext cx="855036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width control in the Frame Relay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71600" y="3164040"/>
            <a:ext cx="6872400" cy="3611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2079720"/>
            <a:ext cx="47959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973160"/>
            <a:ext cx="5202360" cy="2473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308480" y="3840120"/>
            <a:ext cx="4819680" cy="3003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4840" y="457200"/>
            <a:ext cx="8786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dvanced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 control in Frame Rela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391760"/>
            <a:ext cx="28684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steps to configure point-to-point subinterfaces on a physical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121200" y="1819440"/>
            <a:ext cx="60228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425840" cy="294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033880" y="1512720"/>
            <a:ext cx="3989520" cy="2508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180800"/>
            <a:ext cx="556560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11520" y="4076640"/>
            <a:ext cx="4192920" cy="2781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19920" y="1495440"/>
            <a:ext cx="1995480" cy="21420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43640" y="4022640"/>
            <a:ext cx="1995480" cy="250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08000" y="2349360"/>
            <a:ext cx="2210040" cy="3463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73920" y="3759120"/>
            <a:ext cx="1303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S0 = 64 k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ands used for verifying Frame Relay op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27240" y="2397240"/>
            <a:ext cx="637524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560" y="457200"/>
            <a:ext cx="83361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n Advanced Frame Relay PVC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for troubleshooting a Frame Relay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73280" y="2587680"/>
            <a:ext cx="54370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856800"/>
            <a:ext cx="7940880" cy="555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the most widely used WAN technology because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greater bandwidth than 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cost because it uses less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associated with layer 2 of the OSI model and encapsulates data packets in a frame relay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is configured on virtu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irtual circuits may be identified by a DL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uses inverse ARP to map DLCI to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1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frame relay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frame relay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ing either static or dynamic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ing split horizon problems that develop when multiple VCs are placed on a single physic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affecting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ervice provider has their charging scheme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relay flow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commands can be used to help verify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frame-relay pvc ##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frame-relay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 to help troubleshoot a  frame rela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 frame-relay l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41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42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181160"/>
            <a:ext cx="80359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ame Relay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over fiber o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rame Relay to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ral sites with low bandwidth demand (local stores to into their corporate W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1382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rveillance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3520" y="1181160"/>
            <a:ext cx="8035920" cy="5076720"/>
            <a:chOff x="533520" y="1181160"/>
            <a:chExt cx="8035920" cy="507672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33520" y="1181160"/>
              <a:ext cx="8035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 txBox="1"/>
            <p:nvPr/>
          </p:nvSpPr>
          <p:spPr>
            <a:xfrm>
              <a:off x="533520" y="1181160"/>
              <a:ext cx="8035920" cy="50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82080" rIns="82080" tIns="41040" bIns="41040" anchor="t">
              <a:normAutofit/>
            </a:bodyPr>
            <a:p>
              <a:pPr marL="236520" indent="-2365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284560"/>
            <a:ext cx="4054320" cy="25477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9760" y="457200"/>
            <a:ext cx="8904240" cy="5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is used to provide WAN services to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86280" y="3332160"/>
            <a:ext cx="5006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219560" y="3857760"/>
            <a:ext cx="4924440" cy="30002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560" y="456840"/>
            <a:ext cx="8336160" cy="60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136160"/>
            <a:ext cx="7940880" cy="825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uses virtual circuits to carry packets from one DTE to anoth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210672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38760" y="6257880"/>
            <a:ext cx="403200" cy="179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32360"/>
            <a:ext cx="400212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 VCs on the same lin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distinguishable by the DL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fr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93680" y="2306520"/>
            <a:ext cx="6413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Relay – fram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27000" y="2048040"/>
            <a:ext cx="7802640" cy="290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68320" y="2932200"/>
            <a:ext cx="1036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28120" y="2935440"/>
            <a:ext cx="10364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040" y="5105520"/>
            <a:ext cx="51991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bits together (6 +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/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used in FR (Command/Respon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 Explicit Congestion 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 Explicit Congestion Not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ard Elig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6560" y="2492280"/>
            <a:ext cx="9954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(max 8 k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6960" y="457200"/>
            <a:ext cx="8986680" cy="54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damental Concepts of Frame Relay Technolog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ECN - BE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 A is sending data to device 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ccross a Frame Relay int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of the intermediate Frame Relay switches encounters conges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; it will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N bit on packets being returned to the sending de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tel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nding router t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 off and apply flow control like traffic Sha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336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CN bit on the packets being sent to the receiving dev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1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s the receiving device that the flow is congested and that it should inform upper layer protocols, if possible, that it should close down windowing et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nform the sending application to slow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4-17T13:44:47Z</dcterms:modified>
  <cp:revision>366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