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79420DE-E1E7-4E60-AF21-227EA7D6349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1.1 &amp; 3.2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2.1 &amp; 3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4CE8C83-982D-4AC7-80F3-261D9421240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EF7CF35-F2E7-4A7E-9A86-6B30928FCBD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6248C4B-3D44-4B98-A3B9-86B638FECFE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Frame Rela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3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18000" y="3787920"/>
            <a:ext cx="4626000" cy="30700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457200"/>
            <a:ext cx="899136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pes of topologies that are used for implementing Frame Relay in different enviro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2282760"/>
            <a:ext cx="46274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2400" y="457200"/>
            <a:ext cx="899136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pes of topologies that are used for implementing Frame Relay in different enviro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116080"/>
            <a:ext cx="4610160" cy="3600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52920" y="3073320"/>
            <a:ext cx="459108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er attached to a Frame Relay network uses LMI status messages and inverse ARP queries to map VCs to layer 3 network IP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363680" y="2865600"/>
            <a:ext cx="65847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verse 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interface is enabled, the router will send Inverse-Arp requests out all DLCIs learned via LMI for all protocols configured on the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13000" y="3201840"/>
            <a:ext cx="64576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a basic Frame Relay PVC on a router serial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2336760"/>
            <a:ext cx="5100480" cy="3448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718160" y="3538440"/>
            <a:ext cx="442584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a static Frame Relay m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41480" y="5076720"/>
            <a:ext cx="4297320" cy="1530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006560" y="1895400"/>
            <a:ext cx="60847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28640" y="1846440"/>
            <a:ext cx="7013880" cy="4878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77720" y="456840"/>
            <a:ext cx="8514000" cy="554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ability issues associated with the Frame Relay NBMA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1000" y="457200"/>
            <a:ext cx="855036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width control in the Frame Relay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71600" y="3164040"/>
            <a:ext cx="6872400" cy="3611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2079720"/>
            <a:ext cx="47959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973160"/>
            <a:ext cx="5202360" cy="2473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308480" y="3840120"/>
            <a:ext cx="4819680" cy="3003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4840" y="457200"/>
            <a:ext cx="8786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 control in Frame Relay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391760"/>
            <a:ext cx="28684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steps to configure point-to-point subinterfaces on a physical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121200" y="1819440"/>
            <a:ext cx="60228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425840" cy="2944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033880" y="1512720"/>
            <a:ext cx="3989520" cy="2508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180800"/>
            <a:ext cx="5565600" cy="825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is used to provide WAN services to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11520" y="4076640"/>
            <a:ext cx="4192920" cy="2781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19920" y="1495440"/>
            <a:ext cx="1995480" cy="21420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43640" y="4022640"/>
            <a:ext cx="1995480" cy="250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08000" y="2349360"/>
            <a:ext cx="2210040" cy="3463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73920" y="3759120"/>
            <a:ext cx="1303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S0 = 64 k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ands used for verifying Frame Relay op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27240" y="2397240"/>
            <a:ext cx="637524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for troubleshooting a Frame Relay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73280" y="2587680"/>
            <a:ext cx="54370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856800"/>
            <a:ext cx="7940880" cy="555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the most widely used WAN technology because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greater bandwidth than leas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cost because it uses less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associated with layer 2 of the OSI model and encapsulates data packets in a frame relay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configured on virtu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virtual circuits may be identified by a DL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uses inverse ARP to map DLCI to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51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frame relay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frame relay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ing either static or dynamic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ing split horizon problems that develop when multiple VCs are placed on a single physic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affecting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ervice provider has their charging scheme 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flow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86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commands can be used to help verify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frame-relay l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frame-relay pvc ##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frame-relay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command to help troubleshoot a 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 frame-relay l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41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42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181160"/>
            <a:ext cx="80359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ame Relay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over fiber op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e 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ame Relay to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ral sites with low bandwidth demand (local stores to into their corporate W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urveillance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3520" y="1181160"/>
            <a:ext cx="8035920" cy="5076720"/>
            <a:chOff x="533520" y="1181160"/>
            <a:chExt cx="8035920" cy="507672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33520" y="1181160"/>
              <a:ext cx="8035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 txBox="1"/>
            <p:nvPr/>
          </p:nvSpPr>
          <p:spPr>
            <a:xfrm>
              <a:off x="533520" y="1181160"/>
              <a:ext cx="8035920" cy="50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82080" rIns="82080" tIns="41040" bIns="41040" anchor="t">
              <a:normAutofit/>
            </a:bodyPr>
            <a:p>
              <a:pPr marL="236520" indent="-23652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2284560"/>
            <a:ext cx="4054320" cy="25477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is used to provide WAN services to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86280" y="3332160"/>
            <a:ext cx="5006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219560" y="3857760"/>
            <a:ext cx="4924440" cy="30002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560" y="456840"/>
            <a:ext cx="8336160" cy="60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136160"/>
            <a:ext cx="7940880" cy="825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uses virtual circuits to carry packets from one DTE to anoth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210672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938760" y="6257880"/>
            <a:ext cx="403200" cy="179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832360"/>
            <a:ext cx="400212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 VCs on the same lin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distinguishable by the DL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r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93680" y="2306520"/>
            <a:ext cx="6413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– fram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27000" y="2048040"/>
            <a:ext cx="7802640" cy="2908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68320" y="2932200"/>
            <a:ext cx="1036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28120" y="2935440"/>
            <a:ext cx="10364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040" y="5105520"/>
            <a:ext cx="51991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bits together (6 +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/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used in FR (Command/Respon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 Explicit Congestion 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 Explicit Congestion Notif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ard Elig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6560" y="2492280"/>
            <a:ext cx="99540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(max 8 k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CN - BE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e A is sending data to device 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ccross a Frame Relay intra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of the intermediate Frame Relay switches encounters conges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; it will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336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N bit on packets being returned to the sending de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1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t tel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nding router t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 off and apply flow control like traffic Sha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336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CN bit on the packets being sent to the receiving dev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1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s the receiving device that the flow is congested and that it should inform upper layer protocols, if possible, that it should close down windowing et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nform the sending application to slow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4-17T13:44:47Z</dcterms:modified>
  <cp:revision>366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