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489D28E2-6D35-4896-BA57-7A77FC62A262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3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1.3.3.1 &amp; 1.3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objective stated above does not make sense to me.  Reword the above objective as follows:  List factors to consider when selecting a WAN conn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3.5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1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1.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pace permits add graphics 1.2.2.2 &amp; 1.2.2.3 (if forced to make a choice between the 2 graphic pick 1.2.2.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2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2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graphic can be found at the following URL (not necessary to use – just a thought):  http://www.cisco.com/image/jpg/en/us/guest/products/ps6438/c1244/cdccont_0900aecd802c2010_0900aecd802c2010-08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2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61B0737-2A08-470F-8BEC-3C7115AB09F6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6544E44-F1CE-42AE-ABCF-C94574D25C80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EF1433C-A962-455D-84B6-349B9F1DBF84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Services in a Converged WA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Accessing the WAN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1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4520" y="349200"/>
            <a:ext cx="86011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Select the Appropriate WAN Technology to meet ECNM Requirement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st the various options for connecting subscribers to the W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989000" y="2577960"/>
            <a:ext cx="508968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4520" y="349200"/>
            <a:ext cx="86011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Select the Appropriate WAN Technology to meet ECNM Requirement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Enterprises use leased line services to provide a WAN conn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314360" y="2732040"/>
            <a:ext cx="634392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4520" y="349200"/>
            <a:ext cx="86011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Select the Appropriate WAN Technology to meet ECNM Requirement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circuit switching options available to provide a WAN conn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30280" y="2800440"/>
            <a:ext cx="4064040" cy="2168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867200" y="2824200"/>
            <a:ext cx="405756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4520" y="349200"/>
            <a:ext cx="86011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Select the Appropriate WAN Technology to meet ECNM Requirement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packet switching options available to provide a WAN conn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127160" y="2333520"/>
            <a:ext cx="580716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4520" y="349200"/>
            <a:ext cx="86011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Select the Appropriate WAN Technology to meet ECNM Requirement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factors to consider when selecting a WAN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119240" y="2341440"/>
            <a:ext cx="648792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3360" y="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AN is defined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ata communications network that operates beyond the geographic scope of a 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 primarily operate on layer 1 &amp; 2 of the OSI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 technologies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sed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-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-768 / STM-256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.84 Mbit/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813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Mbit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3360" y="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996840"/>
            <a:ext cx="7940880" cy="5453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 Enterpris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n expansion of the hierarchical model that further divides the enterprise network 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ng the appropriate WAN technology requires considering some of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’s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scope of 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ffic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WAN uses a public or private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03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04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ECNM Provides Integrated Services over an Enterpris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purpose and function of W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87360" y="2340000"/>
            <a:ext cx="608040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ECNM Provides Integrated Services over an Enterpris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stages of business growth, the corresponding business requirements for services and how those requirements are reflected in the Enterprise’s changing network top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500120" y="3095640"/>
            <a:ext cx="595476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ECNM Provides Integrated Services over an Enterpris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problems with the Hierarchical Design Model that Cisco's Enterprise Composite Model has been designed to add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009880" y="2633760"/>
            <a:ext cx="48672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ECNM Provides Integrated Services over an Enterpris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purpose of Cisco Enterprise Architect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62360" y="3565440"/>
            <a:ext cx="4326120" cy="2859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91960" y="2143080"/>
            <a:ext cx="412272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Key WAN Technology Concept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WAN functions in terms of the OSI Reference 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017720" y="2552760"/>
            <a:ext cx="724212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Key WAN Technology Concept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key WAN physical layer concepts for network and Internet communic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44440" y="2789280"/>
            <a:ext cx="4181400" cy="29034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765680" y="2776680"/>
            <a:ext cx="405432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Key WAN Technology Concept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key WAN data link layer protocols used in today’s Enterprise WAN networ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33400" y="2387520"/>
            <a:ext cx="5534280" cy="39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Key WAN Technology Concept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switching technologies used for WANs in an Enterprise s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82760" y="2859120"/>
            <a:ext cx="3779640" cy="2197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606920" y="3071880"/>
            <a:ext cx="432756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osef Kaderka</cp:lastModifiedBy>
  <cp:lastPrinted>1999-01-27T00:54:54Z</cp:lastPrinted>
  <dcterms:modified xsi:type="dcterms:W3CDTF">2012-04-02T12:59:47Z</dcterms:modified>
  <cp:revision>333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