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83462E12-6B10-4A41-AD0E-F93DEA46AB10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4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3.1.1 &amp; 6.3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3.1.1 &amp; 6.3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3.2.1 &amp; 6.3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3.2.1 &amp; 6.3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3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3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3.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3.7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1.1.1 (use this if you don’t want to make the changes that I recommend bel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above objective is too long and wordy.  Consider breaking it down into 2 objectives for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2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be the benefits of teleworkers for business, society and the environment (graphic 6.1.1.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2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st  remote connection technologies and describe scenarios  in which each would be implemented (graphic 6.1.2.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1.1.1 (use this if you don’t want to make the changes that I recommend bel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above objective is too long and wordy.  Consider breaking it down into 2 objectives for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2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be the benefits of teleworkers for business, society and the environment (graphic 6.1.1.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2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st  remote connection technologies and describe scenarios  in which each would be implemented (graphic 6.1.2.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2.3.1 &amp; 6.2.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4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E0356494-9FF7-4290-8FF3-A0DF3D5F1D0B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05B5F415-8250-44D5-9A33-8D952BDD6406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42F34B56-2F51-47FF-9E93-7ED28AE12B43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Providing Teleworker Service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Accessing the WAN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6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Broadband Services extend Enterprise Network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Enterprises defend themselves from threats to wireless network  secur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552680" y="2459160"/>
            <a:ext cx="586728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portance and benefits of VPN techn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128600" y="1857240"/>
            <a:ext cx="70866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portance and benefits of VPN techn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287360" y="1897200"/>
            <a:ext cx="651348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1881360"/>
            <a:ext cx="823752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28560" y="1827360"/>
            <a:ext cx="811548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12800" y="1768320"/>
            <a:ext cx="7689960" cy="50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characteristics of secure VP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69960" y="2127240"/>
            <a:ext cx="769932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concept of VPN tunne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108080" y="1969920"/>
            <a:ext cx="69534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concept of VPN encry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103400" y="2038320"/>
            <a:ext cx="664056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concept of IPsec Protoc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089000" y="2109960"/>
            <a:ext cx="6637320" cy="45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enterprise requirements for providing teleworker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how broadband services extend Enterprise Networks including DSL, cable, and 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VPN technology provides secure teleworker services in an Enterprise sett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44680" y="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for providing teleworker service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s continuity of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for increase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e &amp; reliable access to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eff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needed for a teleworker to connect to an organization’s network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55560" y="1171080"/>
            <a:ext cx="7940880" cy="5318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band services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s signal in either direction simultaneou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minimal changes to existing telephone        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s high bandwidth data rates to 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mo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less availability v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nicipal Wi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ellit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ng teleworke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PN security achieved through u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ed encryption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nn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stics of a secure VP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confidenti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nteg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19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20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nterprise Requirements for Providing Teleworker Service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benefits of teleworkers for business, society and th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58680" y="2422440"/>
            <a:ext cx="676296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nterprise Requirements for Providing Teleworker Service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st remote connection technologies and describe scenarios in which each would be impleme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03480" y="2303640"/>
            <a:ext cx="675468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nterprise Requirements for Providing Teleworker Service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key differences between private and public network infrastruct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147680" y="2144880"/>
            <a:ext cx="67946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Broadband Services extend Enterprise Network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efly describe how broadband services allow teleworkers to use the Internet to connect to the Enterprise W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469880" y="2505240"/>
            <a:ext cx="629604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Broadband Services extend Enterprise Network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Enterprises use cable connectivity to extend their r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71400" y="2092320"/>
            <a:ext cx="7405920" cy="4633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727600" y="1868400"/>
            <a:ext cx="341640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179280" indent="-1792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CSIS 3.0 (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ata Over Cable Service Interface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5.62 Mbit/s per 8 MHz EuroDOCSIS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; up to 8 chan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Broadband Services extend Enterprise Network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Enterprises use DSL connectivity to extend their r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2104920"/>
            <a:ext cx="5576760" cy="33512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032360" y="5121360"/>
            <a:ext cx="511164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9760" y="456840"/>
            <a:ext cx="8813880" cy="56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roadband wireles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1390680"/>
            <a:ext cx="4508640" cy="20289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761000" y="709560"/>
            <a:ext cx="4297320" cy="3127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-3240" y="3852720"/>
            <a:ext cx="4707000" cy="29178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4843440" y="3949560"/>
            <a:ext cx="430056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K</cp:lastModifiedBy>
  <cp:lastPrinted>1999-01-27T00:54:54Z</cp:lastPrinted>
  <dcterms:modified xsi:type="dcterms:W3CDTF">2011-05-04T20:31:46Z</dcterms:modified>
  <cp:revision>345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