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1F63B8A-C406-40C5-AD14-2B9DD58F711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1.1 &amp; 3.2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&amp; 3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901D63F-F62B-4FF9-90E2-E98A14C44ED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8C620B7-6A3F-4792-8717-F174724E47E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975BBB3-0C2D-44DA-A08A-81C7776D02C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Frame Rela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18000" y="3787920"/>
            <a:ext cx="4626000" cy="30700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2282760"/>
            <a:ext cx="46274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116080"/>
            <a:ext cx="4610160" cy="36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52920" y="3073320"/>
            <a:ext cx="45910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er attached to a Frame Relay network uses LMI status messages and inverse ARP queries to map VCs to layer 3 network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63680" y="2865600"/>
            <a:ext cx="65847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verse 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interface is enabled, the router will send Inverse-Arp requests out all DLCIs learned via LMI for all protocols configured on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13000" y="3201840"/>
            <a:ext cx="64576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basic Frame Relay PVC on a router seri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336760"/>
            <a:ext cx="5100480" cy="3448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18160" y="3538440"/>
            <a:ext cx="44258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static Frame Relay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41480" y="5076720"/>
            <a:ext cx="4297320" cy="153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06560" y="1895400"/>
            <a:ext cx="6084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28640" y="1846440"/>
            <a:ext cx="7013880" cy="4878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7720" y="456840"/>
            <a:ext cx="8514000" cy="554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ability issues associated with the Frame Relay NBMA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1000" y="457200"/>
            <a:ext cx="855036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width control in the Frame Relay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71600" y="3164040"/>
            <a:ext cx="6872400" cy="3611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2079720"/>
            <a:ext cx="47959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973160"/>
            <a:ext cx="5202360" cy="2473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308480" y="3840120"/>
            <a:ext cx="4819680" cy="300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4840" y="457200"/>
            <a:ext cx="8786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control in Frame Rela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91760"/>
            <a:ext cx="28684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steps to configure point-to-point subinterfaces on a physic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1200" y="1819440"/>
            <a:ext cx="60228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425840" cy="294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33880" y="1512720"/>
            <a:ext cx="3989520" cy="250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80800"/>
            <a:ext cx="556560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11520" y="4076640"/>
            <a:ext cx="4192920" cy="278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1495440"/>
            <a:ext cx="1995480" cy="214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3640" y="4022640"/>
            <a:ext cx="1995480" cy="250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08000" y="2349360"/>
            <a:ext cx="2210040" cy="346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73920" y="3759120"/>
            <a:ext cx="1303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S0 = 64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ands used for verifying Frame Relay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27240" y="2397240"/>
            <a:ext cx="63752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for troubleshooting a Frame Relay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3280" y="2587680"/>
            <a:ext cx="5437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856800"/>
            <a:ext cx="7940880" cy="555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the most widely used WAN technology becaus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eater bandwidth than 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st because it uses less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associated with layer 2 of the OSI model and encapsulates data packets in a frame relay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configured on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irtual circuits may be identified by a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uses inverse ARP to map DLCI to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frame relay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frame relay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ither static or dynam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split horizon problems that develop when multiple VCs are placed on a single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affecting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ervice provider has their charging schem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ands can be used to help verify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pvc ##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 to help troubleshoot a 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0359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over fiber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to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ral sites with low bandwidth demand (local stores to into their corporate W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rveillanc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181160"/>
            <a:ext cx="8035920" cy="5076720"/>
            <a:chOff x="533520" y="1181160"/>
            <a:chExt cx="8035920" cy="507672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33520" y="1181160"/>
              <a:ext cx="8035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533520" y="1181160"/>
              <a:ext cx="8035920" cy="50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82080" rIns="82080" tIns="41040" bIns="41040" anchor="t">
              <a:normAutofit/>
            </a:bodyPr>
            <a:p>
              <a:pPr marL="236520" indent="-2365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284560"/>
            <a:ext cx="4054320" cy="2547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86280" y="3332160"/>
            <a:ext cx="5006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19560" y="3857760"/>
            <a:ext cx="4924440" cy="3000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8336160" cy="60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136160"/>
            <a:ext cx="794088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uses virtual circuits to carry packets from one DTE to anoth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210672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38760" y="6257880"/>
            <a:ext cx="403200" cy="17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32360"/>
            <a:ext cx="400212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 VCs on the same lin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distinguishable by the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93680" y="2306520"/>
            <a:ext cx="641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–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27000" y="2048040"/>
            <a:ext cx="7802640" cy="290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68320" y="2932200"/>
            <a:ext cx="1036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28120" y="2935440"/>
            <a:ext cx="1036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5105520"/>
            <a:ext cx="5199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bits together (6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/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used in FR (Command/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Explicit Congestion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 Explicit Congestion Not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ard Elig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6560" y="2492280"/>
            <a:ext cx="9954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max 8 k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CN - B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 A is sending data to device 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ross a Frame Relay int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f the intermediate Frame Relay switches encounters conges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it will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 bit on packets being returned to the sending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t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ding router 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off and apply flow control like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 bit on the packets being sent to the receiving de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the receiving device that the flow is congested and that it should inform upper layer protocols, if possible, that it should close down windowing et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nform the sending application to slow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17T13:44:47Z</dcterms:modified>
  <cp:revision>366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