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8AB-08EB-4960-AAA4-E6DE2E07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4AD-6182-44F9-B09E-9DFEF0C1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0AF-F9A3-4D52-8422-77B17E9F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4A5-E886-4023-AF12-57FF71AE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B42-8A4B-4BE9-9573-41C95977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3C3-F063-4552-8CA6-97989F21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CE2-C585-4C9D-B5D9-C9D9F45B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81C-3D66-44F9-8D36-55B1ABC6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72B-3B84-41F6-8AD3-EBA7E61B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19B-D087-4F24-A8A0-10E98BAF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443-059B-4E2D-BA8F-9DDCCBA9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721-2761-4D0C-97EC-30307873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2F196D-3FC1-43CC-8078-E24038B048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iffing network traffic in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se Nazario, Ph.D. &lt;jose@monkey.o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driven interface (nids_run(), nids_next(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ream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ate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TCP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addresses, data, et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and IP packet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pynids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“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,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(tcp):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1: nids_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com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exist? Create state or reus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based on state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or 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andler, pass packe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process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&lt;handleTcp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"scan_num_hosts", 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ot nids.in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error -", nids.errbuf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Str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y:        nids.run()  # loop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 KeyboardInterru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Stream(tc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tcp.nids_state == nids.NIDS_JUST_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dport in (80, 8000, 808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client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server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== nids.NIDS_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discard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in end_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addr:", tcp.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may be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server:“, tcp.server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client:“, tcp.client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int argv, char *argv[]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nids_init()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(1, “error, %s”, nids_err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egister_tcp(handle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,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handleTcp(struct tcp_stream *tc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witch (tcp-&gt;nids_stat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JUST_ES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(tcp-&gt;addr.dest == 8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0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8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server.collect = 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client.collect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DATA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ids_discard(tcp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CLOSE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RESE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TIMED_OU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((%s, %d), (%s, %d))\n”, inet_ntoa(tcp-&gt;saddr), tcp.srce,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et_ntoa(tcp-&gt;daddr), tcp.d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server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client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5080" y="624852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the same LoC, until we start string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n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y 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: SSH (client, server), WWW (client, server), and SMTP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: coordinate data collection with TCP stack finger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0560" y="571500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3.236.16.161       SymbianOS 6048 (on Nokia 7650?)             www     80/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.236.16.161:  80:  Microsoft-IIS/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7:  22:  SSH-2.0-OpenSSH_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101:http:  Mozilla/5.0 (X11; U; OpenBSD i386; en-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; rv:1.5a) Gecko/20031030 Mozilla Firebird/0.6.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5:  80:  Microsoft-IIS/5.0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5.1.76.60:  80:  Netscape-Enterprise/3.6 SP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69:  80:  Microsoft-IIS/5.0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7:  80:  Microsoft-IIS/5.0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9.28.159.7:  80:  ZEDO 3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8.65.148.234:  80:  Apache/1.3.29 (Unix) PHP/4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150.209.231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0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7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2:  80:  thttpd/2.25b 29dec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.209.232.207:  80:  Apache/1.3.27 (Uni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_perl/1.27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239.39.99:  80:  CAFE/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passive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s HTTP request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 /blog/styles-site.css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st: www.jackch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-Agent: Mozilla/5.0 (X11; U; OpenBSD i386; en-US; rv:1.5a) Gecko/20031030 Mozilla Firebird/0.6.1Accept: text/css,*/*;q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erer: http://www.jackcheng.com/blog/archives/2004/12/ipod_rumo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yth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to be slower tha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data structur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LoC per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manipulat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ython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d graph history of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s graph from referrer and URL in the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er    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you view your history as you took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natural “hubs”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iweb.com.nyud.net:8090/issues/issue37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3581280"/>
            <a:ext cx="30492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ing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s a small “dot”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” part of “graphviz”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neato” to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ormats: SVG, PS, PDF, im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fully interac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88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bing Data with pyn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.{server, client}.data and just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tring operations wi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“HTTP/1.0” in tcp.client.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pression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re.search(“HTTP/1.[10]”, tcp.client.dat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.replace(req, “GET HTTP/1.0”, “”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nv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rf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conver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, AIM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, P2P apps, HTTP download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rupt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cp.kill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6400" y="586728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sniff is written in Pyth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g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s sniffing with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like ngrep, tcpkill, and dsn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 the whole connection, not just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data in streams using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r kill selecte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t cheap IDS or 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400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tcpdump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acketfactory.net/projects/lib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provos/libeven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dugsong/{dpkt, pycap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ss.coresecurity.com/projects/pcap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jose/software/flowgre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ilcrow.madison.wi.us/py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ns, TCP/IP Illustrated vol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ffman, Building Open Source Network Security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s from the I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ying Python and Sni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e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SWIGged, exported to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ap, dnet, nid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pcap/pcappy – pcap for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kt – packet deconstruction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dnet – packet construction library (has python bindings in the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ynids – connection reassembly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6320" y="593640"/>
            <a:ext cx="78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ibni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reassemble IP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7440" y="1879560"/>
            <a:ext cx="616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DS “E” box (event generation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land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Linux 2.0.36 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libpcap, libnet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fragment re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419112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1960" y="42670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bn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ter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ster_i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er_ud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kill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3640" y="533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371600"/>
            <a:ext cx="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79280" y="1371600"/>
            <a:ext cx="12985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371600"/>
            <a:ext cx="1676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33526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68400" y="3352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21000" y="3352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120" y="4038480"/>
            <a:ext cx="278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CP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rv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q, ack, et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3120" y="4038480"/>
            <a:ext cx="243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pac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D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78960" y="4038480"/>
            <a:ext cx="25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ruct 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s up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TCP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JUST_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CP connected state (3W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-&gt;{client,server}.collect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et stream payload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ithin a known, established TC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RESET, NIDS_CLOSE, NIDS_TIMED_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connection is reset, closed gracefully, or wa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0" y="6095880"/>
            <a:ext cx="90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nids doesn’t expose SYN_SENT, FIN_WAIT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7:12:05Z</dcterms:created>
  <dc:creator>jose nazario</dc:creator>
  <dc:description/>
  <dc:language>en-US</dc:language>
  <cp:lastModifiedBy>jose</cp:lastModifiedBy>
  <dcterms:modified xsi:type="dcterms:W3CDTF">2004-12-18T19:34:08Z</dcterms:modified>
  <cp:revision>10</cp:revision>
  <dc:subject/>
  <dc:title>Sniffing network traffic in Python</dc:title>
</cp:coreProperties>
</file>