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83A1653-9E95-4F22-9193-2BFB8E63128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from section 1.2.2 pages 2 &amp;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found in section 1.2.1 &amp; 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D520893-D8AA-4249-BEB8-2FFDA905AB3B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AE70AF5-4A19-4280-9062-54AD91C8E52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82AB9CC-FF7B-4190-BD21-CE2EC149DC2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N Desig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1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31920" y="2749680"/>
            <a:ext cx="8370720" cy="3790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760" y="1427040"/>
            <a:ext cx="42307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E – Power ove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8760" y="1760400"/>
            <a:ext cx="42307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E – Power ove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66680" y="2548080"/>
            <a:ext cx="8810640" cy="3286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692440" y="2571840"/>
            <a:ext cx="558720" cy="40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77160" y="2570040"/>
            <a:ext cx="790560" cy="40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84240" y="1554120"/>
            <a:ext cx="71611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54160" y="1606680"/>
            <a:ext cx="6775560" cy="5124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12840" y="1765440"/>
            <a:ext cx="700560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switches used in SMB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604880" y="2246400"/>
            <a:ext cx="554364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Design model addresses performance, scalability, maintainability &amp; manageability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Analysis is used to monitor network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Design Model is composed of 3 lay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selected for each layer must meet the needs of each hierarchical layer as well as the needs of th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0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0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principles of hierarchical network 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46320" y="2157480"/>
            <a:ext cx="70167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887120"/>
            <a:ext cx="7940880" cy="4581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78040" y="2263680"/>
            <a:ext cx="7681680" cy="4106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608200" y="1735200"/>
            <a:ext cx="3689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09520" y="2260440"/>
            <a:ext cx="6828120" cy="4256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46080" y="1611360"/>
            <a:ext cx="3346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twork diameter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30400" y="5686560"/>
            <a:ext cx="1055520" cy="838080"/>
          </a:xfrm>
          <a:prstGeom prst="ellipse">
            <a:avLst/>
          </a:prstGeom>
          <a:noFill/>
          <a:ln w="507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89640" y="5424480"/>
            <a:ext cx="901800" cy="744480"/>
          </a:xfrm>
          <a:prstGeom prst="ellipse">
            <a:avLst/>
          </a:prstGeom>
          <a:noFill/>
          <a:ln w="507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46080" y="1611360"/>
            <a:ext cx="58881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nk aggregation = several parallel links combined onto one logical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3120" y="2620800"/>
            <a:ext cx="669780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46080" y="1611360"/>
            <a:ext cx="5888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dundant links = to ensur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60640" y="2532240"/>
            <a:ext cx="6810120" cy="39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le of a converged network in supporting small and medium-sized (SMB) business voice, video, and data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24120" y="2725560"/>
            <a:ext cx="52848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siderations used to select a switch for a hierarchical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47560" y="2451240"/>
            <a:ext cx="4513320" cy="3512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192560" y="3800520"/>
            <a:ext cx="4376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features of switches that are used in hierarchical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33680" y="2249640"/>
            <a:ext cx="52848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2-20T15:20:53Z</dcterms:modified>
  <cp:revision>31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