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75A63B8-FFC5-4617-BAA4-0062133D960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FA343AB-C79F-4395-B8E8-6BB86CA0DEF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F60E2EF-9728-4DEB-880B-1678CFB616E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15C6F42-1B9C-4C51-870D-C473505D301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7B0B8E9-A9DB-42FB-8DB7-B59900D6073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7C06CB2-11B4-4C97-B421-E514C5EE12A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29988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18760" y="4024080"/>
            <a:ext cx="583092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DB9B4DB-67DC-48C5-8C61-900DCD40257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4D1E2D3-A041-42EC-B93D-8DA12C1CD9E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E3AD28D-A007-4531-872B-AA059D35976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BBB91CA-CA2F-437D-A730-E2894C3332A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98C3686-33F3-4B8B-9764-EEF8D9060CB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17D9098-2175-4504-86D4-C7CD8DBBAD5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622E9A7-1AC0-470B-9161-66A29776E4B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5.1.3.1 &amp; 5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9DE1C75-8C03-4433-865A-E34EE21B445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73FAC6F-358B-46EB-9C58-0D5CD68B73E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D29C8AC-F772-4C49-B5EC-235882E7090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B46E575-AA45-4439-9711-D5C1D45D377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4.1 – try to put in as many of the steps as you 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A28C5A0-3646-4C88-A214-67B6AA67D8B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2.1 &amp; 5.4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0DA7850-282F-4130-8885-4DA0BF46B6F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3.1 (characteristi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041C6D1-D183-4579-A127-8EAECBDC883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3E838EF-7A00-49EE-83F2-D2CC0C6DEED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A58E237-D23F-46CA-B04F-90536C07778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6.1 try to use all 3 but if you can’t then use the description graph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1AE2183-4FC2-4452-91AC-84FE42B6D16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7.1 try to use both the configuration commands and the example configuration.  If you can’t then use the examp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695A1CD-83BF-456F-BF9E-10DA9491064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9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DB1C89B-745D-4492-BA24-91F7E949611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679CC2F-4CDE-486E-AB19-4FD55176AA6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521027C-97C3-41A4-B0F2-35F6749C9A4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2CEDC62-879F-4BF0-A371-94E3406BCD1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BCE85E5-7F6E-4F62-AB56-F3ED8B8FB08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E2B5892-849E-4611-AEFB-E00466FA648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27E2E2A-2C35-40ED-B43C-FD6BE12FAB5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92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Spanning Tree Protocols</a:t>
            </a:r>
            <a:endParaRPr b="1" lang="en-US" sz="2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TP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– BPDU Detail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1486080" y="1738440"/>
            <a:ext cx="6343560" cy="4952880"/>
          </a:xfrm>
          <a:prstGeom prst="rect">
            <a:avLst/>
          </a:prstGeom>
          <a:ln w="0">
            <a:noFill/>
          </a:ln>
        </p:spPr>
      </p:pic>
      <p:sp>
        <p:nvSpPr>
          <p:cNvPr id="191" name="TextovéPole 1"/>
          <p:cNvSpPr/>
          <p:nvPr/>
        </p:nvSpPr>
        <p:spPr>
          <a:xfrm>
            <a:off x="939960" y="1257480"/>
            <a:ext cx="735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tination MAC address  01-80-C2-00-00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4400" y="3371760"/>
            <a:ext cx="5192640" cy="3459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3790800" y="812880"/>
            <a:ext cx="5354640" cy="33242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tended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ID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and its Rol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4137120"/>
            <a:ext cx="1258920" cy="46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9360" y="5546880"/>
            <a:ext cx="1258920" cy="46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TP port states and BPDU timer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847800" y="4008600"/>
            <a:ext cx="7103880" cy="2752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63480" y="1382760"/>
            <a:ext cx="74278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010G_324"/>
          <p:cNvPicPr/>
          <p:nvPr/>
        </p:nvPicPr>
        <p:blipFill>
          <a:blip r:embed="rId1"/>
          <a:stretch/>
        </p:blipFill>
        <p:spPr>
          <a:xfrm>
            <a:off x="685800" y="2209680"/>
            <a:ext cx="7861320" cy="41292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TP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port s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tat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55560" y="1325520"/>
            <a:ext cx="726912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4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nning tree transitions each port through several different st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678120" y="5319720"/>
            <a:ext cx="5257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Blocking to Forwar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 sec + 15 sec + 15 sec = 50 seco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vergence for a switched network and summarize the 3 step process STP uses to create a loop free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474840" y="3548160"/>
            <a:ext cx="818352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1800360" y="1343160"/>
            <a:ext cx="55054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1812960" y="1343160"/>
            <a:ext cx="5479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1814400" y="1344600"/>
            <a:ext cx="54896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827360" y="1357200"/>
            <a:ext cx="54766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827360" y="1357200"/>
            <a:ext cx="54766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ole of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edundancy 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 a Converged Switched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redundancy can disable a hierarchical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27120" y="2181240"/>
            <a:ext cx="78865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814400" y="1343160"/>
            <a:ext cx="548964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the STP Algorithm Uses Three Steps to Converge on a Loop-Free Topology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c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647640" y="2058840"/>
            <a:ext cx="7848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the STP Algorithm Uses Three Steps to Converge on a Loop-Free Topology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cting a root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608040" y="1995480"/>
            <a:ext cx="78771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the STP Algorithm Uses Three Steps to Converge on a Loop-Free Topology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cting designated ports and non-designated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663480" y="1995480"/>
            <a:ext cx="71056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5560" y="45684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 u="sng">
                <a:solidFill>
                  <a:srgbClr val="0183b7"/>
                </a:solidFill>
                <a:uFillTx/>
                <a:latin typeface="Arial"/>
              </a:rPr>
              <a:t>Five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92240" y="1881000"/>
            <a:ext cx="8951760" cy="4205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reating a loop-free topology, STP always uses the same five-step decision sequen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or three-step?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ve-Step decision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 – Lowest BI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 – Lowes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mul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Cost to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 – Lowest Sender 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4 – (Lowest Port Prio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5 – Lowest Port 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28760" y="3309840"/>
            <a:ext cx="5429160" cy="40500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14360" y="3840120"/>
            <a:ext cx="7974000" cy="42876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11120" y="4370400"/>
            <a:ext cx="7869240" cy="149400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651640" y="2247840"/>
            <a:ext cx="1400040" cy="40788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how spanning-tre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5560" y="187020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6000"/>
          </a:bodyPr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tribution1#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how spanning-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LAN0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panning tree enabled protocol ie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ot ID    Priority    327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ress     0009.7c0b.e7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st       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rt        3 (FastEthernet0/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ello Time   2 sec  Max Age 20 sec  Forward Delay 1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idge ID  Priority    32769  (priority 32768 sys-id-ext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ress     000b.fd13.90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ello Time   2 sec  Max Age 20 sec  Forward Delay 1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ging Time 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rface        Port ID                     Designated                Port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me             Prio.Nbr      Cost Sts      Cost Bridge ID            Prio.N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---------------- -------- --------- --- --------- -------------------- 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0/1            128.1           19 BLK        19 32769 000b.befa.eec0 12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0/2            128.2           19 BLK        19 32769 000b.befa.eec0 12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0/3            128.3           19 FWD         0 32769 0009.7c0b.e7c0 12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0/4            128.4           19 BLK         0 32769 0009.7c0b.e7c0 12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0/5            128.5           19 FWD        19 32769 000b.fd13.9080 128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Gi0/1            128.25           4 FWD        19 32769 000b.fd13.9080 128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rface        Port ID                     Designated                Port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me             Prio.Nbr      Cost Sts      Cost Bridge ID            Prio.N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 -------- --------- --- --------- -------------------- 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i0/2            128.26           4 BLK        19 32769 000b.befa.eec0 128.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731880" y="4970520"/>
            <a:ext cx="3733920" cy="18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6246720" y="272880"/>
            <a:ext cx="2733840" cy="1505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39" name="Rectangle 6"/>
          <p:cNvSpPr/>
          <p:nvPr/>
        </p:nvSpPr>
        <p:spPr>
          <a:xfrm>
            <a:off x="695160" y="2409840"/>
            <a:ext cx="6488280" cy="8938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95160" y="3303720"/>
            <a:ext cx="6488280" cy="7318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692280" y="2013120"/>
            <a:ext cx="6505560" cy="396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695160" y="4027320"/>
            <a:ext cx="7351920" cy="24717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005280" y="3484440"/>
            <a:ext cx="1346040" cy="189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3005280" y="2570040"/>
            <a:ext cx="1346040" cy="189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how spanning-tree detail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5560" y="2284560"/>
            <a:ext cx="7940880" cy="3068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ribution1#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ow spanning-tree de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LAN0001 is executing the ieee compatible Spanning Tree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idge Identifier has priority 32768, sysid 1, address 000b.fd13.90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figured hello time 2, max age 20, forward delay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root has priority 32769, address 0009.7c0b.e7c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ot port is 3 (FastEthernet0/3), cost of root path is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pology change flag not set, detected flag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umber of topology changes 7 last change occurred 00:14:34 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 GigabitEthernet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mes:  hold 1, topology change 35, notific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lo 2, max age 20, forward delay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mers: hello 0, topology change 0, notification 0, aging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858960" y="3314880"/>
            <a:ext cx="6324480" cy="199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 flipV="1">
            <a:off x="5214960" y="3102120"/>
            <a:ext cx="1689120" cy="1792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 flipV="1">
            <a:off x="3525840" y="3114720"/>
            <a:ext cx="876240" cy="1792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 flipV="1">
            <a:off x="858960" y="3749400"/>
            <a:ext cx="6667200" cy="21744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6726240" y="2671920"/>
            <a:ext cx="1612800" cy="201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4199040" y="2671920"/>
            <a:ext cx="596880" cy="201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4923000" y="2671920"/>
            <a:ext cx="838080" cy="201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6246720" y="272880"/>
            <a:ext cx="2733840" cy="1505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Different types of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55560" y="1730520"/>
          <a:ext cx="7940880" cy="4678200"/>
        </p:xfrm>
        <a:graphic>
          <a:graphicData uri="http://schemas.openxmlformats.org/drawingml/2006/table">
            <a:tbl>
              <a:tblPr/>
              <a:tblGrid>
                <a:gridCol w="1325520"/>
                <a:gridCol w="6615360"/>
              </a:tblGrid>
              <a:tr h="1148040">
                <a:tc rowSpan="3"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isco Propriet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PV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ses the Cisco proprietary ISL trunking protoc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ach VLAN has an instance of spanning t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bility to load balance traffic at layer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ncludes extensions BackboneFast. UplinkFast, and PortF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PVST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upports I5L and IEEE 802.10 roc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upports Cisco proprietary 5Th exten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dds BPDU guard and Root guard enhanc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pid-PVST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ased on IEE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02.1w 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as faster convergence than 802.1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rowSpan="2"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EEE 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STP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(originall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EEE 802.1w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, every VLAN has separate STP insta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ntroduced in 1982 provides faster convergence than 802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mplements version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of the Cisco prop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tary STP exten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EEE has incorporated RSTP into 802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D as IEEE 802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STP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(originall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EEE 802.1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ultiple VLANs can be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ed b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the same spanning-tree in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nspired by the Cisco Multiple Instances Spanning Tree Protocol (MIST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EEE 802.1Q-2003 now includes MS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1"/>
          <a:stretch/>
        </p:blipFill>
        <p:spPr>
          <a:xfrm>
            <a:off x="1079640" y="1481040"/>
            <a:ext cx="692136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584280" y="1714680"/>
            <a:ext cx="8483400" cy="42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referred protocol for preventing Layer 2 loops in a switch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sparently integrates Cisco-proprietary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better than the Cisco-proprietary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different port states and port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backward compatible with 802.1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kept most configuration parameter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same BPDU format as the IEEE 802.1D BP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need 802.1D 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107200" cy="60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L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nk laye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 Loop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59" name="Picture 3" descr="010G_404"/>
          <p:cNvPicPr/>
          <p:nvPr/>
        </p:nvPicPr>
        <p:blipFill>
          <a:blip r:embed="rId1"/>
          <a:stretch/>
        </p:blipFill>
        <p:spPr>
          <a:xfrm>
            <a:off x="4795920" y="2476440"/>
            <a:ext cx="4149720" cy="4230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09480" y="3497400"/>
            <a:ext cx="320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0720" y="1143000"/>
            <a:ext cx="4530600" cy="5232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 loops can occur any time there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dund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th or loop in the bridg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es wi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ip 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ridging table entry for Station A (creating extremely high CPU utiliz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Loops can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st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copies of Ethernet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address table instability in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TP edg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d non-ed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486080" y="2089080"/>
            <a:ext cx="5721120" cy="4373640"/>
          </a:xfrm>
          <a:prstGeom prst="rect">
            <a:avLst/>
          </a:prstGeom>
          <a:ln w="0">
            <a:noFill/>
          </a:ln>
        </p:spPr>
      </p:pic>
      <p:sp>
        <p:nvSpPr>
          <p:cNvPr id="264" name="Oval 5"/>
          <p:cNvSpPr/>
          <p:nvPr/>
        </p:nvSpPr>
        <p:spPr>
          <a:xfrm>
            <a:off x="5707080" y="4467240"/>
            <a:ext cx="218880" cy="220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3186000" y="4781520"/>
            <a:ext cx="219240" cy="220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3430440" y="4784760"/>
            <a:ext cx="219240" cy="220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3673440" y="4781520"/>
            <a:ext cx="219240" cy="220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4067280" y="2085840"/>
            <a:ext cx="218880" cy="220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4076640" y="2390760"/>
            <a:ext cx="196920" cy="196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4392720" y="2352600"/>
            <a:ext cx="19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on-edge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2747880" y="1477800"/>
            <a:ext cx="6324840" cy="53038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368360"/>
            <a:ext cx="364320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TP lin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yp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ternative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redundant r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ckup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redundant design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r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t stat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d port r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tretch/>
        </p:blipFill>
        <p:spPr>
          <a:xfrm>
            <a:off x="100080" y="4272120"/>
            <a:ext cx="8823240" cy="2557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2"/>
          <a:stretch/>
        </p:blipFill>
        <p:spPr>
          <a:xfrm>
            <a:off x="5084640" y="1068480"/>
            <a:ext cx="37227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r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configure rapid PVST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0" y="1812960"/>
            <a:ext cx="4349880" cy="2901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3222720" y="4170240"/>
            <a:ext cx="59212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panning Tree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Troubleshoo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5560" y="1747440"/>
            <a:ext cx="7940880" cy="2854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identify and solve the key STP configuration issu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roubleshoot a bridging loop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pology of the bridg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cation of the root 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location of the blocked ports and the redundant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5027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 Tree Protocol (STP) is used to prevent loops from being formed  on redundan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P uses different port states &amp; timers to logically prevent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t least one switch in a network that serves as the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bridge is elected using information found in BPDU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ports are determined by the spanning tree algorithm and are closest to the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83680" y="1780920"/>
            <a:ext cx="8636040" cy="326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P lengthy convergence time (50 seconds) facilitated the development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ence time is slightly over 6 second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bette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PVST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VLAN support to R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referred spanning-tree protocol on a Cisco switch netw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925560" y="4863960"/>
            <a:ext cx="636732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(config-if)#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port mode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(config-if)#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anning-tree portf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(config)# spanning-tree portfast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290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291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ole of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edundancy 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 a Converged Switched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Layer 2 loop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an be s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519120" y="2082960"/>
            <a:ext cx="8039160" cy="4676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5840" y="4573440"/>
            <a:ext cx="2211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dia Perl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284040" y="5092560"/>
            <a:ext cx="160812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Two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key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366560"/>
            <a:ext cx="4554360" cy="228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P calculations make extensive use of two key concepts in creating a loop-free topo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dge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4586400" y="1538280"/>
            <a:ext cx="4476600" cy="146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853920" y="3913200"/>
          <a:ext cx="7545600" cy="2844720"/>
        </p:xfrm>
        <a:graphic>
          <a:graphicData uri="http://schemas.openxmlformats.org/drawingml/2006/table">
            <a:tbl>
              <a:tblPr/>
              <a:tblGrid>
                <a:gridCol w="1704960"/>
                <a:gridCol w="1710000"/>
                <a:gridCol w="2131920"/>
                <a:gridCol w="1998720"/>
              </a:tblGrid>
              <a:tr h="8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k 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(First IEEE Spe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(Revised 802.1D-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(Revised 802.1t-20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G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G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Rectangle 38"/>
          <p:cNvSpPr/>
          <p:nvPr/>
        </p:nvSpPr>
        <p:spPr>
          <a:xfrm>
            <a:off x="4772160" y="1833480"/>
            <a:ext cx="4190760" cy="70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rt roles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S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596880" y="1162080"/>
            <a:ext cx="7734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38088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 Spanning</a:t>
            </a:r>
            <a:r>
              <a:rPr b="1" lang="en-GB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rcRect l="325" t="2674" r="1616" b="0"/>
          <a:stretch/>
        </p:blipFill>
        <p:spPr>
          <a:xfrm>
            <a:off x="927000" y="1876320"/>
            <a:ext cx="7239240" cy="4341960"/>
          </a:xfrm>
          <a:prstGeom prst="rect">
            <a:avLst/>
          </a:prstGeom>
          <a:ln w="0">
            <a:noFill/>
          </a:ln>
        </p:spPr>
      </p:pic>
      <p:sp>
        <p:nvSpPr>
          <p:cNvPr id="176" name="Ovál 1"/>
          <p:cNvSpPr/>
          <p:nvPr/>
        </p:nvSpPr>
        <p:spPr>
          <a:xfrm>
            <a:off x="749160" y="5295960"/>
            <a:ext cx="1054080" cy="622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ál 4"/>
          <p:cNvSpPr/>
          <p:nvPr/>
        </p:nvSpPr>
        <p:spPr>
          <a:xfrm>
            <a:off x="7149960" y="5207040"/>
            <a:ext cx="1054080" cy="622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římá spojnice 9"/>
          <p:cNvSpPr/>
          <p:nvPr/>
        </p:nvSpPr>
        <p:spPr>
          <a:xfrm>
            <a:off x="990720" y="4216320"/>
            <a:ext cx="79992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římá spojnice 12"/>
          <p:cNvSpPr/>
          <p:nvPr/>
        </p:nvSpPr>
        <p:spPr>
          <a:xfrm>
            <a:off x="7277040" y="4330800"/>
            <a:ext cx="8002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římá spojnice 13"/>
          <p:cNvSpPr/>
          <p:nvPr/>
        </p:nvSpPr>
        <p:spPr>
          <a:xfrm>
            <a:off x="6019920" y="2577960"/>
            <a:ext cx="91440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římá spojnice 14"/>
          <p:cNvSpPr/>
          <p:nvPr/>
        </p:nvSpPr>
        <p:spPr>
          <a:xfrm>
            <a:off x="1689120" y="2577960"/>
            <a:ext cx="88884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římá spojnice 17"/>
          <p:cNvSpPr/>
          <p:nvPr/>
        </p:nvSpPr>
        <p:spPr>
          <a:xfrm>
            <a:off x="3898800" y="6243480"/>
            <a:ext cx="91440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3460680" y="3192480"/>
            <a:ext cx="5683320" cy="3510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panning-Tree Oper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oot bridge per networ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oot port per nonroot brid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designated port per seg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designated ports are unu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STP -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Bridge Protocol Data Uni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162560" cy="4768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228600" y="17524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83b7"/>
                </a:solidFill>
                <a:latin typeface="Arial"/>
              </a:rPr>
              <a:t>Bridge protocol data unit</a:t>
            </a:r>
            <a:r>
              <a:rPr b="0" lang="en-GB" sz="2000" spc="-1" strike="noStrike">
                <a:solidFill>
                  <a:srgbClr val="0183b7"/>
                </a:solidFill>
                <a:latin typeface="Arial"/>
              </a:rPr>
              <a:t> (BPD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4-03-05T18:32:03Z</dcterms:modified>
  <cp:revision>400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