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7880148-006F-4EB6-B303-526E1191BDE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2.2,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5784501-37A8-4CD8-82F6-CFE55D0D712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F72BCB5-3858-4547-9D04-9F8BBD6FFD9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B78CA95-A4E9-41A3-AC36-73E7C33C06D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igure a Switc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69800"/>
            <a:ext cx="8145720" cy="393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frame propagation dela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n considerations for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6520" y="2230560"/>
            <a:ext cx="6421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 forwarding method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280" y="5511960"/>
            <a:ext cx="3596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Cisco specific: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640" y="1974960"/>
            <a:ext cx="8172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mmetric and asymmetric 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1800" y="2109960"/>
            <a:ext cx="6486480" cy="43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memory buffering work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76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lity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04840" y="3094200"/>
            <a:ext cx="69343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Layer 2 and Layer 3 switching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64000" y="4734000"/>
            <a:ext cx="5567400" cy="2073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2320" y="1371600"/>
            <a:ext cx="6572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ilar lik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I –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Network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wnloaded from Cisco (CCO username/password requir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i.e. reg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View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ercial,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dalone application or part of a Simple Network Management Protocol (SNMP)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De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b based; web server is part of switch 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P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ot sequence of a Cisco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 loads the b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from ROM-lik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low-level CPU initialization. It initializes the CPU registers, which control where physical memory is mapped, the quantity of memory, and its spe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power-on self-test (POST) for the CPU subsystem. It tests the CPU DRAM and the portion of the flash device that makes up the flash file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the flash file system on the system bo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s a default operating system software image into memory and boots the switch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ting syste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ds system configuration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g.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d in flas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mergency boot, password recove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into switch if operating system cannot be 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to the files stored in th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lows password recovery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lash_in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ad_hel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startup-config running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ecr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running-config startup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D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Cisco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280040" y="2006640"/>
            <a:ext cx="4813200" cy="4800240"/>
            <a:chOff x="4280040" y="2006640"/>
            <a:chExt cx="4813200" cy="48002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4280040" y="2006640"/>
              <a:ext cx="4813200" cy="22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280040" y="4281120"/>
              <a:ext cx="4813200" cy="252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160" y="2001960"/>
            <a:ext cx="4267080" cy="100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0" y="3327480"/>
            <a:ext cx="4216680" cy="11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PS LED (Redundant Power Supply) – 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87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f on, the switch is powered directly by DC (Cisco RPS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 V DC for switch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2 V DC for P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0040" y="2006640"/>
            <a:ext cx="79992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43280"/>
            <a:ext cx="111744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600" y="3289320"/>
            <a:ext cx="851040" cy="330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prepare the switch to b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84280" y="2604960"/>
            <a:ext cx="5694480" cy="369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47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basic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802.3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7360" y="2146320"/>
            <a:ext cx="822168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97040" y="4413240"/>
            <a:ext cx="7588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P adddress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ly one IP address for whol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ed with just one VLAN, no with re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1960" y="3505320"/>
            <a:ext cx="3606480" cy="31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figure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vlan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address 172.17.99.1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default gateway 172.17.9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mode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access vlan 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3495600"/>
            <a:ext cx="5499000" cy="314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44460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55200" y="1391760"/>
            <a:ext cx="848844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mple of som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ow mac address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 mac address-table cou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umber of MAC addresse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opy running-config flash:config.backu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peed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authentication enab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te access –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domain-name mydomain.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ny domain can b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ypto key generate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ssh 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iny vty 0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ransport input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42000" y="1657440"/>
            <a:ext cx="2438640" cy="1962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 address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address table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of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poofing device replies to client DHCP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fact, Man In The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HCP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tacker changes MAC addresses and exhausts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HCP snooping as a countermeasure against sp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usted access ports should not send any DHCP server respon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al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 tr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and on a trusted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P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uses information provided by th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ne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secured traffic eavesdr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e force password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D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security tools used to improve network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enetratio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source/freeware/commerci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identificati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ssigned Numbers Authority port number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services that use SSL level security, including HTTPS, SMTPS, IMAPS, and security certific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destructive and destructive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of vulner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chat mess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files from NFS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HTTP requests in Common Log Form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mail messages in Berkeley mbox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pass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captured URLs in browser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 a switched LAN with random MAC 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ge replies to DNS address / pointer qu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packets on a switched 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55200" y="39384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curit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Tools and Metho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55200" y="1392120"/>
            <a:ext cx="8488440" cy="477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t security -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oup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MAC addresses allowed on 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utdown if unauthorized MAC addresses are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MAC Addre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nning configur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port port-security mac-address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ac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ly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cky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a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running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62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78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 security viol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 source addresse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the SecurityViolation counter to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td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the interface into the error-disabled state immediately a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NMP tra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4940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cause mac-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 automatically after preset period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interval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06320" y="1361880"/>
            <a:ext cx="7940880" cy="536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rdisable detec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on for the errdisable stat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Disable Reas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-violati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-misconf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cure-viol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cast-flo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p-config-mis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ic-inval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-rate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m-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-poli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how interfaces status err-disabled (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ch local ports are in the errdisabled sta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explains how a LAN is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o consider in LAN desig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28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forward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&amp; forward – used by Cisco Cataly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rough – 2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sco specific -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80880"/>
            <a:ext cx="814572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Ethernet - category of address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elements of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82720" y="1752480"/>
            <a:ext cx="6091200" cy="3568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87600" y="5308560"/>
            <a:ext cx="414000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Multicast addresses exam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0C-CC-CC-CC (V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80-C2-00-00-00 (S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5E-xx-xx-xx (IPv4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33-33-xx-xx-xx-xx (IPv6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C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SH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collision and broadcast domai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673280"/>
            <a:ext cx="73152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interface mod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9880" y="1413000"/>
            <a:ext cx="7940880" cy="274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8040" y="4448160"/>
            <a:ext cx="7940880" cy="2098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960" y="3098880"/>
            <a:ext cx="3073320" cy="95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 interfac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witching princip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155268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5753160"/>
            <a:ext cx="4483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witch learns source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44600"/>
            <a:ext cx="814572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hared segment and switch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21314"/>
          <a:stretch/>
        </p:blipFill>
        <p:spPr>
          <a:xfrm>
            <a:off x="1217520" y="1971720"/>
            <a:ext cx="6575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73680" y="4067280"/>
            <a:ext cx="5106960" cy="2752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44240"/>
            <a:ext cx="814572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switch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600" y="1422360"/>
            <a:ext cx="4876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route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81400" y="3990960"/>
            <a:ext cx="496260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206360"/>
            <a:ext cx="4924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0T08:01:03Z</dcterms:modified>
  <cp:revision>37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