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E83725E-4280-44C8-A1D7-5D2FB71152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1EEA8A1-0A38-4A77-B16E-3C84AE10F28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9F28D53-358B-48E1-B050-7E73B004C06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( if space is an issue use the ex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2 (use example graph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6BCB332-9A0E-405C-8138-011CB8B27A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62B824D-7905-4B40-8828-A5714BF7910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cs-CZ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CE6E996-27B5-409A-A700-A89F18E3F97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9622ED-E02A-49DB-93AE-8204FF2128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AA4A3A4-DCF8-486B-9B11-7F0C4CB80E5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03732E-D2BB-4D55-94CF-8197711B001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EE6DE01-BC73-43EF-804D-0F6BE3749B2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5F69E47-AE4B-46E7-8D63-DD8DD33BF67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4969F8E-92F0-4E45-BD6A-E60082E393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9848362-E23A-4DE8-9800-7CBB2B4739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6D77944-365A-4B4A-ABA3-950561D142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41EDE27E-50E4-4408-BC20-2F907BD08D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2360" cy="3900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1240" indent="-111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BA5634A-F22E-46DD-B80C-E9BE69B048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A0A961-98A7-4527-B078-77848CD7DF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88457CB-5FC9-4ECB-A3EA-16CADCB2A4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276F997-B938-471E-B8C6-B1AB185A0E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EF96281-779D-4124-9E01-EE30A69B8B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B5305B-E9A1-4A68-87B4-9C36AC885F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5A1836C-CBD5-47C4-899D-35384F47770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26A9F56-1624-458D-9F76-D9CF3CA19DF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E36184D-0223-4D3A-AFAC-EDDEA8EEFD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listed above doesn’t make much sense to me.  I’m not sure what is wanted….I think that the objective should read something like the following “ explain the role of a trunk when using multiple VLANs in a converged network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27CBC61-B45B-4DE5-A0EB-84F158FE0B0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2E8267A-0FED-48EE-82BC-24CFCCC54C8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941B64D-BBC7-4AD0-9C67-C5A4D143BC7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MS PGothic"/>
              </a:rPr>
              <a:t>VLA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MS PGothic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Configure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Cisco IOS commands used to create a VLAN on a Cisco Catalyst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57120" y="2394000"/>
            <a:ext cx="8475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onfigur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Assign port to the VL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ourier New"/>
              </a:rPr>
              <a:t> (repeat for all needed ports or see nex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 0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tes this port as an access port and not a trunk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should be configured on all ports that the network administrat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Courier New"/>
              </a:rPr>
              <a:t>nev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does want to become a trunk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 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nges of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534520" cy="190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does not work on all switches, such as the 2900 Series X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t does work on the 2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724280" y="266688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 rot="16237200">
            <a:off x="4948920" y="160560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04920" y="3124080"/>
            <a:ext cx="8534160" cy="138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8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w students in ground floor = we need to connect both student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067360" y="5295960"/>
            <a:ext cx="3784680" cy="59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rm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“ L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4"/>
          <p:cNvSpPr/>
          <p:nvPr/>
        </p:nvSpPr>
        <p:spPr>
          <a:xfrm>
            <a:off x="520560" y="2876400"/>
            <a:ext cx="6742080" cy="4040280"/>
          </a:xfrm>
          <a:custGeom>
            <a:avLst/>
            <a:gdLst/>
            <a:ahLst/>
            <a:rect l="l" t="t" r="r" b="b"/>
            <a:pathLst>
              <a:path w="4247" h="2545">
                <a:moveTo>
                  <a:pt x="0" y="2220"/>
                </a:moveTo>
                <a:cubicBezTo>
                  <a:pt x="22" y="2058"/>
                  <a:pt x="45" y="1897"/>
                  <a:pt x="256" y="1908"/>
                </a:cubicBezTo>
                <a:cubicBezTo>
                  <a:pt x="467" y="1919"/>
                  <a:pt x="669" y="2545"/>
                  <a:pt x="1264" y="2284"/>
                </a:cubicBezTo>
                <a:cubicBezTo>
                  <a:pt x="1859" y="2023"/>
                  <a:pt x="3401" y="680"/>
                  <a:pt x="3824" y="340"/>
                </a:cubicBezTo>
                <a:cubicBezTo>
                  <a:pt x="4247" y="0"/>
                  <a:pt x="3800" y="255"/>
                  <a:pt x="3800" y="2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ou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453960" y="2414520"/>
            <a:ext cx="8223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63680" y="2390760"/>
            <a:ext cx="8226360" cy="441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5100480" y="204840"/>
            <a:ext cx="3992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68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Trunk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ow a trunk 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797400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 remark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0040" y="1916280"/>
            <a:ext cx="86202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 meaning of VLA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N1 plays roles after start (out-of-the-box)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aul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ports are primarily VLAN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re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rves for L2 management traffic -  CDP, old STP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remark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30040" y="1916280"/>
            <a:ext cx="862020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unk as Inter-Switch Lin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55560" y="2568600"/>
          <a:ext cx="7940880" cy="2455920"/>
        </p:xfrm>
        <a:graphic>
          <a:graphicData uri="http://schemas.openxmlformats.org/drawingml/2006/table">
            <a:tbl>
              <a:tblPr/>
              <a:tblGrid>
                <a:gridCol w="2646360"/>
                <a:gridCol w="2184480"/>
                <a:gridCol w="3110040"/>
              </a:tblGrid>
              <a:tr h="554040"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Switch Link (IS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 header encapsulates the LAN frame and there is a VLAN ID field in the ISL h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defined Ethernet VLAN prot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3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SL vs. 802.1q Frame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092240" y="2257560"/>
            <a:ext cx="7308720" cy="3273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745320" y="1585800"/>
            <a:ext cx="1035000" cy="4114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7165800" y="2130480"/>
            <a:ext cx="0" cy="58572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 flipV="1">
            <a:off x="2716200" y="3906360"/>
            <a:ext cx="99684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37800" bIns="-37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802.1q Tagging detail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1880" y="2054160"/>
            <a:ext cx="616428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1806480" y="205416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203640" y="205092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3878280" y="20480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5935680" y="207000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7440" y="216864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198520" y="216684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243240" y="22129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4479120" y="220356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891760" y="2205000"/>
            <a:ext cx="772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840000" y="2216160"/>
            <a:ext cx="2079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igin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469800" y="3417840"/>
            <a:ext cx="719784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814400" y="34178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4255920" y="339732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0"/>
          <p:cNvSpPr/>
          <p:nvPr/>
        </p:nvSpPr>
        <p:spPr>
          <a:xfrm>
            <a:off x="4930920" y="339408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698832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765360" y="353232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206800" y="353052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4295880" y="35593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5531400" y="354960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6984720" y="3471840"/>
            <a:ext cx="675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>
            <a:off x="319716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359880" y="3565440"/>
            <a:ext cx="689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 flipH="1">
            <a:off x="5938560" y="2065320"/>
            <a:ext cx="687240" cy="66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5927760" y="2054160"/>
            <a:ext cx="677880" cy="67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817640" y="284004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206880" y="286236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3273480" y="28638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3970440" y="28494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6033960" y="283536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1122480" y="5459400"/>
            <a:ext cx="550836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3882960" y="5367240"/>
            <a:ext cx="0" cy="80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>
            <a:off x="5249880" y="59166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>
            <a:off x="5946840" y="597852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>
            <a:off x="4567320" y="54500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6265800" y="59752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5"/>
          <p:cNvSpPr/>
          <p:nvPr/>
        </p:nvSpPr>
        <p:spPr>
          <a:xfrm>
            <a:off x="642924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>
            <a:off x="609588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7"/>
          <p:cNvSpPr/>
          <p:nvPr/>
        </p:nvSpPr>
        <p:spPr>
          <a:xfrm>
            <a:off x="5618160" y="59832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8"/>
          <p:cNvSpPr/>
          <p:nvPr/>
        </p:nvSpPr>
        <p:spPr>
          <a:xfrm>
            <a:off x="578160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9"/>
          <p:cNvSpPr/>
          <p:nvPr/>
        </p:nvSpPr>
        <p:spPr>
          <a:xfrm>
            <a:off x="544824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0"/>
          <p:cNvSpPr/>
          <p:nvPr/>
        </p:nvSpPr>
        <p:spPr>
          <a:xfrm>
            <a:off x="4911840" y="59770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1"/>
          <p:cNvSpPr/>
          <p:nvPr/>
        </p:nvSpPr>
        <p:spPr>
          <a:xfrm>
            <a:off x="507528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2"/>
          <p:cNvSpPr/>
          <p:nvPr/>
        </p:nvSpPr>
        <p:spPr>
          <a:xfrm>
            <a:off x="47419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4375080" y="545796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40417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4205160" y="59706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>
            <a:off x="4281480" y="4226040"/>
            <a:ext cx="2270160" cy="9046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0"/>
          <p:cNvSpPr/>
          <p:nvPr/>
        </p:nvSpPr>
        <p:spPr>
          <a:xfrm flipH="1">
            <a:off x="1206000" y="4206960"/>
            <a:ext cx="1992600" cy="9810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1108080" y="5584680"/>
            <a:ext cx="2840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thertype (0x8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2"/>
          <p:cNvSpPr/>
          <p:nvPr/>
        </p:nvSpPr>
        <p:spPr>
          <a:xfrm>
            <a:off x="3840120" y="5622840"/>
            <a:ext cx="5886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4572000" y="6299280"/>
            <a:ext cx="3259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onical Format Identif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1737360" y="5051520"/>
            <a:ext cx="1751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Protoco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5"/>
          <p:cNvSpPr/>
          <p:nvPr/>
        </p:nvSpPr>
        <p:spPr>
          <a:xfrm>
            <a:off x="3975120" y="5032440"/>
            <a:ext cx="25621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Contr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4853880" y="5546880"/>
            <a:ext cx="1348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8"/>
          <p:cNvSpPr/>
          <p:nvPr/>
        </p:nvSpPr>
        <p:spPr>
          <a:xfrm>
            <a:off x="7807320" y="3376440"/>
            <a:ext cx="1196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ge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9"/>
          <p:cNvSpPr/>
          <p:nvPr/>
        </p:nvSpPr>
        <p:spPr>
          <a:xfrm>
            <a:off x="4313160" y="5452920"/>
            <a:ext cx="2556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EE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802.1Q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186840" indent="-18684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-byte t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eader containing a tag protocol identifier (TPID) and tag control information (TCI) with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ype/Lenght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2-byte TPID with a fixed value of 0x81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value indicates that the frame carries the 802.1Q/802.1p ta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CI containing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-bit user prio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8 priority levels, 0 thru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ne-bit canonical format (CFI indicato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0 = canonical, 1 = noncanonical, to signal bit order in the encapsulated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elve-bit VLAN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quely identifies the VLAN to which the frame belongs, defining 4,096 VLANs, with 0 and 4095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ing Trunking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witchA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802.1.Q trunk and SwitchB can be either ISL or 8021.Q trunk, configure SwitchB to be 802.1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witches that supp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2.1Q and ISL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trunk encaps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must be d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15320" cy="1447560"/>
          </a:xfrm>
          <a:prstGeom prst="rect">
            <a:avLst/>
          </a:prstGeom>
          <a:ln w="0">
            <a:noFill/>
          </a:ln>
        </p:spPr>
      </p:pic>
      <p:sp>
        <p:nvSpPr>
          <p:cNvPr id="293" name="Line 5"/>
          <p:cNvSpPr/>
          <p:nvPr/>
        </p:nvSpPr>
        <p:spPr>
          <a:xfrm flipV="1">
            <a:off x="2971800" y="190476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 flipV="1">
            <a:off x="6095880" y="1904760"/>
            <a:ext cx="0" cy="152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76320" y="2895480"/>
            <a:ext cx="5181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A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600200" y="3429000"/>
            <a:ext cx="7467480" cy="70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trunk encapsulation dot1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886200" y="1371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7524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02.1Q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943600" y="1143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ISL and 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Switch port trunking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5560" y="1226880"/>
            <a:ext cx="794088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witch port trunking m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839880" y="1666800"/>
            <a:ext cx="785484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onditional trunking st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ways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tempts to persuade peer to become acces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tively attempts to create trunk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ording peer wish can become trunk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f no explicit wish, both rem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no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ess or trunk, no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394920"/>
            <a:ext cx="8458200" cy="5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ive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30040" y="1305000"/>
            <a:ext cx="862020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)#int fa0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-if)#switchport trunk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vlan 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tive VLAN mismatch – different native VLAN ID on both ends of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DP-4-NATIVE_VLAN_MISMATCH: Native VLAN mismatch discovered on FastEthernet0/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 with sw1 FastEthernet0/13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2"/>
          <a:stretch/>
        </p:blipFill>
        <p:spPr>
          <a:xfrm>
            <a:off x="1219320" y="2776680"/>
            <a:ext cx="6476760" cy="40813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5200" y="202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 brief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6896160" cy="261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Delet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4952520"/>
            <a:ext cx="8610840" cy="175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no switchport access vla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lan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will reset the interface to VL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VLAN 1 cannot be removed from the swit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96160" cy="1371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066680" y="3648240"/>
            <a:ext cx="6896160" cy="618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09480" y="9907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09480" y="31240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le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1774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ing/Managing 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90808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Address, Subnet Mask, and Default Gateway on a switch is for the same purposes as when you configure it for 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dres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management purpose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oes not affect the Layer 2 switching operations of the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must be configured with a vty login/password and a privileged password for telnet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VLAN 1 is the “management VL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ment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hould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1219320"/>
            <a:ext cx="853416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v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0.1.0.5.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default-gateway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84760"/>
            <a:ext cx="814572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Broadcast Domai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, 3 Switches,</a:t>
            </a:r>
            <a:br>
              <a:rPr sz="3200"/>
            </a:b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LANs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991120" y="1819440"/>
            <a:ext cx="3044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assical configur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withou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switch which serves all its nodes as one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IP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ticular networks are separat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connected by router with as many interfaces as number of department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85680" y="2298600"/>
            <a:ext cx="58165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5200" y="29196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72320" cy="47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able secre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 vty 0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lan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5.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 shut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default-gatew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MS PGothic"/>
              </a:rPr>
              <a:t>Troubleshoot Common Software or Hardware Misconfigurations Associated with VLA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146240" y="1471680"/>
            <a:ext cx="72342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19044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Erasing VLAN inform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mmunication with its neighbors should be 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information is kept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not erased when erasing the startup-conf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all VLAN information, use the command above and reload the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4920" y="1219320"/>
            <a:ext cx="853416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1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 fl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an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ilename [vlan.dat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lash:vlan.dat? [confi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ase startup-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34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34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 introduc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provide segmentation based on broadcast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 =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can logically segment switched networks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location (Example: Bui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 (Example: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(Example: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8760" y="276840"/>
            <a:ext cx="873468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Broadcast Domains,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 Switch,</a:t>
            </a:r>
            <a:br>
              <a:rPr sz="3200"/>
            </a:b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0" t="3068" r="0" b="0"/>
          <a:stretch/>
        </p:blipFill>
        <p:spPr>
          <a:xfrm>
            <a:off x="95400" y="2182680"/>
            <a:ext cx="5767200" cy="4023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0280" y="3097080"/>
            <a:ext cx="2808360" cy="28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same need solved by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hare one common switch, but it it divided into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unication among VLANs provides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numbering (Cisco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401840"/>
            <a:ext cx="84931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 I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and 4095 reserved for sy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2 – 1005 Reserved for Token Ring and FDDI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ile in 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tended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ed for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ewer options than normal range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running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me switches (2960) supports only 255 VLA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port membershi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VLAN port membe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ssign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ault is VLAN 1 – initially consists all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500040" y="2941560"/>
            <a:ext cx="8232840" cy="3241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280120" y="3209760"/>
            <a:ext cx="13935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C 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194680" cy="82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Switches and Route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453960" y="2502000"/>
            <a:ext cx="82994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093160" cy="126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VLANs and Layer 3 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more details: see CCNP SWITCH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47840" y="3159000"/>
            <a:ext cx="8219880" cy="3365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578640" y="2502000"/>
            <a:ext cx="2438280" cy="123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6760" indent="-266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d for a specific V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2-26T15:54:28Z</dcterms:modified>
  <cp:revision>41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