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4D0EB73-EA71-403D-BCEC-04B7FA561AA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A096A13-8011-48C7-90BA-ACF7C7D079C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85BEAAB-04D5-4F07-B8F7-865736727B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9C1F445-C189-44BD-98C7-6212CE0042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955A2F0-7519-4ABB-B753-4B1E516BF0B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D771D54-99EA-4C2B-AAA3-17FEA1D1E5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DA873CC-A523-44AF-ABB3-08BBB3121DB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A0B0199-AFEB-4363-9921-8754767F7A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3BD4088-83C9-488A-A94B-F38A277F4D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4EF5DDB-F175-4409-87D1-0D6C037C53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A86CDA5-EB26-44FE-96CC-CBBBA86B58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F7C6A2B-AE52-42E2-9F4A-6C720501F0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FDF2C77-90AD-42E5-8C80-7AE4BC10C2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9B8B30F-6108-4520-895E-9DECE5A3C86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E6DE82C-56D4-44E2-A652-09989E22E71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ACF770A-CDC0-4A24-A4F7-4B77CBEDC8F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Obdélník 1"/>
          <p:cNvSpPr/>
          <p:nvPr/>
        </p:nvSpPr>
        <p:spPr>
          <a:xfrm>
            <a:off x="136440" y="198108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mod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domain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is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password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Vtp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443480" y="3720960"/>
            <a:ext cx="4680000" cy="31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0" y="1357200"/>
            <a:ext cx="4680000" cy="3116520"/>
          </a:xfrm>
          <a:prstGeom prst="rect">
            <a:avLst/>
          </a:prstGeom>
          <a:ln w="0">
            <a:noFill/>
          </a:ln>
        </p:spPr>
      </p:pic>
      <p:sp>
        <p:nvSpPr>
          <p:cNvPr id="201" name="TextovéPole 1"/>
          <p:cNvSpPr/>
          <p:nvPr/>
        </p:nvSpPr>
        <p:spPr>
          <a:xfrm>
            <a:off x="-4680" y="1461960"/>
            <a:ext cx="142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8"/>
          <p:cNvSpPr/>
          <p:nvPr/>
        </p:nvSpPr>
        <p:spPr>
          <a:xfrm>
            <a:off x="3021120" y="5278320"/>
            <a:ext cx="142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aoblený obdélník 2"/>
          <p:cNvSpPr/>
          <p:nvPr/>
        </p:nvSpPr>
        <p:spPr>
          <a:xfrm>
            <a:off x="4680000" y="447372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aoblený obdélník 10"/>
          <p:cNvSpPr/>
          <p:nvPr/>
        </p:nvSpPr>
        <p:spPr>
          <a:xfrm>
            <a:off x="5369040" y="542916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nice 12"/>
          <p:cNvSpPr/>
          <p:nvPr/>
        </p:nvSpPr>
        <p:spPr>
          <a:xfrm flipV="1">
            <a:off x="5892840" y="460224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římá spojnice 21"/>
          <p:cNvSpPr/>
          <p:nvPr/>
        </p:nvSpPr>
        <p:spPr>
          <a:xfrm>
            <a:off x="5919840" y="460548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nice 31"/>
          <p:cNvSpPr/>
          <p:nvPr/>
        </p:nvSpPr>
        <p:spPr>
          <a:xfrm flipV="1">
            <a:off x="6508800" y="55177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římá spojnice 32"/>
          <p:cNvSpPr/>
          <p:nvPr/>
        </p:nvSpPr>
        <p:spPr>
          <a:xfrm>
            <a:off x="6535800" y="55213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23"/>
          <p:cNvSpPr/>
          <p:nvPr/>
        </p:nvSpPr>
        <p:spPr>
          <a:xfrm>
            <a:off x="5291280" y="1077840"/>
            <a:ext cx="3798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an lim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, multicast, and unknown unicast traffic across trunk links within a VTP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 -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délník 1"/>
          <p:cNvSpPr/>
          <p:nvPr/>
        </p:nvSpPr>
        <p:spPr>
          <a:xfrm>
            <a:off x="136440" y="1598760"/>
            <a:ext cx="900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 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)# interface fastEthernet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-if)# switchport trunk pruning vla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78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- 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2585880"/>
            <a:ext cx="794088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mpatible VTP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TP Passwor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rrect VTP Mod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witches set to VTP Clien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25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26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Oval 9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IEEE Alterna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55560" y="1733400"/>
            <a:ext cx="794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GARP VLAN Registration Protocol (G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Legacy 802.1D based on GAR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VLAN Registration Protocol (M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ndment to 802.1Q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838080" y="1484280"/>
            <a:ext cx="728676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477120" y="157644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s 1, 2, 3 (additional mode - O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204840" y="6346800"/>
            <a:ext cx="871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ernet SNAP (Sub Network Access Protocol) – based on ISO/IEC TR 1180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aoblený obdélník 1"/>
          <p:cNvSpPr/>
          <p:nvPr/>
        </p:nvSpPr>
        <p:spPr>
          <a:xfrm>
            <a:off x="109440" y="4367160"/>
            <a:ext cx="2197080" cy="7509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27:41Z</dcterms:modified>
  <cp:revision>36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