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5C9D98A-6722-42C7-874A-C0E8E17AA56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8FB5599-CB37-4525-AA2A-4171000C01E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71BAC9E-B603-40DE-8C47-14FEC705591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1BE4D42-7CB9-4996-974C-07A79EBA321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Inter-VLAN Rou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80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81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71520" y="2271600"/>
            <a:ext cx="6537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17560" y="2728800"/>
            <a:ext cx="72151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55560" y="1536480"/>
            <a:ext cx="7940880" cy="741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anoth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74560" y="2347920"/>
            <a:ext cx="8283600" cy="4429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ter-VLAN routing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router on a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9720" y="2254320"/>
            <a:ext cx="72356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9120" y="2692440"/>
            <a:ext cx="8923320" cy="4165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037040" y="3557520"/>
            <a:ext cx="297000" cy="289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7040" y="4176720"/>
            <a:ext cx="297000" cy="289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mon Inter-VLAN Connectivity Issues Troubleshoot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configuration 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08160" y="2577960"/>
            <a:ext cx="6769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is the process of routing information between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requires the use of a router or a layer 3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ultiple router interfaces that are each connected to separate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044360"/>
            <a:ext cx="7940880" cy="5422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on a st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inter-VLAN routing topology that uses  router sub interfaces connected to a layer 2 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interface must be configure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VLA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of inter 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connected to router with correct V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each router subinterface with the correct IP address &amp; VLA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configuration on switch and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4-03-11T15:43:12Z</dcterms:modified>
  <cp:revision>330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