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168BFD5-346D-4528-A5E4-FE0F328BF4F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C5E31DD-176C-4B70-B061-D60D4173135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081DED2-1B57-4A75-89FA-51010455679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( if space is an issue use the ex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2 (use example graph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C98F0A1-D426-48D4-8C63-8208D546A7A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82DD731-7B87-486F-922A-AE4157E0C2D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cs-CZ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22ADE51-1A7B-4279-A1F3-D8B1A2DE3DA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1D5411B-673D-41B4-BED6-4E270F237E1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D3BA603-9F6F-4FAA-B479-1E75329747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9C5A71B-C253-4AB8-A3A3-0A840DEB73F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3EBD84A-34EA-406A-AEAF-7DE27635515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024D641-4698-4D81-A03B-60CFDA92B4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20B54BA-66D0-41C7-862C-95A3654E850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FC4238F-C56A-4F2F-9C97-2D946B976EE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EF384D6-BC5D-4B3C-854A-E061CD4D1B0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2C06DA82-9F01-4F28-9746-ADAB9806917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2360" cy="3900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1240" indent="-111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76B984C-FCBF-42D3-B9F0-004E82486E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7E9E314-D386-4C59-8B96-E6328485E06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032979B-0384-4517-9139-2A1049FE4F3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23BA6D2-7DCC-40F3-BA69-654D45B4AE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667903C-EAF2-4B76-9C70-053FF8C19A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B4A7267-F5AF-49BD-9486-BEC1F480F69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44E3AB5-C5D9-428A-AA97-3EEC0C58300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201DED8-F30D-46FD-AB04-216E70167F0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ABF6A66-6E44-4541-A2A1-A8EEA0575CE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listed above doesn’t make much sense to me.  I’m not sure what is wanted….I think that the objective should read something like the following “ explain the role of a trunk when using multiple VLANs in a converged network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819513F-FBC5-49D3-9B5C-C7E724E5281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4BC9591-E4BA-40FF-9EB6-DCCBC6F138E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89754F4-616F-4F8A-8F4E-BEF2DD01444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MS PGothic"/>
              </a:rPr>
              <a:t>VLAN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MS PGothic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Configure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Cisco IOS commands used to create a VLAN on a Cisco Catalyst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57120" y="2394000"/>
            <a:ext cx="8475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onfigur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Assign port to the VL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Courier New"/>
              </a:rPr>
              <a:t> (repeat for all needed ports or see nex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 0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access vlan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otes this port as an access port and not a trunk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should be configured on all ports that the network administrat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Courier New"/>
              </a:rPr>
              <a:t>nev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does want to become a trunk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3"/>
          <p:cNvSpPr/>
          <p:nvPr/>
        </p:nvSpPr>
        <p:spPr>
          <a:xfrm>
            <a:off x="4267080" y="2590920"/>
            <a:ext cx="685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 rot="16237200">
            <a:off x="3162960" y="1481400"/>
            <a:ext cx="299880" cy="1908000"/>
          </a:xfrm>
          <a:custGeom>
            <a:avLst/>
            <a:gdLst>
              <a:gd name="textAreaLeft" fmla="*/ 191520 w 299880"/>
              <a:gd name="textAreaRight" fmla="*/ 300240 w 299880"/>
              <a:gd name="textAreaTop" fmla="*/ 49680 h 1908000"/>
              <a:gd name="textAreaBottom" fmla="*/ 1858320 h 19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666880" y="261936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16237200">
            <a:off x="5259960" y="1968840"/>
            <a:ext cx="299880" cy="914400"/>
          </a:xfrm>
          <a:custGeom>
            <a:avLst/>
            <a:gdLst>
              <a:gd name="textAreaLeft" fmla="*/ 191520 w 299880"/>
              <a:gd name="textAreaRight" fmla="*/ 300240 w 299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181480" y="259092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6237200">
            <a:off x="4485240" y="2206800"/>
            <a:ext cx="299880" cy="457200"/>
          </a:xfrm>
          <a:custGeom>
            <a:avLst/>
            <a:gdLst>
              <a:gd name="textAreaLeft" fmla="*/ 191520 w 299880"/>
              <a:gd name="textAreaRight" fmla="*/ 300240 w 299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figur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 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nges of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4647960"/>
            <a:ext cx="8534520" cy="1904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is command does not work on all switches, such as the 2900 Series X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t does work on the 2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4724280" y="266688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 rot="16237200">
            <a:off x="4948920" y="160560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04920" y="3124080"/>
            <a:ext cx="8534160" cy="138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range fastethernet 0/8 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access vla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1141560" y="2232000"/>
            <a:ext cx="7529400" cy="3930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w students in ground floor = we need to connect both student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067360" y="5295960"/>
            <a:ext cx="3784680" cy="59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rm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“ L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4"/>
          <p:cNvSpPr/>
          <p:nvPr/>
        </p:nvSpPr>
        <p:spPr>
          <a:xfrm>
            <a:off x="520560" y="2876400"/>
            <a:ext cx="6742080" cy="4040280"/>
          </a:xfrm>
          <a:custGeom>
            <a:avLst/>
            <a:gdLst/>
            <a:ahLst/>
            <a:rect l="l" t="t" r="r" b="b"/>
            <a:pathLst>
              <a:path w="4247" h="2545">
                <a:moveTo>
                  <a:pt x="0" y="2220"/>
                </a:moveTo>
                <a:cubicBezTo>
                  <a:pt x="22" y="2058"/>
                  <a:pt x="45" y="1897"/>
                  <a:pt x="256" y="1908"/>
                </a:cubicBezTo>
                <a:cubicBezTo>
                  <a:pt x="467" y="1919"/>
                  <a:pt x="669" y="2545"/>
                  <a:pt x="1264" y="2284"/>
                </a:cubicBezTo>
                <a:cubicBezTo>
                  <a:pt x="1859" y="2023"/>
                  <a:pt x="3401" y="680"/>
                  <a:pt x="3824" y="340"/>
                </a:cubicBezTo>
                <a:cubicBezTo>
                  <a:pt x="4247" y="0"/>
                  <a:pt x="3800" y="255"/>
                  <a:pt x="3800" y="2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0000" y="1684440"/>
            <a:ext cx="7940520" cy="427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ple VLAN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out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453960" y="2414520"/>
            <a:ext cx="82234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463680" y="2390760"/>
            <a:ext cx="8226360" cy="4411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30000" y="1684440"/>
            <a:ext cx="7940520" cy="427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ple VLAN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2"/>
          <a:stretch/>
        </p:blipFill>
        <p:spPr>
          <a:xfrm>
            <a:off x="5100480" y="204840"/>
            <a:ext cx="39927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6840"/>
            <a:ext cx="8145720" cy="68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Trunking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ow a trunk 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720720" y="1768320"/>
            <a:ext cx="797400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769680"/>
            <a:ext cx="8145720" cy="52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 remark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0040" y="1916280"/>
            <a:ext cx="862020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 meaning of VLA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N1 plays roles after start (out-of-the-box)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ault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gement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ports are primarily VLAN1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not b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not be re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rves for L2 management traffic -  CDP, old STP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5200" y="769680"/>
            <a:ext cx="8145720" cy="52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s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remark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30040" y="1916280"/>
            <a:ext cx="862020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rames are untagged on Cisco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fram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agged frame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e forwar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ault native VLAN is VL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runk as Inter-Switch Lin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55560" y="2568600"/>
          <a:ext cx="7940880" cy="2455920"/>
        </p:xfrm>
        <a:graphic>
          <a:graphicData uri="http://schemas.openxmlformats.org/drawingml/2006/table">
            <a:tbl>
              <a:tblPr/>
              <a:tblGrid>
                <a:gridCol w="2646360"/>
                <a:gridCol w="2184480"/>
                <a:gridCol w="3110040"/>
              </a:tblGrid>
              <a:tr h="554040"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-Switch Link (IS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Eth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 header encapsulates the LAN frame and there is a VLAN ID field in the ISL h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Eth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defined Ethernet VLAN proto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30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1141560" y="2232000"/>
            <a:ext cx="7529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SL vs. 802.1q Frame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1092240" y="2257560"/>
            <a:ext cx="7308720" cy="3273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745320" y="1585800"/>
            <a:ext cx="1035000" cy="4114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7165800" y="2130480"/>
            <a:ext cx="0" cy="585720"/>
          </a:xfrm>
          <a:prstGeom prst="line">
            <a:avLst/>
          </a:prstGeom>
          <a:ln w="93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 flipV="1">
            <a:off x="2716200" y="3906360"/>
            <a:ext cx="99684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37800" bIns="-37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802.1q Tagging detail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1880" y="2054160"/>
            <a:ext cx="616428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1806480" y="205416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3203640" y="2050920"/>
            <a:ext cx="0" cy="69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3878280" y="204804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5935680" y="2070000"/>
            <a:ext cx="0" cy="69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57440" y="2168640"/>
            <a:ext cx="79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198520" y="2166840"/>
            <a:ext cx="622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243240" y="2212920"/>
            <a:ext cx="605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4479120" y="2203560"/>
            <a:ext cx="80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5891760" y="2205000"/>
            <a:ext cx="772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840000" y="2216160"/>
            <a:ext cx="20790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igin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469800" y="3417840"/>
            <a:ext cx="719784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814400" y="341784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"/>
          <p:cNvSpPr/>
          <p:nvPr/>
        </p:nvSpPr>
        <p:spPr>
          <a:xfrm>
            <a:off x="4255920" y="339732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0"/>
          <p:cNvSpPr/>
          <p:nvPr/>
        </p:nvSpPr>
        <p:spPr>
          <a:xfrm>
            <a:off x="4930920" y="339408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1"/>
          <p:cNvSpPr/>
          <p:nvPr/>
        </p:nvSpPr>
        <p:spPr>
          <a:xfrm>
            <a:off x="6988320" y="341640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765360" y="3532320"/>
            <a:ext cx="79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2206800" y="3530520"/>
            <a:ext cx="622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4295880" y="3559320"/>
            <a:ext cx="605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5531400" y="3549600"/>
            <a:ext cx="80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6984720" y="3471840"/>
            <a:ext cx="675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>
            <a:off x="3197160" y="341640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359880" y="3565440"/>
            <a:ext cx="689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0"/>
          <p:cNvSpPr/>
          <p:nvPr/>
        </p:nvSpPr>
        <p:spPr>
          <a:xfrm flipH="1">
            <a:off x="5938560" y="2065320"/>
            <a:ext cx="687240" cy="66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>
            <a:off x="5927760" y="2054160"/>
            <a:ext cx="677880" cy="67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817640" y="2840040"/>
            <a:ext cx="0" cy="461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3206880" y="2862360"/>
            <a:ext cx="0" cy="461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3273480" y="286380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3970440" y="284940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6033960" y="283536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1122480" y="5459400"/>
            <a:ext cx="550836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0"/>
          <p:cNvSpPr/>
          <p:nvPr/>
        </p:nvSpPr>
        <p:spPr>
          <a:xfrm>
            <a:off x="3882960" y="5367240"/>
            <a:ext cx="0" cy="80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1"/>
          <p:cNvSpPr/>
          <p:nvPr/>
        </p:nvSpPr>
        <p:spPr>
          <a:xfrm>
            <a:off x="5249880" y="59166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2"/>
          <p:cNvSpPr/>
          <p:nvPr/>
        </p:nvSpPr>
        <p:spPr>
          <a:xfrm>
            <a:off x="5946840" y="597852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3"/>
          <p:cNvSpPr/>
          <p:nvPr/>
        </p:nvSpPr>
        <p:spPr>
          <a:xfrm>
            <a:off x="4567320" y="54500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6265800" y="597528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5"/>
          <p:cNvSpPr/>
          <p:nvPr/>
        </p:nvSpPr>
        <p:spPr>
          <a:xfrm>
            <a:off x="6429240" y="59720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>
            <a:off x="6095880" y="59720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7"/>
          <p:cNvSpPr/>
          <p:nvPr/>
        </p:nvSpPr>
        <p:spPr>
          <a:xfrm>
            <a:off x="5618160" y="598320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8"/>
          <p:cNvSpPr/>
          <p:nvPr/>
        </p:nvSpPr>
        <p:spPr>
          <a:xfrm>
            <a:off x="5781600" y="5979960"/>
            <a:ext cx="0" cy="18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9"/>
          <p:cNvSpPr/>
          <p:nvPr/>
        </p:nvSpPr>
        <p:spPr>
          <a:xfrm>
            <a:off x="5448240" y="5979960"/>
            <a:ext cx="0" cy="18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0"/>
          <p:cNvSpPr/>
          <p:nvPr/>
        </p:nvSpPr>
        <p:spPr>
          <a:xfrm>
            <a:off x="4911840" y="597708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1"/>
          <p:cNvSpPr/>
          <p:nvPr/>
        </p:nvSpPr>
        <p:spPr>
          <a:xfrm>
            <a:off x="507528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2"/>
          <p:cNvSpPr/>
          <p:nvPr/>
        </p:nvSpPr>
        <p:spPr>
          <a:xfrm>
            <a:off x="474192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4375080" y="545796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404172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8"/>
          <p:cNvSpPr/>
          <p:nvPr/>
        </p:nvSpPr>
        <p:spPr>
          <a:xfrm>
            <a:off x="4205160" y="597060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9"/>
          <p:cNvSpPr/>
          <p:nvPr/>
        </p:nvSpPr>
        <p:spPr>
          <a:xfrm>
            <a:off x="4281480" y="4226040"/>
            <a:ext cx="2270160" cy="9046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0"/>
          <p:cNvSpPr/>
          <p:nvPr/>
        </p:nvSpPr>
        <p:spPr>
          <a:xfrm flipH="1">
            <a:off x="1206000" y="4206960"/>
            <a:ext cx="1992600" cy="9810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1108080" y="5584680"/>
            <a:ext cx="2840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thertype (0x8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2"/>
          <p:cNvSpPr/>
          <p:nvPr/>
        </p:nvSpPr>
        <p:spPr>
          <a:xfrm>
            <a:off x="3840120" y="5622840"/>
            <a:ext cx="5886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3"/>
          <p:cNvSpPr/>
          <p:nvPr/>
        </p:nvSpPr>
        <p:spPr>
          <a:xfrm>
            <a:off x="4572000" y="6299280"/>
            <a:ext cx="3259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nonical Format Identif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4"/>
          <p:cNvSpPr/>
          <p:nvPr/>
        </p:nvSpPr>
        <p:spPr>
          <a:xfrm>
            <a:off x="1737360" y="5051520"/>
            <a:ext cx="1751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g Protocol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5"/>
          <p:cNvSpPr/>
          <p:nvPr/>
        </p:nvSpPr>
        <p:spPr>
          <a:xfrm>
            <a:off x="3975120" y="5032440"/>
            <a:ext cx="25621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g Contr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7"/>
          <p:cNvSpPr/>
          <p:nvPr/>
        </p:nvSpPr>
        <p:spPr>
          <a:xfrm>
            <a:off x="4853880" y="5546880"/>
            <a:ext cx="1348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A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8"/>
          <p:cNvSpPr/>
          <p:nvPr/>
        </p:nvSpPr>
        <p:spPr>
          <a:xfrm>
            <a:off x="7807320" y="3376440"/>
            <a:ext cx="1196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gge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9"/>
          <p:cNvSpPr/>
          <p:nvPr/>
        </p:nvSpPr>
        <p:spPr>
          <a:xfrm>
            <a:off x="4313160" y="5452920"/>
            <a:ext cx="2556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EEE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 802.1Q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marL="186840" indent="-18684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-byte t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header containing a tag protocol identifier (TPID) and tag control information (TCI) with the following eleme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ype/Lenght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2-byte TPID with a fixed value of 0x81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value indicates that the frame carries the 802.1Q/802.1p ta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CI containing the following eleme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-bit user prio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8 priority levels, 0 thru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ne-bit canonical format (CFI indicato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0 = canonical, 1 = noncanonical, to signal bit order in the encapsulated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elve-bit VLAN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quely identifies the VLAN to which the frame belongs, defining 4,096 VLANs, with 0 and 4095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200" y="45684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figuring Trunking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4495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witchA c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802.1.Q trunk and SwitchB can be either ISL or 8021.Q trunk, configure SwitchB to be 802.1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witches that supp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2.1Q and ISL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port trunk encaps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must be d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15320" cy="1447560"/>
          </a:xfrm>
          <a:prstGeom prst="rect">
            <a:avLst/>
          </a:prstGeom>
          <a:ln w="0">
            <a:noFill/>
          </a:ln>
        </p:spPr>
      </p:pic>
      <p:sp>
        <p:nvSpPr>
          <p:cNvPr id="293" name="Line 5"/>
          <p:cNvSpPr/>
          <p:nvPr/>
        </p:nvSpPr>
        <p:spPr>
          <a:xfrm flipV="1">
            <a:off x="2971800" y="190476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 flipV="1">
            <a:off x="6095880" y="1904760"/>
            <a:ext cx="0" cy="1523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76320" y="2895480"/>
            <a:ext cx="51814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A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600200" y="3429000"/>
            <a:ext cx="7467480" cy="70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B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trunk encapsulation dot1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B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886200" y="1371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7524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02.1Q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943600" y="1143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ISL and 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Switch port trunking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5560" y="1226880"/>
            <a:ext cx="794088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witch port trunking m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839880" y="1666800"/>
            <a:ext cx="785484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onditional trunking st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ways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tempts to persuade peer to become acces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dynamic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tively attempts to create trunk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dynamic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ording peer wish can become trunk 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f no explicit wish, both remai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nonego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ess or trunk, no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394920"/>
            <a:ext cx="8458200" cy="56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ive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30040" y="1305000"/>
            <a:ext cx="862020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rames are untagged on Cisco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fram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agged frame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e forwar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w(config)#int fa0/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w(config-if)#switchport trunk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native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vlan 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tive VLAN mismatch – different native VLAN ID on both ends of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CDP-4-NATIVE_VLAN_MISMATCH: Native VLAN mismatch discovered on FastEthernet0/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 with sw1 FastEthernet0/13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ault native VLAN is VL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5200" y="1900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rifying VLANs – show v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4724280" y="236232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 rot="16237200">
            <a:off x="4948920" y="130068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505320" y="236232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/>
          <p:cNvSpPr/>
          <p:nvPr/>
        </p:nvSpPr>
        <p:spPr>
          <a:xfrm rot="16237200">
            <a:off x="3693240" y="1636920"/>
            <a:ext cx="385560" cy="9144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2"/>
          <a:stretch/>
        </p:blipFill>
        <p:spPr>
          <a:xfrm>
            <a:off x="1219320" y="2776680"/>
            <a:ext cx="6476760" cy="40813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0"/>
          <p:cNvSpPr/>
          <p:nvPr/>
        </p:nvSpPr>
        <p:spPr>
          <a:xfrm>
            <a:off x="2286000" y="228600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1"/>
          <p:cNvSpPr/>
          <p:nvPr/>
        </p:nvSpPr>
        <p:spPr>
          <a:xfrm rot="16237200">
            <a:off x="2586600" y="1526040"/>
            <a:ext cx="385560" cy="11430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5200" y="202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rifying VLANs – show vlan brief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4724280" y="236232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 rot="16237200">
            <a:off x="4948920" y="130068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505320" y="236232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 rot="16237200">
            <a:off x="3693240" y="1636920"/>
            <a:ext cx="385560" cy="9144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6896160" cy="261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0"/>
          <p:cNvSpPr/>
          <p:nvPr/>
        </p:nvSpPr>
        <p:spPr>
          <a:xfrm>
            <a:off x="2286000" y="228600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 rot="16237200">
            <a:off x="2586600" y="1526040"/>
            <a:ext cx="385560" cy="11430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5200" y="190080"/>
            <a:ext cx="8145720" cy="58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Deleting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4952520"/>
            <a:ext cx="8610840" cy="1752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no switchport access vla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lan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is command will reset the interface to VL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VLAN 1 cannot be removed from the swit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96160" cy="1371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1066680" y="3648240"/>
            <a:ext cx="6896160" cy="618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609480" y="99072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reat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09480" y="312408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let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177480"/>
            <a:ext cx="8145720" cy="58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ccessing/Managing the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90808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Address, Subnet Mask, and Default Gateway on a switch is for the same purposes as when you configure it for a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dres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management purpose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oes not affect the Layer 2 switching operations of the sw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 must be configured with a vty login/password and a privileged password for telnet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VLAN 1 is the “management VLA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ment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hould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1219320"/>
            <a:ext cx="853416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v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0.1.0.5.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default-gateway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84760"/>
            <a:ext cx="8145720" cy="95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3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Broadcast Domai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, 3 Switches,</a:t>
            </a:r>
            <a:br>
              <a:rPr sz="3200"/>
            </a:b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3 LANs, 1 Route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991120" y="1819440"/>
            <a:ext cx="304488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assical configur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withou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ach department has its own switch which serves all its nodes as one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ach department has its own IP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ticular networks are separat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connected by router with as many interfaces as number of department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85680" y="2298600"/>
            <a:ext cx="58165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5200" y="291960"/>
            <a:ext cx="81457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cces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he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72320" cy="47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able secre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 vty 0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line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 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line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lan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0.5. 255.255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 shut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default-gatew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MS PGothic"/>
              </a:rPr>
              <a:t>Troubleshoot Common Software or Hardware Misconfigurations Associated with VLA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146240" y="1471680"/>
            <a:ext cx="72342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190440"/>
            <a:ext cx="81457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Erasing VLAN inform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ommunication with its neighbors should be blo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information is kept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is not erased when erasing the startup-conf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all VLAN information, use the command above and reload the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04920" y="1219320"/>
            <a:ext cx="853416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range fastethernet 0/1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 fl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an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filename [vlan.dat]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flash:vlan.dat? [confir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ase startup-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34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34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LAN introduc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33526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s provide segmentation based on broadcast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 =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s can logically segment switched networks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ical location (Example: Buil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 (Example: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ction (Example: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267080" y="2590920"/>
            <a:ext cx="685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6237200">
            <a:off x="3162960" y="1481400"/>
            <a:ext cx="299880" cy="1908000"/>
          </a:xfrm>
          <a:custGeom>
            <a:avLst/>
            <a:gdLst>
              <a:gd name="textAreaLeft" fmla="*/ 191520 w 299880"/>
              <a:gd name="textAreaRight" fmla="*/ 300240 w 299880"/>
              <a:gd name="textAreaTop" fmla="*/ 49680 h 1908000"/>
              <a:gd name="textAreaBottom" fmla="*/ 1858320 h 19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666880" y="261936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37200">
            <a:off x="5259960" y="1968840"/>
            <a:ext cx="299880" cy="914400"/>
          </a:xfrm>
          <a:custGeom>
            <a:avLst/>
            <a:gdLst>
              <a:gd name="textAreaLeft" fmla="*/ 191520 w 299880"/>
              <a:gd name="textAreaRight" fmla="*/ 300240 w 299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181480" y="259092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 rot="16237200">
            <a:off x="4485240" y="2206800"/>
            <a:ext cx="299880" cy="457200"/>
          </a:xfrm>
          <a:custGeom>
            <a:avLst/>
            <a:gdLst>
              <a:gd name="textAreaLeft" fmla="*/ 191520 w 299880"/>
              <a:gd name="textAreaRight" fmla="*/ 300240 w 299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8760" y="276840"/>
            <a:ext cx="8734680" cy="95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3 Broadcast Domains,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1 Switch,</a:t>
            </a:r>
            <a:br>
              <a:rPr sz="3200"/>
            </a:b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3 VLA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, 1 Route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rcRect l="0" t="3068" r="0" b="0"/>
          <a:stretch/>
        </p:blipFill>
        <p:spPr>
          <a:xfrm>
            <a:off x="95400" y="2182680"/>
            <a:ext cx="5767200" cy="4023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10280" y="3097080"/>
            <a:ext cx="2808360" cy="28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same need solved by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share one common switch, but it it divided into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unication among VLANs provides ro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numbering (Cisco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1401840"/>
            <a:ext cx="84931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N I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and 4095 reserved for sy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-rang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1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2 – 1005 Reserved for Token Ring and FDDI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vlan.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ile in flash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tended-rang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ed for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ewer options than normal range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red in running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me switches (2960) supports only 255 VLA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port membershi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VLAN port membersh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ssign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ault is VLAN 1 – initially consists all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500040" y="2941560"/>
            <a:ext cx="8232840" cy="3241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5280120" y="3209760"/>
            <a:ext cx="13935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AC 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V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8194680" cy="82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Broadcast Domains with Switches and Route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tra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453960" y="2502000"/>
            <a:ext cx="82994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8093160" cy="126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Broadcast Domains with VLANs and Layer 3 Forwar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Intra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N Communicati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more details: see CCNP SWITCH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47840" y="3159000"/>
            <a:ext cx="8219880" cy="3365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6578640" y="2502000"/>
            <a:ext cx="2438280" cy="1236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6760" indent="-2667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d for a specific V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2-26T15:54:28Z</dcterms:modified>
  <cp:revision>41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