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15608AA-ECA0-4909-ABD8-8A0B75CFCC1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2158B65-C8B5-4FB9-98D2-80B456F77BE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3823B69-59C1-484C-8513-F40CAD9647C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5C910AF-7011-42DA-BA0F-C8581F778CE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15E35E9-7F37-4A68-BD70-761ACCAD088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36A3CFF-A8E4-4D7E-8B96-189BB7022F2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30E8470-8B41-4609-A259-58FDD4DFF9A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93D8797-203F-4A37-9C08-6B1AE19F360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105CBBB-7486-45FE-8BEB-C0AFB0D0163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43D971E-98F6-499D-A932-44EE872E24A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4.1 &amp; 4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BAF9677-388E-4290-A023-CA6F09E3ABA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D102232-CF5C-45F2-8288-F7D54916BDC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9CB33B7-2E4B-421B-B020-7E32498E240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1BF7092-1985-470B-9AFC-7DAEF49BA8A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989D4BF-1FD0-407D-927C-7844DFE5384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704FD95-E53D-411F-9E64-E4043063317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92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1015560" y="1035000"/>
              <a:ext cx="66240" cy="25020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7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VTP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command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Obdélník 1"/>
          <p:cNvSpPr/>
          <p:nvPr/>
        </p:nvSpPr>
        <p:spPr>
          <a:xfrm>
            <a:off x="136440" y="1981080"/>
            <a:ext cx="900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1(config)#vtp mod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1(config)#vtp domain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is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1(config)#vtp password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Vtp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Prun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4443480" y="3720960"/>
            <a:ext cx="4680000" cy="3114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0" y="1357200"/>
            <a:ext cx="4680000" cy="3116520"/>
          </a:xfrm>
          <a:prstGeom prst="rect">
            <a:avLst/>
          </a:prstGeom>
          <a:ln w="0">
            <a:noFill/>
          </a:ln>
        </p:spPr>
      </p:pic>
      <p:sp>
        <p:nvSpPr>
          <p:cNvPr id="201" name="TextovéPole 1"/>
          <p:cNvSpPr/>
          <p:nvPr/>
        </p:nvSpPr>
        <p:spPr>
          <a:xfrm>
            <a:off x="-4680" y="1461960"/>
            <a:ext cx="142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ovéPole 8"/>
          <p:cNvSpPr/>
          <p:nvPr/>
        </p:nvSpPr>
        <p:spPr>
          <a:xfrm>
            <a:off x="3021120" y="5278320"/>
            <a:ext cx="142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aoblený obdélník 2"/>
          <p:cNvSpPr/>
          <p:nvPr/>
        </p:nvSpPr>
        <p:spPr>
          <a:xfrm>
            <a:off x="4680000" y="4473720"/>
            <a:ext cx="1058760" cy="414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aoblený obdélník 10"/>
          <p:cNvSpPr/>
          <p:nvPr/>
        </p:nvSpPr>
        <p:spPr>
          <a:xfrm>
            <a:off x="5369040" y="5429160"/>
            <a:ext cx="1058760" cy="414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nice 12"/>
          <p:cNvSpPr/>
          <p:nvPr/>
        </p:nvSpPr>
        <p:spPr>
          <a:xfrm flipV="1">
            <a:off x="5892840" y="4602240"/>
            <a:ext cx="144360" cy="7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římá spojnice 21"/>
          <p:cNvSpPr/>
          <p:nvPr/>
        </p:nvSpPr>
        <p:spPr>
          <a:xfrm>
            <a:off x="5919840" y="4605480"/>
            <a:ext cx="144360" cy="7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nice 31"/>
          <p:cNvSpPr/>
          <p:nvPr/>
        </p:nvSpPr>
        <p:spPr>
          <a:xfrm flipV="1">
            <a:off x="6508800" y="5517720"/>
            <a:ext cx="144360" cy="7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římá spojnice 32"/>
          <p:cNvSpPr/>
          <p:nvPr/>
        </p:nvSpPr>
        <p:spPr>
          <a:xfrm>
            <a:off x="6535800" y="5521320"/>
            <a:ext cx="144360" cy="7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ovéPole 23"/>
          <p:cNvSpPr/>
          <p:nvPr/>
        </p:nvSpPr>
        <p:spPr>
          <a:xfrm>
            <a:off x="5291280" y="1077840"/>
            <a:ext cx="3798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prun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can lim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d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, multicast, and unknown unicast traffic across trunk links within a VTP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commands - prun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bdélník 1"/>
          <p:cNvSpPr/>
          <p:nvPr/>
        </p:nvSpPr>
        <p:spPr>
          <a:xfrm>
            <a:off x="136440" y="1598760"/>
            <a:ext cx="9007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1(config)# vtp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-A(config)# interface fastEthernet0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-A(config-if)# switchport trunk pruning vlan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3063960" y="1244520"/>
            <a:ext cx="6080040" cy="2241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2"/>
          <a:stretch/>
        </p:blipFill>
        <p:spPr>
          <a:xfrm>
            <a:off x="39600" y="3578400"/>
            <a:ext cx="54658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3780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VTP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- troubleshoo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2585880"/>
            <a:ext cx="7940880" cy="3200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on VTP configura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compatible VTP 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TP Password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correct VTP Mod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l Switches set to VTP Clien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50940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dding a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new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witch to an existing VTP domai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5560" y="1317240"/>
            <a:ext cx="8180640" cy="517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caution when inserting a new switch into an existing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form the following steps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ete the VLAN databas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vlan.d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ase the startup configuration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rase startup-confi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cycle th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onfigure VTP mode and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sword protect th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void potenti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sulting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idual VLAN configur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adding a switch with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gher VTP configuration revision num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t could result in the propagation of incorrect VLAN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is a Cisco proprietary protocol used to exchange VLAN information across trunk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tch can be in one of 3 VTP operating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create, modify or delet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reate, modify &amp; delet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reate, modify, &amp; delete LOCAL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s VTP advertis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unnecessary dissemination of VLAN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VTP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VTP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nterfaces tr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225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226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VTP components  and r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l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168800"/>
          </a:xfrm>
          <a:prstGeom prst="rect">
            <a:avLst/>
          </a:prstGeom>
          <a:ln w="0">
            <a:noFill/>
          </a:ln>
        </p:spPr>
      </p:pic>
      <p:sp>
        <p:nvSpPr>
          <p:cNvPr id="157" name="Oval 9"/>
          <p:cNvSpPr/>
          <p:nvPr/>
        </p:nvSpPr>
        <p:spPr>
          <a:xfrm>
            <a:off x="4881600" y="2611440"/>
            <a:ext cx="4262400" cy="4122720"/>
          </a:xfrm>
          <a:prstGeom prst="ellipse">
            <a:avLst/>
          </a:prstGeom>
          <a:noFill/>
          <a:ln w="381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620640" y="2592360"/>
            <a:ext cx="4200480" cy="412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776240" y="2092320"/>
            <a:ext cx="2014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in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6540480" y="2060640"/>
            <a:ext cx="2014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i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VTP IEEE Alternativ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55560" y="1733400"/>
            <a:ext cx="7940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GARP VLAN Registration Protocol (GV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Legacy 802.1D based on GARP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Multiple VLAN Registration Protocol (MV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ak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endment to 802.1Q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385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ratio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of VTP – Server, Client mod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3612960"/>
            <a:ext cx="7940880" cy="2920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er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do all 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clients cannot create, modify, or delete VLAN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nly role of VTP clients is to process VLAN changes and send VTP messages out all trunk 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VTP client maintains a full list of all VLANs within the VTP domain, but it does not store the information in NV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 changes made must be received from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se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dvertis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838080" y="1471680"/>
            <a:ext cx="7286760" cy="19047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4800600" y="1533600"/>
            <a:ext cx="1676520" cy="1447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497400" y="1527120"/>
            <a:ext cx="1257120" cy="144792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838080" y="1484280"/>
            <a:ext cx="7286760" cy="19051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55560" y="3517920"/>
            <a:ext cx="7940880" cy="2922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cept for forwarding VTP advertisements, VTP is disabled on a transparent switch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formation contained in th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T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ssag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is igno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transparent switch wi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odify its database when updates are received, nor will the switch send out an update indicating a change in its own VLAN stat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also an “off” VTP mode in which switches behave the same as in the VTP transparent mode, except VTP advertisement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war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477120" y="1576440"/>
            <a:ext cx="1523880" cy="1447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55200" y="385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ratio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of VTP – Transparent mo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411120" y="2127240"/>
            <a:ext cx="8447040" cy="400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1940040" y="35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677880" y="4967280"/>
            <a:ext cx="52560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6500880" y="4900680"/>
            <a:ext cx="52524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6546960" y="3165480"/>
            <a:ext cx="525240" cy="241200"/>
          </a:xfrm>
          <a:prstGeom prst="rect">
            <a:avLst/>
          </a:prstGeom>
          <a:noFill/>
          <a:ln w="63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689040" y="3780000"/>
            <a:ext cx="1123920" cy="2268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655560" y="5589720"/>
            <a:ext cx="1123920" cy="2268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6465960" y="5510160"/>
            <a:ext cx="1123920" cy="22716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1940040" y="35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1940040" y="53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7756560" y="531036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685800" y="3165480"/>
            <a:ext cx="52560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1022400" y="2036880"/>
            <a:ext cx="7364520" cy="46735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of the default VTP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ions 1, 2, 3 (additional mode - Of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frame structur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0" y="194328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191" name="TextovéPole 1"/>
          <p:cNvSpPr/>
          <p:nvPr/>
        </p:nvSpPr>
        <p:spPr>
          <a:xfrm>
            <a:off x="204840" y="6346800"/>
            <a:ext cx="8719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hernet SNAP (Sub Network Access Protocol) – based on ISO/IEC TR 1180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aoblený obdélník 1"/>
          <p:cNvSpPr/>
          <p:nvPr/>
        </p:nvSpPr>
        <p:spPr>
          <a:xfrm>
            <a:off x="109440" y="4367160"/>
            <a:ext cx="2197080" cy="7509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message conten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588960" y="2052720"/>
            <a:ext cx="8091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4-03-05T18:27:41Z</dcterms:modified>
  <cp:revision>363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