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E1DEF1F-B5AE-4BAA-BBF3-9C3DA579DB4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0DA7325-0222-4AA7-BDE5-0BA3AF08063E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D270DE8-8F6E-4EEC-9436-BCCCE9346B0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92D1A5E-C411-4B28-A2CF-C3AFC2AD598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 Inter-VLAN Rou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6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80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81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-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71520" y="2271600"/>
            <a:ext cx="6537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to configure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17560" y="2728800"/>
            <a:ext cx="72151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55560" y="1536480"/>
            <a:ext cx="7940880" cy="741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i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L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anothe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74560" y="2347920"/>
            <a:ext cx="8283600" cy="44290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ter-VLAN routing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router on a s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09720" y="2254320"/>
            <a:ext cx="72356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to configure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49120" y="2692440"/>
            <a:ext cx="8923320" cy="4165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037040" y="3557520"/>
            <a:ext cx="297000" cy="2890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37040" y="4176720"/>
            <a:ext cx="297000" cy="2890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mmon Inter-VLAN Connectivity Issues Troubleshoot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mon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 configuration 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08160" y="2577960"/>
            <a:ext cx="676908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VLAN routing is the process of routing information between V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VLAN routing requires the use of a router or a layer 3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inter-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ultiple router interfaces that are each connected to separate V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5560" y="1044360"/>
            <a:ext cx="7940880" cy="5422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on a st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inter-VLAN routing topology that uses  router sub interfaces connected to a layer 2 swi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ubinterface must be configured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P add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d VLA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of inter 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switch ports connected to router with correct V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each router subinterface with the correct IP address &amp; VLAN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configuration on switch and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4-03-11T15:43:12Z</dcterms:modified>
  <cp:revision>330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