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A7AE20C-497C-493C-B4A1-7871D5E47E8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8B2EE2-3A4E-4834-BCF4-33D5DBD5B8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3AE1CCC-134A-4C82-98AC-51243EFC41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1E66BB7-093F-4EE8-964A-B936C0EFD8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F584D1-C51F-4BE2-8CEF-CB6BC9F417C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9662173-8257-4E54-8FF2-E9711026B6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124739C-45DC-43F5-A87E-E0B90A5D42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96BB012-BE1C-437C-B5E2-F381FD12976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C714BC2-F425-43FA-BB50-2EE40ED3E66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51868C-FE64-4E68-8C5A-F531BA2B961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A938B4-966D-4C79-A512-BF06908F12D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5E5A1B7-7A41-4107-B428-68A68324F22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35C684C-FB3D-4547-8B8A-88A1B1CF88E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55BE787-FD0E-428D-9A59-49CFDFF5DE5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B5C9B45-8B0C-42D0-BE51-44E90A8B5DA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AFE6315-F9B0-4202-93BC-DF32B1E1B93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5560" y="1035000"/>
              <a:ext cx="66240" cy="25020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Obdélník 1"/>
          <p:cNvSpPr/>
          <p:nvPr/>
        </p:nvSpPr>
        <p:spPr>
          <a:xfrm>
            <a:off x="136440" y="198108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mod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domain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is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vtp password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Vtp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443480" y="3720960"/>
            <a:ext cx="4680000" cy="31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0" y="1357200"/>
            <a:ext cx="4680000" cy="3116520"/>
          </a:xfrm>
          <a:prstGeom prst="rect">
            <a:avLst/>
          </a:prstGeom>
          <a:ln w="0">
            <a:noFill/>
          </a:ln>
        </p:spPr>
      </p:pic>
      <p:sp>
        <p:nvSpPr>
          <p:cNvPr id="201" name="TextovéPole 1"/>
          <p:cNvSpPr/>
          <p:nvPr/>
        </p:nvSpPr>
        <p:spPr>
          <a:xfrm>
            <a:off x="-4680" y="1461960"/>
            <a:ext cx="142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8"/>
          <p:cNvSpPr/>
          <p:nvPr/>
        </p:nvSpPr>
        <p:spPr>
          <a:xfrm>
            <a:off x="3021120" y="5278320"/>
            <a:ext cx="142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aoblený obdélník 2"/>
          <p:cNvSpPr/>
          <p:nvPr/>
        </p:nvSpPr>
        <p:spPr>
          <a:xfrm>
            <a:off x="4680000" y="447372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aoblený obdélník 10"/>
          <p:cNvSpPr/>
          <p:nvPr/>
        </p:nvSpPr>
        <p:spPr>
          <a:xfrm>
            <a:off x="5369040" y="5429160"/>
            <a:ext cx="105876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nice 12"/>
          <p:cNvSpPr/>
          <p:nvPr/>
        </p:nvSpPr>
        <p:spPr>
          <a:xfrm flipV="1">
            <a:off x="5892840" y="460224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římá spojnice 21"/>
          <p:cNvSpPr/>
          <p:nvPr/>
        </p:nvSpPr>
        <p:spPr>
          <a:xfrm>
            <a:off x="5919840" y="4605480"/>
            <a:ext cx="14436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nice 31"/>
          <p:cNvSpPr/>
          <p:nvPr/>
        </p:nvSpPr>
        <p:spPr>
          <a:xfrm flipV="1">
            <a:off x="6508800" y="55177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římá spojnice 32"/>
          <p:cNvSpPr/>
          <p:nvPr/>
        </p:nvSpPr>
        <p:spPr>
          <a:xfrm>
            <a:off x="6535800" y="5521320"/>
            <a:ext cx="14436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23"/>
          <p:cNvSpPr/>
          <p:nvPr/>
        </p:nvSpPr>
        <p:spPr>
          <a:xfrm>
            <a:off x="5291280" y="1077840"/>
            <a:ext cx="3798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an lim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, multicast, and unknown unicast traffic across trunk links within a VTP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commands - prun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délník 1"/>
          <p:cNvSpPr/>
          <p:nvPr/>
        </p:nvSpPr>
        <p:spPr>
          <a:xfrm>
            <a:off x="136440" y="1598760"/>
            <a:ext cx="900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1(config)# 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)# interface fastEthernet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-A(config-if)# switchport trunk pruning vla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78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- troubleshoo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2585880"/>
            <a:ext cx="794088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mpatible VTP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TP Passwor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correct VTP Mod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witches set to VTP Clien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25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26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Oval 9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IEEE Alterna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55560" y="1733400"/>
            <a:ext cx="794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GARP VLAN Registration Protocol (G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Legacy 802.1D based on GAR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VLAN Registration Protocol (MV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ndment to 802.1Q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838080" y="1484280"/>
            <a:ext cx="728676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477120" y="157644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s 1, 2, 3 (additional mode - O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1"/>
          <p:cNvSpPr/>
          <p:nvPr/>
        </p:nvSpPr>
        <p:spPr>
          <a:xfrm>
            <a:off x="204840" y="6346800"/>
            <a:ext cx="871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ernet SNAP (Sub Network Access Protocol) – based on ISO/IEC TR 1180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aoblený obdélník 1"/>
          <p:cNvSpPr/>
          <p:nvPr/>
        </p:nvSpPr>
        <p:spPr>
          <a:xfrm>
            <a:off x="109440" y="4367160"/>
            <a:ext cx="2197080" cy="7509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3-05T18:27:41Z</dcterms:modified>
  <cp:revision>36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