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2818415-2BE5-4ADA-930A-B010B7888E1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40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C714101-AA1E-4C2D-B294-FDB4B1B85E0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8960" y="239760"/>
            <a:ext cx="5199120" cy="38988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396360" y="4277880"/>
            <a:ext cx="5985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7F0E07F-862A-4059-92B6-48F27559FD4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2.1 ( if space is an issue use the examp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2.2 (use example graph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8E7FE7B-E118-4248-83E2-2716929A95F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4DD50C8-FE9D-46EA-929D-69C98A395CE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cs-CZ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FE29C17-97EB-4359-B678-0F1A5D5A8B7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DBB54E0-FB05-4D64-9717-4D64FF56B45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3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69D6BC8-9CAF-47A2-973B-CF621AF1870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11DBFCB-DD34-49DD-B538-71ED9F06610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3.1.2.1 &amp; 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74DF24E-47C8-4DF3-B02B-E7359CA399B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CE1566F-4681-436F-85C1-F7DC9A5F695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3.1.2.1 &amp; 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6CC5287-9EEF-4EB2-8286-6F13E350E40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B01E921-9749-4C5D-9570-34180FAA7BA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A65293A-40F3-4C3E-AFF1-97D0D430479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2260A5C2-A2E0-4995-BE7D-78AB30204DE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2360" cy="39006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1240" indent="-111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3.1.2.1 &amp; 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365A5AA-3492-43AF-83F6-EFFFF906A62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E32F5A3-9AC7-4722-8FFA-BDF8E8DB28D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69D02CD-70B9-4D49-9F86-B3ECE7EB9E8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95610C8-9504-4260-AE1C-F3B493C256B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B4D0822-82AC-47BD-985F-4AAF20A8234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00AE201-30DD-408F-8612-C856F4BB5B3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4C27BD8-0C8D-44D3-A3E6-77F72CA1051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892FF88-729E-4227-A20F-9D1E2430B0C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7582602-8F1E-405C-9450-CD9D90924A7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bjective listed above doesn’t make much sense to me.  I’m not sure what is wanted….I think that the objective should read something like the following “ explain the role of a trunk when using multiple VLANs in a converged network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0A67A55-0F23-4C72-9E53-2A47FAC6BAC6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431677C-8548-4973-8477-0504D01B79B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1330E70-199F-439F-985E-72BD1FBBB27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92" name="AutoShape 8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3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4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6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7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9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1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7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MS PGothic"/>
              </a:rPr>
              <a:t>VLAN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MS PGothic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MS PGothic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Configure VLAN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MS PGothic"/>
              </a:rPr>
              <a:t>Cisco IOS commands used to create a VLAN on a Cisco Catalyst swi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57120" y="2394000"/>
            <a:ext cx="84758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onfigure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VLA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33526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Assign port to the VLA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Courier New"/>
              </a:rPr>
              <a:t> (repeat for all needed ports or see nex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fastethernet 0/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access vlan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mod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mod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otes this port as an access port and not a trunk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urier New"/>
              </a:rPr>
              <a:t>should be configured on all ports that the network administrator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Courier New"/>
              </a:rPr>
              <a:t>nev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urier New"/>
              </a:rPr>
              <a:t>does want to become a trunk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2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4952880" cy="11811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3"/>
          <p:cNvSpPr/>
          <p:nvPr/>
        </p:nvSpPr>
        <p:spPr>
          <a:xfrm>
            <a:off x="4267080" y="2590920"/>
            <a:ext cx="685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4"/>
          <p:cNvSpPr/>
          <p:nvPr/>
        </p:nvSpPr>
        <p:spPr>
          <a:xfrm rot="16237200">
            <a:off x="3162960" y="1481400"/>
            <a:ext cx="299880" cy="1908000"/>
          </a:xfrm>
          <a:custGeom>
            <a:avLst/>
            <a:gdLst>
              <a:gd name="textAreaLeft" fmla="*/ 191520 w 299880"/>
              <a:gd name="textAreaRight" fmla="*/ 300240 w 299880"/>
              <a:gd name="textAreaTop" fmla="*/ 49680 h 1908000"/>
              <a:gd name="textAreaBottom" fmla="*/ 1858320 h 19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2666880" y="2619360"/>
            <a:ext cx="990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fault vla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 rot="16237200">
            <a:off x="5259960" y="1968840"/>
            <a:ext cx="299880" cy="914400"/>
          </a:xfrm>
          <a:custGeom>
            <a:avLst/>
            <a:gdLst>
              <a:gd name="textAreaLeft" fmla="*/ 191520 w 299880"/>
              <a:gd name="textAreaRight" fmla="*/ 300240 w 299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5181480" y="2590920"/>
            <a:ext cx="990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fault vla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8"/>
          <p:cNvSpPr/>
          <p:nvPr/>
        </p:nvSpPr>
        <p:spPr>
          <a:xfrm rot="16237200">
            <a:off x="4485240" y="2206800"/>
            <a:ext cx="299880" cy="457200"/>
          </a:xfrm>
          <a:custGeom>
            <a:avLst/>
            <a:gdLst>
              <a:gd name="textAreaLeft" fmla="*/ 191520 w 299880"/>
              <a:gd name="textAreaRight" fmla="*/ 300240 w 2998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onfigur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 r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nges of VLAN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520" y="4647960"/>
            <a:ext cx="8534520" cy="1904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This command does not work on all switches, such as the 2900 Series X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It does work on the 29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4952880" cy="1181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4724280" y="2666880"/>
            <a:ext cx="838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 rot="16237200">
            <a:off x="4948920" y="1605600"/>
            <a:ext cx="385920" cy="1600200"/>
          </a:xfrm>
          <a:custGeom>
            <a:avLst/>
            <a:gdLst>
              <a:gd name="textAreaLeft" fmla="*/ 246600 w 385920"/>
              <a:gd name="textAreaRight" fmla="*/ 386280 w 385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304920" y="3124080"/>
            <a:ext cx="8534160" cy="138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range fastethernet 0/8 -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access vla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mod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1141560" y="2232000"/>
            <a:ext cx="7529400" cy="39308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 Trunk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1317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tional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MS PGothic"/>
              </a:rPr>
              <a:t>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w students in ground floor = we need to connect both student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5067360" y="5295960"/>
            <a:ext cx="3784680" cy="59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rm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dent“ LAN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4"/>
          <p:cNvSpPr/>
          <p:nvPr/>
        </p:nvSpPr>
        <p:spPr>
          <a:xfrm>
            <a:off x="520560" y="2876400"/>
            <a:ext cx="6742080" cy="4040280"/>
          </a:xfrm>
          <a:custGeom>
            <a:avLst/>
            <a:gdLst/>
            <a:ahLst/>
            <a:rect l="l" t="t" r="r" b="b"/>
            <a:pathLst>
              <a:path w="4247" h="2545">
                <a:moveTo>
                  <a:pt x="0" y="2220"/>
                </a:moveTo>
                <a:cubicBezTo>
                  <a:pt x="22" y="2058"/>
                  <a:pt x="45" y="1897"/>
                  <a:pt x="256" y="1908"/>
                </a:cubicBezTo>
                <a:cubicBezTo>
                  <a:pt x="467" y="1919"/>
                  <a:pt x="669" y="2545"/>
                  <a:pt x="1264" y="2284"/>
                </a:cubicBezTo>
                <a:cubicBezTo>
                  <a:pt x="1859" y="2023"/>
                  <a:pt x="3401" y="680"/>
                  <a:pt x="3824" y="340"/>
                </a:cubicBezTo>
                <a:cubicBezTo>
                  <a:pt x="4247" y="0"/>
                  <a:pt x="3800" y="255"/>
                  <a:pt x="3800" y="24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 Trunking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30000" y="1684440"/>
            <a:ext cx="7940520" cy="4276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ple VLAN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thout 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453960" y="2414520"/>
            <a:ext cx="822348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463680" y="2390760"/>
            <a:ext cx="8226360" cy="44118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 Trunking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30000" y="1684440"/>
            <a:ext cx="7940520" cy="4276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ple VLAN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th 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4" descr=""/>
          <p:cNvPicPr/>
          <p:nvPr/>
        </p:nvPicPr>
        <p:blipFill>
          <a:blip r:embed="rId2"/>
          <a:stretch/>
        </p:blipFill>
        <p:spPr>
          <a:xfrm>
            <a:off x="5100480" y="204840"/>
            <a:ext cx="39927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456840"/>
            <a:ext cx="8145720" cy="68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Role of Trunking VLAN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MS PGothic"/>
              </a:rPr>
              <a:t>ow a trunk 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720720" y="1768320"/>
            <a:ext cx="7974000" cy="47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5200" y="769680"/>
            <a:ext cx="8145720" cy="525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s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MS PGothic"/>
              </a:rPr>
              <a:t> remarks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30040" y="1916280"/>
            <a:ext cx="862020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42800" indent="-355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 meaning of VLA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N1 plays roles after start (out-of-the-box)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ta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fault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nagement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l ports are primarily VLAN1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annot be de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annot be rena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rves for L2 management traffic -  CDP, old STP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5200" y="769680"/>
            <a:ext cx="8145720" cy="525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s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MS PGothic"/>
              </a:rPr>
              <a:t>remark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30040" y="1916280"/>
            <a:ext cx="8620200" cy="26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42800" indent="-355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tive V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tive VL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rames are untagged on Cisco 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ed fram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VL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D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agged frame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re forward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native V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100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fault native VLAN is VLA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Trunk as Inter-Switch Lin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55560" y="2568600"/>
          <a:ext cx="7940880" cy="2455920"/>
        </p:xfrm>
        <a:graphic>
          <a:graphicData uri="http://schemas.openxmlformats.org/drawingml/2006/table">
            <a:tbl>
              <a:tblPr/>
              <a:tblGrid>
                <a:gridCol w="2646360"/>
                <a:gridCol w="2184480"/>
                <a:gridCol w="3110040"/>
              </a:tblGrid>
              <a:tr h="554040">
                <a:tc>
                  <a:txBody>
                    <a:bodyPr lIns="82800" rIns="82800" tIns="39600" bIns="396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9600" bIns="396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9600" bIns="396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82800" rIns="82800" tIns="39600" bIns="396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-Switch Link (IS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9600" bIns="396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 Ether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L header encapsulates the LAN frame and there is a VLAN ID field in the ISL hea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82800" rIns="82800" tIns="39600" bIns="396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.1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9600" bIns="396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 Ether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EE defined Ethernet VLAN protoc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Role of VLAN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30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tional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MS PGothic"/>
              </a:rPr>
              <a:t>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5" descr=""/>
          <p:cNvPicPr/>
          <p:nvPr/>
        </p:nvPicPr>
        <p:blipFill>
          <a:blip r:embed="rId1"/>
          <a:stretch/>
        </p:blipFill>
        <p:spPr>
          <a:xfrm>
            <a:off x="1141560" y="2232000"/>
            <a:ext cx="752940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ISL vs. 802.1q Frame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26" name="Picture 6" descr=""/>
          <p:cNvPicPr/>
          <p:nvPr/>
        </p:nvPicPr>
        <p:blipFill>
          <a:blip r:embed="rId1"/>
          <a:stretch/>
        </p:blipFill>
        <p:spPr>
          <a:xfrm>
            <a:off x="1092240" y="2257560"/>
            <a:ext cx="7308720" cy="3273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6745320" y="1585800"/>
            <a:ext cx="1035000" cy="41148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7165800" y="2130480"/>
            <a:ext cx="0" cy="585720"/>
          </a:xfrm>
          <a:prstGeom prst="line">
            <a:avLst/>
          </a:prstGeom>
          <a:ln w="9360">
            <a:solidFill>
              <a:srgbClr val="0183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4"/>
          <p:cNvSpPr/>
          <p:nvPr/>
        </p:nvSpPr>
        <p:spPr>
          <a:xfrm flipV="1">
            <a:off x="2716200" y="3906360"/>
            <a:ext cx="996840" cy="3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37800" bIns="-37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802.1q Tagging detail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61880" y="2054160"/>
            <a:ext cx="6164280" cy="7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1806480" y="2054160"/>
            <a:ext cx="0" cy="69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3203640" y="2050920"/>
            <a:ext cx="0" cy="69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3878280" y="2048040"/>
            <a:ext cx="0" cy="69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>
            <a:off x="5935680" y="2070000"/>
            <a:ext cx="0" cy="69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757440" y="2168640"/>
            <a:ext cx="791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2198520" y="2166840"/>
            <a:ext cx="6220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3243240" y="2212920"/>
            <a:ext cx="605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4479120" y="2203560"/>
            <a:ext cx="807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5891760" y="2205000"/>
            <a:ext cx="7729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6840000" y="2216160"/>
            <a:ext cx="20790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iginal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469800" y="3417840"/>
            <a:ext cx="7197840" cy="7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8"/>
          <p:cNvSpPr/>
          <p:nvPr/>
        </p:nvSpPr>
        <p:spPr>
          <a:xfrm>
            <a:off x="1814400" y="3417840"/>
            <a:ext cx="0" cy="69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9"/>
          <p:cNvSpPr/>
          <p:nvPr/>
        </p:nvSpPr>
        <p:spPr>
          <a:xfrm>
            <a:off x="4255920" y="3397320"/>
            <a:ext cx="0" cy="69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0"/>
          <p:cNvSpPr/>
          <p:nvPr/>
        </p:nvSpPr>
        <p:spPr>
          <a:xfrm>
            <a:off x="4930920" y="3394080"/>
            <a:ext cx="0" cy="69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1"/>
          <p:cNvSpPr/>
          <p:nvPr/>
        </p:nvSpPr>
        <p:spPr>
          <a:xfrm>
            <a:off x="6988320" y="3416400"/>
            <a:ext cx="0" cy="69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765360" y="3532320"/>
            <a:ext cx="791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2206800" y="3530520"/>
            <a:ext cx="6220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4"/>
          <p:cNvSpPr/>
          <p:nvPr/>
        </p:nvSpPr>
        <p:spPr>
          <a:xfrm>
            <a:off x="4295880" y="3559320"/>
            <a:ext cx="605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5531400" y="3549600"/>
            <a:ext cx="807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6984720" y="3471840"/>
            <a:ext cx="675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w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7"/>
          <p:cNvSpPr/>
          <p:nvPr/>
        </p:nvSpPr>
        <p:spPr>
          <a:xfrm>
            <a:off x="3197160" y="3416400"/>
            <a:ext cx="0" cy="69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359880" y="3565440"/>
            <a:ext cx="6890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0"/>
          <p:cNvSpPr/>
          <p:nvPr/>
        </p:nvSpPr>
        <p:spPr>
          <a:xfrm flipH="1">
            <a:off x="5938560" y="2065320"/>
            <a:ext cx="687240" cy="666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1"/>
          <p:cNvSpPr/>
          <p:nvPr/>
        </p:nvSpPr>
        <p:spPr>
          <a:xfrm>
            <a:off x="5927760" y="2054160"/>
            <a:ext cx="677880" cy="677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2"/>
          <p:cNvSpPr/>
          <p:nvPr/>
        </p:nvSpPr>
        <p:spPr>
          <a:xfrm>
            <a:off x="1817640" y="2840040"/>
            <a:ext cx="0" cy="4618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3"/>
          <p:cNvSpPr/>
          <p:nvPr/>
        </p:nvSpPr>
        <p:spPr>
          <a:xfrm>
            <a:off x="3206880" y="2862360"/>
            <a:ext cx="0" cy="4618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4"/>
          <p:cNvSpPr/>
          <p:nvPr/>
        </p:nvSpPr>
        <p:spPr>
          <a:xfrm>
            <a:off x="3273480" y="2863800"/>
            <a:ext cx="903240" cy="48420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6"/>
          <p:cNvSpPr/>
          <p:nvPr/>
        </p:nvSpPr>
        <p:spPr>
          <a:xfrm>
            <a:off x="3970440" y="2849400"/>
            <a:ext cx="903240" cy="48420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7"/>
          <p:cNvSpPr/>
          <p:nvPr/>
        </p:nvSpPr>
        <p:spPr>
          <a:xfrm>
            <a:off x="6033960" y="2835360"/>
            <a:ext cx="903240" cy="48420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8"/>
          <p:cNvSpPr/>
          <p:nvPr/>
        </p:nvSpPr>
        <p:spPr>
          <a:xfrm>
            <a:off x="1122480" y="5459400"/>
            <a:ext cx="5508360" cy="7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0"/>
          <p:cNvSpPr/>
          <p:nvPr/>
        </p:nvSpPr>
        <p:spPr>
          <a:xfrm>
            <a:off x="3882960" y="5367240"/>
            <a:ext cx="0" cy="808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1"/>
          <p:cNvSpPr/>
          <p:nvPr/>
        </p:nvSpPr>
        <p:spPr>
          <a:xfrm>
            <a:off x="5249880" y="59166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2"/>
          <p:cNvSpPr/>
          <p:nvPr/>
        </p:nvSpPr>
        <p:spPr>
          <a:xfrm>
            <a:off x="5946840" y="597852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3"/>
          <p:cNvSpPr/>
          <p:nvPr/>
        </p:nvSpPr>
        <p:spPr>
          <a:xfrm>
            <a:off x="4567320" y="5450040"/>
            <a:ext cx="0" cy="70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6265800" y="597528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5"/>
          <p:cNvSpPr/>
          <p:nvPr/>
        </p:nvSpPr>
        <p:spPr>
          <a:xfrm>
            <a:off x="6429240" y="597204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>
            <a:off x="6095880" y="597204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7"/>
          <p:cNvSpPr/>
          <p:nvPr/>
        </p:nvSpPr>
        <p:spPr>
          <a:xfrm>
            <a:off x="5618160" y="598320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8"/>
          <p:cNvSpPr/>
          <p:nvPr/>
        </p:nvSpPr>
        <p:spPr>
          <a:xfrm>
            <a:off x="5781600" y="5979960"/>
            <a:ext cx="0" cy="18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9"/>
          <p:cNvSpPr/>
          <p:nvPr/>
        </p:nvSpPr>
        <p:spPr>
          <a:xfrm>
            <a:off x="5448240" y="5979960"/>
            <a:ext cx="0" cy="18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0"/>
          <p:cNvSpPr/>
          <p:nvPr/>
        </p:nvSpPr>
        <p:spPr>
          <a:xfrm>
            <a:off x="4911840" y="597708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1"/>
          <p:cNvSpPr/>
          <p:nvPr/>
        </p:nvSpPr>
        <p:spPr>
          <a:xfrm>
            <a:off x="5075280" y="597384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2"/>
          <p:cNvSpPr/>
          <p:nvPr/>
        </p:nvSpPr>
        <p:spPr>
          <a:xfrm>
            <a:off x="4741920" y="597384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6"/>
          <p:cNvSpPr/>
          <p:nvPr/>
        </p:nvSpPr>
        <p:spPr>
          <a:xfrm>
            <a:off x="4375080" y="5457960"/>
            <a:ext cx="0" cy="70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7"/>
          <p:cNvSpPr/>
          <p:nvPr/>
        </p:nvSpPr>
        <p:spPr>
          <a:xfrm>
            <a:off x="4041720" y="597384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8"/>
          <p:cNvSpPr/>
          <p:nvPr/>
        </p:nvSpPr>
        <p:spPr>
          <a:xfrm>
            <a:off x="4205160" y="5970600"/>
            <a:ext cx="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9"/>
          <p:cNvSpPr/>
          <p:nvPr/>
        </p:nvSpPr>
        <p:spPr>
          <a:xfrm>
            <a:off x="4281480" y="4226040"/>
            <a:ext cx="2270160" cy="9046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60"/>
          <p:cNvSpPr/>
          <p:nvPr/>
        </p:nvSpPr>
        <p:spPr>
          <a:xfrm flipH="1">
            <a:off x="1206000" y="4206960"/>
            <a:ext cx="1992600" cy="98100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1"/>
          <p:cNvSpPr/>
          <p:nvPr/>
        </p:nvSpPr>
        <p:spPr>
          <a:xfrm>
            <a:off x="1108080" y="5584680"/>
            <a:ext cx="28400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thertype (0x8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2"/>
          <p:cNvSpPr/>
          <p:nvPr/>
        </p:nvSpPr>
        <p:spPr>
          <a:xfrm>
            <a:off x="3840120" y="5622840"/>
            <a:ext cx="5886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3"/>
          <p:cNvSpPr/>
          <p:nvPr/>
        </p:nvSpPr>
        <p:spPr>
          <a:xfrm>
            <a:off x="4572000" y="6299280"/>
            <a:ext cx="32590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anonical Format Identif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4"/>
          <p:cNvSpPr/>
          <p:nvPr/>
        </p:nvSpPr>
        <p:spPr>
          <a:xfrm>
            <a:off x="1737360" y="5051520"/>
            <a:ext cx="175140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g Protocol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5"/>
          <p:cNvSpPr/>
          <p:nvPr/>
        </p:nvSpPr>
        <p:spPr>
          <a:xfrm>
            <a:off x="3975120" y="5032440"/>
            <a:ext cx="25621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g Contro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7"/>
          <p:cNvSpPr/>
          <p:nvPr/>
        </p:nvSpPr>
        <p:spPr>
          <a:xfrm>
            <a:off x="4853880" y="5546880"/>
            <a:ext cx="13489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AN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8"/>
          <p:cNvSpPr/>
          <p:nvPr/>
        </p:nvSpPr>
        <p:spPr>
          <a:xfrm>
            <a:off x="7807320" y="3376440"/>
            <a:ext cx="119664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gged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9"/>
          <p:cNvSpPr/>
          <p:nvPr/>
        </p:nvSpPr>
        <p:spPr>
          <a:xfrm>
            <a:off x="4313160" y="5452920"/>
            <a:ext cx="255600" cy="7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IEEE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 802.1Q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9000"/>
          </a:bodyPr>
          <a:p>
            <a:pPr marL="186840" indent="-186840">
              <a:lnSpc>
                <a:spcPct val="9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-byte t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header containing a tag protocol identifier (TPID) and tag control information (TCI) with the following elemen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8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ype/Lenghts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2-byte TPID with a fixed value of 0x810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value indicates that the frame carries the 802.1Q/802.1p tag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8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TCI containing the following elemen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60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-bit user prio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8 priority levels, 0 thru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60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ne-bit canonical format (CFI indicato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0 = canonical, 1 = noncanonical, to signal bit order in the encapsulated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60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elve-bit VLAN 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quely identifies the VLAN to which the frame belongs, defining 4,096 VLANs, with 0 and 4095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5200" y="456840"/>
            <a:ext cx="8145720" cy="50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onfiguring Trunking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1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520" y="4495320"/>
            <a:ext cx="8534520" cy="2133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witchA c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802.1.Q trunk and SwitchB can be either ISL or 8021.Q trunk, configure SwitchB to be 802.1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switches that suppor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02.1Q and ISL,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port trunk encapsu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must be don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port mode trun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915320" cy="1447560"/>
          </a:xfrm>
          <a:prstGeom prst="rect">
            <a:avLst/>
          </a:prstGeom>
          <a:ln w="0">
            <a:noFill/>
          </a:ln>
        </p:spPr>
      </p:pic>
      <p:sp>
        <p:nvSpPr>
          <p:cNvPr id="293" name="Line 5"/>
          <p:cNvSpPr/>
          <p:nvPr/>
        </p:nvSpPr>
        <p:spPr>
          <a:xfrm flipV="1">
            <a:off x="2971800" y="1904760"/>
            <a:ext cx="0" cy="99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 flipV="1">
            <a:off x="6095880" y="1904760"/>
            <a:ext cx="0" cy="1523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76320" y="2895480"/>
            <a:ext cx="51814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witchA(config-if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itchport mode tr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600200" y="3429000"/>
            <a:ext cx="7467480" cy="70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witchB(config-if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itchport trunk encapsulation dot1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witchB(config-if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itchport mode tr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3886200" y="1371600"/>
            <a:ext cx="152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752480" y="11430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02.1Q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5943600" y="1143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ISL and 802.1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558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Switch port trunking mod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5560" y="1226880"/>
            <a:ext cx="7940880" cy="593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MS PGothic"/>
              </a:rPr>
              <a:t>witch port trunking mod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839880" y="1666800"/>
            <a:ext cx="7854840" cy="41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mode 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onditional trunking stat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lways 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mod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tempts to persuade peer to become acces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mode dynamic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ctively attempts to create trunk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mode dynamic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ccording peer wish can become trunk or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f no explicit wish, both remain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port nonegot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ccess or trunk, no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31280" y="394920"/>
            <a:ext cx="8458200" cy="569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Native 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230040" y="1305000"/>
            <a:ext cx="8620200" cy="45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42800" indent="-355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tive V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tive VL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rames are untagged on Cisco 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ed fram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VL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D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agged frame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re forward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native V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90000"/>
              </a:lnSpc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sw(config)#int fa0/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90000"/>
              </a:lnSpc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sw(config-if)#switchport trunk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native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vlan 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tive VLAN mismatch – different native VLAN ID on both ends of 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CDP-4-NATIVE_VLAN_MISMATCH: Native VLAN mismatch discovered on FastEthernet0/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, with sw1 FastEthernet0/13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0" indent="-355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fault native VLAN is VLA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5200" y="1900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Verifying VLANs – show v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4952880" cy="11811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5"/>
          <p:cNvSpPr/>
          <p:nvPr/>
        </p:nvSpPr>
        <p:spPr>
          <a:xfrm>
            <a:off x="4724280" y="2362320"/>
            <a:ext cx="838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6"/>
          <p:cNvSpPr/>
          <p:nvPr/>
        </p:nvSpPr>
        <p:spPr>
          <a:xfrm rot="16237200">
            <a:off x="4948920" y="1300680"/>
            <a:ext cx="385920" cy="1600200"/>
          </a:xfrm>
          <a:custGeom>
            <a:avLst/>
            <a:gdLst>
              <a:gd name="textAreaLeft" fmla="*/ 246600 w 385920"/>
              <a:gd name="textAreaRight" fmla="*/ 386280 w 385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3505320" y="2362320"/>
            <a:ext cx="838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8"/>
          <p:cNvSpPr/>
          <p:nvPr/>
        </p:nvSpPr>
        <p:spPr>
          <a:xfrm rot="16237200">
            <a:off x="3693240" y="1636920"/>
            <a:ext cx="385560" cy="914400"/>
          </a:xfrm>
          <a:custGeom>
            <a:avLst/>
            <a:gdLst>
              <a:gd name="textAreaLeft" fmla="*/ 246240 w 385560"/>
              <a:gd name="textAreaRight" fmla="*/ 385920 w 385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9" descr=""/>
          <p:cNvPicPr/>
          <p:nvPr/>
        </p:nvPicPr>
        <p:blipFill>
          <a:blip r:embed="rId2"/>
          <a:stretch/>
        </p:blipFill>
        <p:spPr>
          <a:xfrm>
            <a:off x="1219320" y="2776680"/>
            <a:ext cx="6476760" cy="40813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0"/>
          <p:cNvSpPr/>
          <p:nvPr/>
        </p:nvSpPr>
        <p:spPr>
          <a:xfrm>
            <a:off x="2286000" y="2286000"/>
            <a:ext cx="990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1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1"/>
          <p:cNvSpPr/>
          <p:nvPr/>
        </p:nvSpPr>
        <p:spPr>
          <a:xfrm rot="16237200">
            <a:off x="2586600" y="1526040"/>
            <a:ext cx="385560" cy="1143000"/>
          </a:xfrm>
          <a:custGeom>
            <a:avLst/>
            <a:gdLst>
              <a:gd name="textAreaLeft" fmla="*/ 246240 w 385560"/>
              <a:gd name="textAreaRight" fmla="*/ 385920 w 385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5200" y="2026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Verifying VLANs – show vlan brief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4952880" cy="11811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5"/>
          <p:cNvSpPr/>
          <p:nvPr/>
        </p:nvSpPr>
        <p:spPr>
          <a:xfrm>
            <a:off x="4724280" y="2362320"/>
            <a:ext cx="838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 rot="16237200">
            <a:off x="4948920" y="1300680"/>
            <a:ext cx="385920" cy="1600200"/>
          </a:xfrm>
          <a:custGeom>
            <a:avLst/>
            <a:gdLst>
              <a:gd name="textAreaLeft" fmla="*/ 246600 w 385920"/>
              <a:gd name="textAreaRight" fmla="*/ 386280 w 385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3505320" y="2362320"/>
            <a:ext cx="838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 rot="16237200">
            <a:off x="3693240" y="1636920"/>
            <a:ext cx="385560" cy="914400"/>
          </a:xfrm>
          <a:custGeom>
            <a:avLst/>
            <a:gdLst>
              <a:gd name="textAreaLeft" fmla="*/ 246240 w 385560"/>
              <a:gd name="textAreaRight" fmla="*/ 385920 w 385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9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6896160" cy="2610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0"/>
          <p:cNvSpPr/>
          <p:nvPr/>
        </p:nvSpPr>
        <p:spPr>
          <a:xfrm>
            <a:off x="2286000" y="2286000"/>
            <a:ext cx="990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1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1"/>
          <p:cNvSpPr/>
          <p:nvPr/>
        </p:nvSpPr>
        <p:spPr>
          <a:xfrm rot="16237200">
            <a:off x="2586600" y="1526040"/>
            <a:ext cx="385560" cy="1143000"/>
          </a:xfrm>
          <a:custGeom>
            <a:avLst/>
            <a:gdLst>
              <a:gd name="textAreaLeft" fmla="*/ 246240 w 385560"/>
              <a:gd name="textAreaRight" fmla="*/ 385920 w 385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5200" y="190080"/>
            <a:ext cx="8145720" cy="584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Deleting VLAN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520" y="4952520"/>
            <a:ext cx="8610840" cy="1752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)#no switchport access vlan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lan_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This command will reset the interface to VLAN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VLAN 1 cannot be removed from the switch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896160" cy="13716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2"/>
          <a:stretch/>
        </p:blipFill>
        <p:spPr>
          <a:xfrm>
            <a:off x="1066680" y="3648240"/>
            <a:ext cx="6896160" cy="6188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8"/>
          <p:cNvSpPr/>
          <p:nvPr/>
        </p:nvSpPr>
        <p:spPr>
          <a:xfrm>
            <a:off x="609480" y="990720"/>
            <a:ext cx="2514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reate V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609480" y="3124080"/>
            <a:ext cx="2514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lete V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5200" y="177480"/>
            <a:ext cx="8145720" cy="584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ccessing/Managing the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520" y="290808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1000"/>
          </a:bodyPr>
          <a:p>
            <a:pPr marL="214920" indent="-21492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Address, Subnet Mask, and Default Gateway on a switch is for the same purposes as when you configure it for a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ddress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management purposes on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oes not affect the Layer 2 switching operations of the swi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witch must be configured with a vty login/password and a privileged password for telnet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fault, VLAN 1 is the “management VLA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al 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gement VL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hould b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304920" y="1219320"/>
            <a:ext cx="8534160" cy="144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)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vla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)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address 10.1.0.5. 255.255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)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 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)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)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default-gateway 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284760"/>
            <a:ext cx="8145720" cy="959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Arial"/>
              </a:rPr>
              <a:t>3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Arial"/>
              </a:rPr>
              <a:t>Broadcast Domains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Arial"/>
              </a:rPr>
              <a:t>, 3 Switches,</a:t>
            </a:r>
            <a:br>
              <a:rPr sz="3200"/>
            </a:br>
            <a:r>
              <a:rPr b="1" lang="cs-CZ" sz="3200" spc="-1" strike="noStrike">
                <a:solidFill>
                  <a:srgbClr val="0183b7"/>
                </a:solidFill>
                <a:latin typeface="Arial"/>
                <a:ea typeface="Arial"/>
              </a:rPr>
              <a:t>3 LANs, 1 Router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5991120" y="1819440"/>
            <a:ext cx="304488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lassical configura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withou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ach department has its own switch which serves all its nodes as one broadcast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ach department has its own IP sub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rticular networks are separat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/connected by router with as many interfaces as number of departments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85680" y="2298600"/>
            <a:ext cx="581652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5200" y="291960"/>
            <a:ext cx="8145720" cy="609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ccess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the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72320" cy="47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)#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able secret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e vty 0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-line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word 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-line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fa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lan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-if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0.1.0.5. 255.255.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-if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 shut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config)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 default-gatewa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0.1.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MS PGothic"/>
              </a:rPr>
              <a:t>Troubleshoot Common Software or Hardware Misconfigurations Associated with VLAN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1146240" y="1471680"/>
            <a:ext cx="723420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5200" y="190440"/>
            <a:ext cx="8145720" cy="609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Erasing VLAN inform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4038120"/>
            <a:ext cx="8534160" cy="2133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9000"/>
          </a:bodyPr>
          <a:p>
            <a:pPr marL="210240" indent="-2102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communication with its neighbors should be bloc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AN information is kept 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lan.d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le is not erased when erasing the startup-conf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move all VLAN information, use the command above and reload the swit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04920" y="1219320"/>
            <a:ext cx="853416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)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range fastethernet 0/1 -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config-if)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itch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 flas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lan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ete filename [vlan.dat]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ete flash:vlan.dat? [confir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itch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ase startup-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itch#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0"/>
            <a:ext cx="9144000" cy="4382640"/>
            <a:chOff x="0" y="0"/>
            <a:chExt cx="9144000" cy="4382640"/>
          </a:xfrm>
        </p:grpSpPr>
        <p:grpSp>
          <p:nvGrpSpPr>
            <p:cNvPr id="340" name="Group 3"/>
            <p:cNvGrpSpPr/>
            <p:nvPr/>
          </p:nvGrpSpPr>
          <p:grpSpPr>
            <a:xfrm>
              <a:off x="2741760" y="2357280"/>
              <a:ext cx="3809520" cy="2025360"/>
              <a:chOff x="2741760" y="2357280"/>
              <a:chExt cx="3809520" cy="2025360"/>
            </a:xfrm>
          </p:grpSpPr>
          <p:sp>
            <p:nvSpPr>
              <p:cNvPr id="341" name="AutoShape 4"/>
              <p:cNvSpPr/>
              <p:nvPr/>
            </p:nvSpPr>
            <p:spPr>
              <a:xfrm>
                <a:off x="2741760" y="2357280"/>
                <a:ext cx="3809520" cy="20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5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6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7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9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0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1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2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3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4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5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6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7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8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Rectangle 19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VLAN introduc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335268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LANs provide segmentation based on broadcast dom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LAN =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LANs can logically segment switched networks based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sical location (Example: Buil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ganization (Example: Marke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nction (Example: Staf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4952880" cy="11811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4267080" y="2590920"/>
            <a:ext cx="685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lan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 rot="16237200">
            <a:off x="3162960" y="1481400"/>
            <a:ext cx="299880" cy="1908000"/>
          </a:xfrm>
          <a:custGeom>
            <a:avLst/>
            <a:gdLst>
              <a:gd name="textAreaLeft" fmla="*/ 191520 w 299880"/>
              <a:gd name="textAreaRight" fmla="*/ 300240 w 299880"/>
              <a:gd name="textAreaTop" fmla="*/ 49680 h 1908000"/>
              <a:gd name="textAreaBottom" fmla="*/ 1858320 h 19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2666880" y="2619360"/>
            <a:ext cx="990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fault vla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 rot="16237200">
            <a:off x="5259960" y="1968840"/>
            <a:ext cx="299880" cy="914400"/>
          </a:xfrm>
          <a:custGeom>
            <a:avLst/>
            <a:gdLst>
              <a:gd name="textAreaLeft" fmla="*/ 191520 w 299880"/>
              <a:gd name="textAreaRight" fmla="*/ 300240 w 299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5181480" y="2590920"/>
            <a:ext cx="990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fault vla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 rot="16237200">
            <a:off x="4485240" y="2206800"/>
            <a:ext cx="299880" cy="457200"/>
          </a:xfrm>
          <a:custGeom>
            <a:avLst/>
            <a:gdLst>
              <a:gd name="textAreaLeft" fmla="*/ 191520 w 299880"/>
              <a:gd name="textAreaRight" fmla="*/ 300240 w 2998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8760" y="276840"/>
            <a:ext cx="8734680" cy="959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3 Broadcast Domains,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1 Switch,</a:t>
            </a:r>
            <a:br>
              <a:rPr sz="3200"/>
            </a:b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3 VLANs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, 1 Router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rcRect l="0" t="3068" r="0" b="0"/>
          <a:stretch/>
        </p:blipFill>
        <p:spPr>
          <a:xfrm>
            <a:off x="95400" y="2182680"/>
            <a:ext cx="5767200" cy="4023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6110280" y="3097080"/>
            <a:ext cx="2808360" cy="28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he same need solved by V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l share one common switch, but it it divided into V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munication among VLANs provides ro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numbering (Cisco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0" y="1401840"/>
            <a:ext cx="849312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533520" indent="-355680">
              <a:lnSpc>
                <a:spcPct val="11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AN ID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and 4095 reserved for sy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-range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– 1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2 – 1005 Reserved for Token Ring and FDDI V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ored in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vlan.d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ile in flash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xtended-range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igned for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ewer options than normal range V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ored in running configuration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>
              <a:lnSpc>
                <a:spcPct val="110000"/>
              </a:lnSpc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me switches (2960) supports only 255 VLANs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br>
              <a:rPr sz="3200"/>
            </a:b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VLA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port membershi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MS PGothic"/>
              </a:rPr>
              <a:t>VLAN port membersh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ssignme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MS PGothic"/>
              </a:rPr>
              <a:t>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fault is VLAN 1 – initially consists all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500040" y="2941560"/>
            <a:ext cx="8232840" cy="3241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5280120" y="3209760"/>
            <a:ext cx="13935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AC ↔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V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Role of VLAN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5200" y="1391760"/>
            <a:ext cx="8194680" cy="822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ing Broadcast Domains with Switches and Router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Intra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N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453960" y="2502000"/>
            <a:ext cx="829944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MS PGothic"/>
              </a:rPr>
              <a:t>Role of VLAN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200" y="1391760"/>
            <a:ext cx="8093160" cy="126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ing Broadcast Domains with VLANs and Layer 3 Forward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Intra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N Communicati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more details: see CCNP SWITCH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447840" y="3159000"/>
            <a:ext cx="8219880" cy="33656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6578640" y="2502000"/>
            <a:ext cx="2438280" cy="1236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266760" indent="-2667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d for a specific VL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4-02-26T15:54:28Z</dcterms:modified>
  <cp:revision>411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