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F947F57-EEF9-4AC1-985F-5C32FE65176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E581C18-7DB8-4916-843B-335292F5C4D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B69880E-DD34-4F58-B42C-95A76620887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D983AB8-8E37-40CC-A044-4F6C7AC016A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0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1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55560" y="1536480"/>
            <a:ext cx="7940880" cy="741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37040" y="3557520"/>
            <a:ext cx="297000" cy="28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7040" y="4176720"/>
            <a:ext cx="297000" cy="28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4-03-11T15:43:12Z</dcterms:modified>
  <cp:revision>33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