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80DE0A4-30DA-462A-B8DF-0FBA6D4C8A2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2.2, 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3.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raphics in section 2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raphics in section 2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, 2.1.3.2 (pick some of these maybe one or 2 – whatever will fit 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, 2.1.3.2 (pick some of these maybe one or 2 – whatever will fit 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D143311-447A-49DC-8A16-D7DB6690282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40E7198-BC73-456B-805A-684E3359F82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38860A9-9499-4669-B8C6-D0A425F5C93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figure a Switch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2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469800"/>
            <a:ext cx="8145720" cy="393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frame propagation dela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n considerations for Ethernet/802.3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06520" y="2230560"/>
            <a:ext cx="64213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418680"/>
            <a:ext cx="8145720" cy="50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S</a:t>
            </a: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 forwarding method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71280" y="5511960"/>
            <a:ext cx="35967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Cisco specific: fragmen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5640" y="1974960"/>
            <a:ext cx="8172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ctions that Enable a Switch to Forward Ethernet Frames in a LA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mmetric and asymmetric Swi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1800" y="2109960"/>
            <a:ext cx="6486480" cy="43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ctions that Enable a Switch to Forward Ethernet Frames in a LA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memory buffering work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176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Quality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04840" y="3094200"/>
            <a:ext cx="693432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5200" y="418680"/>
            <a:ext cx="8145720" cy="50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Layer 2 and Layer 3 switching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564000" y="4734000"/>
            <a:ext cx="5567400" cy="20732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52320" y="1371600"/>
            <a:ext cx="6572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IOS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ilar like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UI –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Network As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wnloaded from Cisco (CCO username/password requir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; i.e. regist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View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mercial,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dalone application or part of a Simple Network Management Protocol (SNMP) plat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Devic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eb based; web server is part of switch 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P 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393480"/>
            <a:ext cx="8145720" cy="57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B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ot sequence of a Cisco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ch loads the b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from ROM-like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s low-level CPU initialization. It initializes the CPU registers, which control where physical memory is mapped, the quantity of memory, and its spe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s power-on self-test (POST) for the CPU subsystem. It tests the CPU DRAM and the portion of the flash device that makes up the flash file syst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s the flash file system on the system boa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s a default operating system software image into memory and boots the switch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ating system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ds system configuration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fig.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d in flas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393480"/>
            <a:ext cx="8145720" cy="57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mergency boot, password recove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vides access into switch if operating system cannot be loa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vides access to the files stored in the 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llows password recovery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flash_ini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ad_hel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name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.text flash:config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name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old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.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py startup-config running-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nabl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secret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py running-config startup-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D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Cisco swi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280040" y="2006640"/>
            <a:ext cx="4813200" cy="4800240"/>
            <a:chOff x="4280040" y="2006640"/>
            <a:chExt cx="4813200" cy="480024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4280040" y="2006640"/>
              <a:ext cx="4813200" cy="22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4280040" y="4281120"/>
              <a:ext cx="4813200" cy="252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8160" y="2001960"/>
            <a:ext cx="4267080" cy="10000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2600" y="3327480"/>
            <a:ext cx="4216680" cy="11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PS LED (Redundant Power Supply) – 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87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f on, the switch is powered directly by DC (Cisco RPS bo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88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2 V DC for switch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88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52 V DC for Po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0040" y="2006640"/>
            <a:ext cx="799920" cy="330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943280"/>
            <a:ext cx="1117440" cy="330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600" y="3289320"/>
            <a:ext cx="851040" cy="3301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to prepare the switch to be configu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84280" y="2604960"/>
            <a:ext cx="5694480" cy="3699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47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basic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erne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802.3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57360" y="2146320"/>
            <a:ext cx="8221680" cy="167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97040" y="4413240"/>
            <a:ext cx="75880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c switch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P adddress for remot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nly one IP address for whole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ed with just one VLAN, no with re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11960" y="3505320"/>
            <a:ext cx="3606480" cy="319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figure term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erface vlan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p address 172.17.99.11 255.255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no shut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p default gateway 172.17.99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erface fastethernet 0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witchport mode 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witchport access vlan 9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3495600"/>
            <a:ext cx="5499000" cy="3146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444600"/>
            <a:ext cx="9144000" cy="482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55200" y="1391760"/>
            <a:ext cx="848844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ample of som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IOS comma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ow mac address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 mac address-table cou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number of MAC addresses in the 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opy running-config flash:config.backu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nterface fastethernet 0/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uplex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peed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http authentication enab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u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ab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assw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mote access – s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domain-name mydomain.c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any domain can be 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ypto key generate s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ssh ver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iny vty 0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transport input s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642000" y="1657440"/>
            <a:ext cx="2438640" cy="1962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C address flo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address table ove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ofing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spoofing device replies to client DHCP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 fact, Man In The Mid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HCP sta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ttacker changes MAC addresses and exhausts DHCP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HCP snooping as a countermeasure against sp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rusted access ports should not send any DHCP server respon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dhcp snoo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lobal configur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dhcp snooping tru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mand on a trusted 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45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asic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attacks against s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P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suses information provided by the C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ne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nsecured traffic eavesdr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e force password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D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45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asic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attacks against s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work security tools used to improve network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d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enetration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en source/freeware/commercial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identificatio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 Assigned Numbers Authority port number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ng services that use SSL level security, including HTTPS, SMTPS, IMAPS, and security certific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destructive and destructive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 of vulner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chat messag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files from NFS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HTTP requests in Common Log Form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mail messages in Berkeley mbox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pass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captured URLs in browser in rea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od a switched LAN with random MAC 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ge replies to DNS address / pointer quer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cept packets on a switched L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55200" y="393840"/>
            <a:ext cx="8145720" cy="558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curity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Tools and Method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55200" y="1392120"/>
            <a:ext cx="8488440" cy="4772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t security -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oup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MAC addresses allowed on a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utdown if unauthorized MAC addresses are 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 MAC Address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in the address ta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unning configurat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port port-security mac-address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mac-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learn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only in the address ta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cky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lear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av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running configu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562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17784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 security violation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s packets with unknow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s packets with unknown source addresses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the SecurityViolation counter to inc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tdow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s the interface into the error-disabled state immediately and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NMP tra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4940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m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no 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errdisable recovery cause mac-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 automatically after preset period (seco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errdisable recovery interval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06320" y="1361880"/>
            <a:ext cx="7940880" cy="5368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#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rrdisable detec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on for the errdisable stat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Disable Reaso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ion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-violatio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-misconfi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ecure-viol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m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pba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cast-flo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p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p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fp-config-mism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ic-inval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hcp-rate-lim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m-contr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-lim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alid-polic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#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show interfaces status err-disabled (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ch local ports are in the errdisabled stat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hat explains how a LAN is to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o consider in LAN design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cas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286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forward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&amp; forward – used by Cisco Catalyst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through – 2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isco specific - Fragmen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380880"/>
            <a:ext cx="8145720" cy="571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Ethernet - category of addresse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elements of Ethernet/802.3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82720" y="1752480"/>
            <a:ext cx="6091200" cy="3568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87600" y="5308560"/>
            <a:ext cx="4140000" cy="14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Multicast addresses examp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00-0C-CC-CC-CC (V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80-C2-00-00-00 (S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00-5E-xx-xx-xx (IPv4 multica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33-33-xx-xx-xx-xx (IPv6 multica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is conducted between ports that have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is conducted between ports that h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OS C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O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SSH for remot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43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44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19040"/>
            <a:ext cx="8145720" cy="495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collision and broadcast domain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1673280"/>
            <a:ext cx="731520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interface modes 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99880" y="1413000"/>
            <a:ext cx="7940880" cy="2746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38040" y="4448160"/>
            <a:ext cx="7940880" cy="2098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960" y="3098880"/>
            <a:ext cx="3073320" cy="957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itch interface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a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f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ha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switching principle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08200" y="1552680"/>
            <a:ext cx="7940520" cy="3571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7200" y="5753160"/>
            <a:ext cx="44830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witch learns source addr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44600"/>
            <a:ext cx="8145720" cy="482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shared segment and switch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21314"/>
          <a:stretch/>
        </p:blipFill>
        <p:spPr>
          <a:xfrm>
            <a:off x="1217520" y="1971720"/>
            <a:ext cx="6575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73680" y="4067280"/>
            <a:ext cx="5106960" cy="27525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44240"/>
            <a:ext cx="814572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LAN segmentation using switche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2600" y="1422360"/>
            <a:ext cx="48769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419040"/>
            <a:ext cx="8145720" cy="495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LAN segmentation using router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181400" y="3990960"/>
            <a:ext cx="4962600" cy="2867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1206360"/>
            <a:ext cx="49244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3-02-20T08:01:03Z</dcterms:modified>
  <cp:revision>37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