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4A79A4C-71E6-4E2B-8CC0-26B8AACF19D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BF90C90-050D-4852-BBC6-52183D99866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EA54BB9-8576-4AAB-B31E-4B23F80DAE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A3EA673-B788-4565-90DC-95924AC2D5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4D8B09E-1003-4B51-B618-DBAA47C00D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FFEA9A0-6C76-48C4-B42E-5FE317843B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29988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18760" y="4024080"/>
            <a:ext cx="583092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8A8F8D6-235E-4C0E-9FC4-5571A5C384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833C221-4F47-47B1-93BB-924C235D5F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AF44060-DE7C-4E2F-99AB-836878959B2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9D193BA-0FA2-4CFF-8D68-E47C1A28A37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5B93CD4-3BA6-4B5F-9B7A-E03FDE7DB2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341539D-BEC4-4FA2-9A38-030522442CF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89A6F28-CAC4-4F31-9F4D-45E2A0064EC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5.1.3.1 &amp; 5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C2EF592-8E99-4E0F-BE14-8535A14078E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or the slide:  Define convergence for a switched network and summarize the 3 step process STP uses to create a loop fre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156A78C-8CFD-4AFE-B6FA-92F38772A44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1139D28-6127-408C-90E9-E478E92E451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DA578C5-7C67-44C0-8424-D17B67FF00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4.1 – try to put in as many of the steps as you 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8FBACA9-85D3-415A-8321-A65A9B2A1A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1 &amp;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716755F-99B3-4FFE-B110-6695191BE6F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1 (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4BC21C6-4568-451A-8EC8-3BBF702F18F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055A28B-E86B-4193-9A00-26B84A8B6F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92D01E9-F68B-4673-A016-6EF7D31D892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6.1 try to use all 3 but if you can’t then use the description graph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BF72A21-BDAC-4120-BFA4-B7C07A2BB7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7.1 try to use both the configuration commands and the example configuration.  If you can’t then use the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FD4E39A-FEAF-407D-A52D-D90BD5F571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3DC4E4C-3528-4C26-B7F3-0176B0D7779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2BDC5DF-E26E-4D66-B59B-7966A19A99A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7320075-D123-480C-AFAC-D8E1897811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52CDF79-3234-49F4-8F40-579B4C7318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D556104-4902-4701-BAC8-4D3EA9B1692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4EF38B4-FBC8-4A01-BAAF-426D095F933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30C8EB6-D336-42D1-BAE2-476535E53A5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Spanning Tree Protocols</a:t>
            </a:r>
            <a:endParaRPr b="1" lang="en-US" sz="2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– BPDU Detail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486080" y="1738440"/>
            <a:ext cx="6343560" cy="495288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1"/>
          <p:cNvSpPr/>
          <p:nvPr/>
        </p:nvSpPr>
        <p:spPr>
          <a:xfrm>
            <a:off x="939960" y="1257480"/>
            <a:ext cx="735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ination MAC address  01-80-C2-00-00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4400" y="3371760"/>
            <a:ext cx="5192640" cy="3459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3790800" y="812880"/>
            <a:ext cx="5354640" cy="33242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tended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ID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and its R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4137120"/>
            <a:ext cx="1258920" cy="46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9360" y="5546880"/>
            <a:ext cx="1258920" cy="46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TP port states and BPDU timer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847800" y="4008600"/>
            <a:ext cx="7103880" cy="275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63480" y="1382760"/>
            <a:ext cx="74278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010G_324"/>
          <p:cNvPicPr/>
          <p:nvPr/>
        </p:nvPicPr>
        <p:blipFill>
          <a:blip r:embed="rId1"/>
          <a:stretch/>
        </p:blipFill>
        <p:spPr>
          <a:xfrm>
            <a:off x="685800" y="2209680"/>
            <a:ext cx="7861320" cy="41292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port s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at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55560" y="1325520"/>
            <a:ext cx="726912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4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ning tree transitions each port through several different st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678120" y="5319720"/>
            <a:ext cx="5257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Blocking to Forwar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sec + 15 sec + 15 sec = 50 seco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vergence for a switched network and summarize the 3 step process STP uses to create a loop fre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74840" y="3548160"/>
            <a:ext cx="81835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800360" y="1343160"/>
            <a:ext cx="5505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1812960" y="1343160"/>
            <a:ext cx="5479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814400" y="1344600"/>
            <a:ext cx="5489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827360" y="1357200"/>
            <a:ext cx="54766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827360" y="1357200"/>
            <a:ext cx="54766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le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edundancy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 a Converged Switch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redundancy can disable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27120" y="2181240"/>
            <a:ext cx="7886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 u="sng">
                <a:solidFill>
                  <a:srgbClr val="0183b7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814400" y="1343160"/>
            <a:ext cx="5489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647640" y="2058840"/>
            <a:ext cx="7848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ing a root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608040" y="1995480"/>
            <a:ext cx="78771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the STP Algorithm Uses Three Steps to Converge on a Loop-Free Topolog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cting designated ports and non-designated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63480" y="1995480"/>
            <a:ext cx="71056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 u="sng">
                <a:solidFill>
                  <a:srgbClr val="0183b7"/>
                </a:solidFill>
                <a:uFillTx/>
                <a:latin typeface="Arial"/>
              </a:rPr>
              <a:t>Five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-Step STP Decision Sequence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183b7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2240" y="1881000"/>
            <a:ext cx="8951760" cy="420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reating a loop-free topology, STP always uses the same five-step decision seque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or three-step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-Step decisio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 – Lowest BI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 – Lowes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mul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to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 – Lowest Sender 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 – (Lowest Port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 – Lowest Port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28760" y="3309840"/>
            <a:ext cx="5429160" cy="4050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840120"/>
            <a:ext cx="7974000" cy="42876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11120" y="4370400"/>
            <a:ext cx="7869240" cy="149400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651640" y="2247840"/>
            <a:ext cx="1400040" cy="40788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how spanning-tre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870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6000"/>
          </a:bodyPr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tribution1#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ow spanning-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LAN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anning tree enabled protocol ie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ot ID    Priority    32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ess     0009.7c0b.e7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st       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        3 (FastEthernet0/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lo Time   2 sec  Max Age 20 sec  Forward Delay 1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dge ID  Priority    32769  (priority 32768 sys-id-ex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ess     000b.fd13.9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lo Time   2 sec  Max Age 20 sec  Forward Delay 1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ging Time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face        Port ID                     Designated                Por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             Prio.Nbr      Cost Sts      Cost Bridge ID            Prio.N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---------------- -------- --------- --- --------- -------------------- 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1            128.1           19 BLK        19 32769 000b.befa.eec0 1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2            128.2           19 BLK        19 32769 000b.befa.eec0 1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3            128.3           19 FWD         0 32769 0009.7c0b.e7c0 1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4            128.4           19 BLK         0 32769 0009.7c0b.e7c0 1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0/5            128.5           19 FWD        19 32769 000b.fd13.9080 128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Gi0/1            128.25           4 FWD        19 32769 000b.fd13.9080 128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face        Port ID                     Designated                Por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             Prio.Nbr      Cost Sts      Cost Bridge ID            Prio.N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 -------- --------- --- --------- -------------------- 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6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0/2            128.26           4 BLK        19 32769 000b.befa.eec0 128.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31880" y="4970520"/>
            <a:ext cx="3733920" cy="18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246720" y="272880"/>
            <a:ext cx="273384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9" name="Rectangle 6"/>
          <p:cNvSpPr/>
          <p:nvPr/>
        </p:nvSpPr>
        <p:spPr>
          <a:xfrm>
            <a:off x="695160" y="2409840"/>
            <a:ext cx="6488280" cy="893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95160" y="3303720"/>
            <a:ext cx="6488280" cy="731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92280" y="2013120"/>
            <a:ext cx="6505560" cy="396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95160" y="4027320"/>
            <a:ext cx="7351920" cy="24717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005280" y="3484440"/>
            <a:ext cx="1346040" cy="189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005280" y="2570040"/>
            <a:ext cx="1346040" cy="189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how spanning-tree detai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2284560"/>
            <a:ext cx="7940880" cy="306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1#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spanning-tree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LAN0001 is executing the ieee compatible Spanning Tree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idge Identifier has priority 32768, sysid 1, address 000b.fd13.90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figured hello time 2, max age 20, forward delay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root has priority 32769, address 0009.7c0b.e7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ot port is 3 (FastEthernet0/3), cost of root path is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pology change flag not set, detected flag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ber of topology changes 7 last change occurred 00:14:34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GigabitEthernet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s:  hold 1, topology change 35, notific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lo 2, max age 20, forward delay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rs: hello 0, topology change 0, notification 0, aging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58960" y="3314880"/>
            <a:ext cx="6324480" cy="199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 flipV="1">
            <a:off x="5214960" y="3102120"/>
            <a:ext cx="1689120" cy="179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 flipV="1">
            <a:off x="3525840" y="3114720"/>
            <a:ext cx="876240" cy="179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 flipV="1">
            <a:off x="858960" y="3749400"/>
            <a:ext cx="6667200" cy="217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6726240" y="2671920"/>
            <a:ext cx="161280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4199040" y="2671920"/>
            <a:ext cx="59688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923000" y="2671920"/>
            <a:ext cx="838080" cy="201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46720" y="272880"/>
            <a:ext cx="273384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Different types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55560" y="1730520"/>
          <a:ext cx="7940880" cy="4678200"/>
        </p:xfrm>
        <a:graphic>
          <a:graphicData uri="http://schemas.openxmlformats.org/drawingml/2006/table">
            <a:tbl>
              <a:tblPr/>
              <a:tblGrid>
                <a:gridCol w="1325520"/>
                <a:gridCol w="6615360"/>
              </a:tblGrid>
              <a:tr h="1148040">
                <a:tc rowSpan="3"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isco Propriet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V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ses the Cisco proprietary ISL trunking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ach VLAN has an instance of spanning t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bility to load balance traffic at layer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cludes extensions BackboneFast. UplinkFast, and Port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VST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upports I5L and IEEE 802.10 ro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upports Cisco proprietary 5Th ext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dds BPDU guard and Root guard enhanc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pid-PVST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ased on IEE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02.1w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as faster convergence than 802.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rowSpan="2"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ST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(origina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w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every VLAN has separate STP inst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troduced in 1982 provides faster convergence than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mplements vers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of the Cisco pro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tary STP ext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has incorporated RSTP into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D as IEEE 802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STP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(origina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ultiple VLANs can be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ed b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the same spanning-tree in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nspired by the Cisco Multiple Instances Spanning Tree Protocol (MIST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EEE 802.1Q-2003 now includes MS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1"/>
          <a:stretch/>
        </p:blipFill>
        <p:spPr>
          <a:xfrm>
            <a:off x="1079640" y="1481040"/>
            <a:ext cx="69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84280" y="1714680"/>
            <a:ext cx="84834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referred protocol for preventing Layer 2 loops in a switch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parently integrates Cisco-proprietar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better than the Cisco-proprietar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different port states and por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ckward compatible with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kept most configuration parameter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BPDU format as the IEEE 802.1D B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ed 802.1D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10720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k laye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 Loop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9" name="Picture 3" descr="010G_404"/>
          <p:cNvPicPr/>
          <p:nvPr/>
        </p:nvPicPr>
        <p:blipFill>
          <a:blip r:embed="rId1"/>
          <a:stretch/>
        </p:blipFill>
        <p:spPr>
          <a:xfrm>
            <a:off x="4795920" y="2476440"/>
            <a:ext cx="4149720" cy="4230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09480" y="34974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720" y="1143000"/>
            <a:ext cx="4530600" cy="5232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loops can occur any time ther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n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 or loop in the bridg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ip 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idging table entry for Station A (creating extremely high CPU util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Loops can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pies of Etherne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address table instability in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TP edg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d non-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486080" y="2089080"/>
            <a:ext cx="5721120" cy="437364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5707080" y="4467240"/>
            <a:ext cx="21888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3186000" y="478152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3430440" y="478476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3673440" y="4781520"/>
            <a:ext cx="21924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4067280" y="2085840"/>
            <a:ext cx="218880" cy="220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4076640" y="2390760"/>
            <a:ext cx="196920" cy="19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392720" y="2352600"/>
            <a:ext cx="19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on-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747880" y="1477800"/>
            <a:ext cx="6324840" cy="5303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3643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TP lin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rnativ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edundant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up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edundant desig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r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t stat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d por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100080" y="4272120"/>
            <a:ext cx="8823240" cy="2557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2"/>
          <a:stretch/>
        </p:blipFill>
        <p:spPr>
          <a:xfrm>
            <a:off x="5084640" y="1068480"/>
            <a:ext cx="37227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apid per VLAN Spanning Tree (rapid PVST+) in a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configure rapid PVST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0" y="1812960"/>
            <a:ext cx="4349880" cy="2901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3222720" y="4170240"/>
            <a:ext cx="59212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panning Tre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Troubleshoo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5560" y="1747440"/>
            <a:ext cx="7940880" cy="28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identify and solve the key STP configuration issu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oubleshoot a bridging loop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ology of the bridg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root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ocation of the blocked ports and the redunda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27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Protocol (STP) is used to prevent loops from being formed  on redunda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uses different port states &amp; timers to logically preven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t least one switch in a network that serves as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 is elected using information found in BPDU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ports are determined by the spanning tree algorithm and are close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3680" y="1780920"/>
            <a:ext cx="8636040" cy="32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lengthy convergence time (50 seconds) facilitated the developmen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time is slightly over 6 second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bett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PVS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VLAN support to R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eferred spanning-tree protocol on a Cisco switch net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925560" y="4863960"/>
            <a:ext cx="63673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-if)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port mod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-if)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anning-tree port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(config)# spanning-tree portfast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9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9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le of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edundancy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 a Converged Switch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Layer 2 loop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n be s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19120" y="2082960"/>
            <a:ext cx="8039160" cy="4676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840" y="4573440"/>
            <a:ext cx="2211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dia Per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284040" y="5092560"/>
            <a:ext cx="16081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w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ke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66560"/>
            <a:ext cx="4554360" cy="228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calculations make extensive use of two key concepts in creating a loop-free top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586400" y="1538280"/>
            <a:ext cx="4476600" cy="14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853920" y="3913200"/>
          <a:ext cx="7545600" cy="2844720"/>
        </p:xfrm>
        <a:graphic>
          <a:graphicData uri="http://schemas.openxmlformats.org/drawingml/2006/table">
            <a:tbl>
              <a:tblPr/>
              <a:tblGrid>
                <a:gridCol w="1704960"/>
                <a:gridCol w="1710000"/>
                <a:gridCol w="2131920"/>
                <a:gridCol w="1998720"/>
              </a:tblGrid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k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First IEEE Sp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Revised 802.1D-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(Revised 802.1t-20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236520" algn="ctr">
                        <a:lnSpc>
                          <a:spcPct val="95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4772160" y="1833480"/>
            <a:ext cx="4190760" cy="7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rt roles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S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96880" y="1162080"/>
            <a:ext cx="7734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8088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 Spanning</a:t>
            </a:r>
            <a:r>
              <a:rPr b="1" lang="en-GB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rcRect l="325" t="2674" r="1616" b="0"/>
          <a:stretch/>
        </p:blipFill>
        <p:spPr>
          <a:xfrm>
            <a:off x="927000" y="1876320"/>
            <a:ext cx="72392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Ovál 1"/>
          <p:cNvSpPr/>
          <p:nvPr/>
        </p:nvSpPr>
        <p:spPr>
          <a:xfrm>
            <a:off x="749160" y="5295960"/>
            <a:ext cx="1054080" cy="622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ál 4"/>
          <p:cNvSpPr/>
          <p:nvPr/>
        </p:nvSpPr>
        <p:spPr>
          <a:xfrm>
            <a:off x="7149960" y="5207040"/>
            <a:ext cx="1054080" cy="622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římá spojnice 9"/>
          <p:cNvSpPr/>
          <p:nvPr/>
        </p:nvSpPr>
        <p:spPr>
          <a:xfrm>
            <a:off x="990720" y="4216320"/>
            <a:ext cx="7999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římá spojnice 12"/>
          <p:cNvSpPr/>
          <p:nvPr/>
        </p:nvSpPr>
        <p:spPr>
          <a:xfrm>
            <a:off x="7277040" y="4330800"/>
            <a:ext cx="8002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římá spojnice 13"/>
          <p:cNvSpPr/>
          <p:nvPr/>
        </p:nvSpPr>
        <p:spPr>
          <a:xfrm>
            <a:off x="6019920" y="2577960"/>
            <a:ext cx="9144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římá spojnice 14"/>
          <p:cNvSpPr/>
          <p:nvPr/>
        </p:nvSpPr>
        <p:spPr>
          <a:xfrm>
            <a:off x="1689120" y="2577960"/>
            <a:ext cx="8888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římá spojnice 17"/>
          <p:cNvSpPr/>
          <p:nvPr/>
        </p:nvSpPr>
        <p:spPr>
          <a:xfrm>
            <a:off x="3898800" y="6243480"/>
            <a:ext cx="9144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3460680" y="3192480"/>
            <a:ext cx="5683320" cy="3510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panning-Tree Oper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oot bridge per networ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oot port per nonroot brid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esignated port per seg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designated ports are unu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STP 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ridge Protocol Data Uni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768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1752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3b7"/>
                </a:solidFill>
                <a:latin typeface="Arial"/>
              </a:rPr>
              <a:t>Bridge protocol data unit</a:t>
            </a:r>
            <a:r>
              <a:rPr b="0" lang="en-GB" sz="2000" spc="-1" strike="noStrike">
                <a:solidFill>
                  <a:srgbClr val="0183b7"/>
                </a:solidFill>
                <a:latin typeface="Arial"/>
              </a:rPr>
              <a:t> (BP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3-05T18:32:03Z</dcterms:modified>
  <cp:revision>40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