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AD1118-6F09-4054-B12E-EB5D8EAF928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B604388-1F58-45B4-BE49-7F726DA1FC8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FC2F2C3-18B5-4B2B-8420-7CD9759F8D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60000C9-18D6-495F-B074-0D178A01DB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3617A29-500F-4BF5-A71D-6B034F51B9D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518E88F-3AD4-4653-ACB8-592CFDFEE9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037B196-EC7E-4057-A390-5866F68E09F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900A120-05CD-4385-8668-64D7E11656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FD54FDB-314B-4EE2-9092-0AE8E41B054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7913C3A-A325-411E-A76D-A79B593D171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6517897-A8E9-4C3C-BC40-BF7FFD7406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3F97676-A446-4AEE-901F-95F5B785A0C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5151922-7FA5-4205-BA42-BDD0A995B6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1D2331F-518E-433C-9C44-26FFF3AD0A2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F389AA0-5B62-435E-A751-43F1CB806AC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B706340-4E45-47CD-BAC0-BFB0479FF2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7B81753-8B16-4A57-BB56-66991F0985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C746F9C-BCAC-4034-BE1D-26108EFA96B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6B713E4-03C7-4F43-BDD1-CB32136F8C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0355F33-2D1D-4DB4-BEC2-60991482CC3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2BAB057-43B8-4D44-9174-0F333BCB2C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F152BAF-A007-41F2-B2EB-F976B3C40D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0BCFA88-1B7F-4825-A376-F8DE3133B75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CDD8541-B292-4249-80AE-0098981EE2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BAC1C5A-5CB3-4FC0-B158-7935D2125A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04A29B1-A936-4442-8B38-C89178A93B7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4B2DC97-87BF-4CE0-B869-85C18ECD6B5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4912C81-3320-405C-97D5-2AB757D3C76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  <p:sp>
        <p:nvSpPr>
          <p:cNvPr id="195" name="Oval 10"/>
          <p:cNvSpPr/>
          <p:nvPr/>
        </p:nvSpPr>
        <p:spPr>
          <a:xfrm>
            <a:off x="1781280" y="3301920"/>
            <a:ext cx="914400" cy="735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5151600" y="5872320"/>
            <a:ext cx="914400" cy="734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Management Interface (L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alive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tatus information about Frame Relay connections between the router (DTE) and the Frame Relay switch (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I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 statu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flow contro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N/XOF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0x11/0x13 – DC1/DC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6127920" y="5146560"/>
            <a:ext cx="2814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85000"/>
              </a:lnSpc>
              <a:spcBef>
                <a:spcPts val="11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broadc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turns the broadcast into a unicast to send it out so that the other side gets the routing upd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7280" y="5005440"/>
            <a:ext cx="53262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nterface s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p address 10.1.1.1 255.255.255.2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capsulation frame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bandwidth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rame relay map ip 10.1.1.2 102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Frame Relay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rame-relay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102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1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201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0 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3774960" y="4132440"/>
            <a:ext cx="2495520" cy="38088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4107960" y="3989520"/>
            <a:ext cx="3148200" cy="196056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 flipH="1" flipV="1">
            <a:off x="3135240" y="2636640"/>
            <a:ext cx="2897280" cy="338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 flipV="1">
            <a:off x="4002120" y="4060440"/>
            <a:ext cx="3278160" cy="1900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50720" y="2255760"/>
            <a:ext cx="3183120" cy="357120"/>
          </a:xfrm>
          <a:prstGeom prst="ellipse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01760" y="4405320"/>
            <a:ext cx="3182760" cy="357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082520" y="3197160"/>
            <a:ext cx="6872400" cy="36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6400" y="1392120"/>
            <a:ext cx="3392280" cy="310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Information Rate (C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Burst Information Rate (CB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Burst (B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024440" y="1173240"/>
            <a:ext cx="50590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2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Oval 18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891800"/>
            <a:ext cx="4125960" cy="126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nt-to-point subinterfaces on a phys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5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5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3563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as part/complement ISDN, X.25 (original 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 optimized for throughput, other services guaranteed b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80359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344520" y="5557680"/>
            <a:ext cx="363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179280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Relay typical speeds are 56 kbps to 44.7 M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7" name="Line 9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0" y="5627520"/>
            <a:ext cx="40021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 Data-link Connection Identifier (DL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23:15Z</dcterms:modified>
  <cp:revision>37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