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C2FBF695-A664-4445-8D71-BAC8F4A1F2A5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2.2.2.1 thru 2.2.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5.1 (link negoti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5.1 (link negoti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6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3.1 (comman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6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2.1.2.1, 2.1.2.2 &amp; 2.1.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1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2.1.4.1 &amp; 2.1.4.2 (for the latter graphic modify it to use the serial and the router to router pictur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1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1.6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1.7.1 (use statu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D258AE49-A121-4CD7-AB1F-E280ACE97151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39C6C0E7-8A13-4F54-8506-B243228791D7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50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4E9C09A0-3FCC-40B4-843F-6241B1A390DF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Point-to-Point Protocol (PPP)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Accessing the WAN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2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Point-to-Point Concept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general function of each layer of PPP architec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2530440"/>
            <a:ext cx="4471920" cy="30844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430880" y="2487600"/>
            <a:ext cx="471312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Point-to-Point Concept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purpose and format of each of the fields in a PPP fra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896760" y="3100320"/>
            <a:ext cx="742320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Point-to-Point Concept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 the three phases of PPP session establish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052720" y="2144880"/>
            <a:ext cx="552132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Point-to-Point Concept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role of the LCP in PP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370160" y="2224080"/>
            <a:ext cx="627696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Point-to-Point Concept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role of the LCP in PP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328760" y="2073240"/>
            <a:ext cx="666288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Point-to-Point Concept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characteristics of NC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424160" y="2101680"/>
            <a:ext cx="6013440" cy="43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PPP on a Serial Interface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configuration options are communicated in the LCP fra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254240" y="2390760"/>
            <a:ext cx="624024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PPP on a Serial Interface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purpose of the commands used to configure and verify PPP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84680" y="2238480"/>
            <a:ext cx="5302080" cy="4049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outer#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how interfaces serial 0/3/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erial0/3/0 is up, line protocol is 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Hardware is GT96K S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ernet address is 10.0.0.1/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TU 1500 bytes, BW 1544 Kbit/sec, DLY 20000 usec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liability 255/255, txload 1/255, rxload 1/2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ncapsulation PPP, LCP 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pen: IPCP, CDPCP, loopback not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Keepalive set (10 se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ast input 00:00:30, output 00:00:04, output hang ne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ast clearing of "show interface" counters 00:00: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put queue: 0/75/0/0 (size/max/drops/flushes); Total output drops: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ueing strategy: weighted f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utput queue: 0/1000/64/0 (size/max total/threshold/drop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nversations  0/1/256 (active/max active/max tot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served Conversations 0/0 (allocated/max allocat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vailable Bandwidth 1158 kilobits/s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 minute input rate 0 bits/sec, 0 packets/s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 minute output rate 0 bits/sec, 0 packets/s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7 packets input, 1187 bytes, 0 no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ceived 0 broadcasts, 0 runts, 0 giants, 0 thrott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 input errors, 0 CRC, 0 frame, 0 overrun, 0 ignored, 0 ab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5 packets output, 538 bytes, 0 underru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 output errors, 0 collisions, 0 interface re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 unknown protocol dro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 output buffer failures, 0 output buffers swapped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 carrier transi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CD=up  DSR=up  DTR=up  RTS=up  CTS=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5680" y="2305080"/>
            <a:ext cx="3571920" cy="1299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outer(config-if)# compress [predictor|stac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ress algorithm Predictor or Stack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outer(config-if)# ppp quality </a:t>
            </a:r>
            <a:r>
              <a:rPr b="0" i="1" lang="en-US" sz="1000" spc="-1" strike="noStrike">
                <a:solidFill>
                  <a:srgbClr val="000000"/>
                </a:solidFill>
                <a:latin typeface="Courier New"/>
              </a:rPr>
              <a:t>percent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 link treshold (1 - 10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PPP on a Serial Interface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output of the show interfaces serial comm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017720" y="2787480"/>
            <a:ext cx="733716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PPP on a Serial Interface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output of the debug ppp comm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896760" y="2081160"/>
            <a:ext cx="695016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Fundamental Concepts of Point-to-Point Serial Communication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concept of serial communication as the basis of WAN technolog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95280" y="2570040"/>
            <a:ext cx="61722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ing PPP with Authenticatio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fferentiate between PAP and CHA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204920" y="2043000"/>
            <a:ext cx="6154560" cy="45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ing PPP with Authenticatio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to use PAP to authenticate a PPP conn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982800" y="2620800"/>
            <a:ext cx="6454800" cy="35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ing PPP with Authenticatio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to use CHAP to authenticate a PPP conn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57080" y="2685960"/>
            <a:ext cx="742176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ing PPP with Authenticatio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line the PPP encapsulation and authentication process on a flow cha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639800" y="2451240"/>
            <a:ext cx="564516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ing PPP with Authenticatio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how to configure a PPP connection with authent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254240" y="2320920"/>
            <a:ext cx="647532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ing PPP with Authenticatio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output of the debug ppp authentication comm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454040" y="2611440"/>
            <a:ext cx="597060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55200" y="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1422360"/>
            <a:ext cx="7940880" cy="5081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P is a widely used WAN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P provides multi-protocol LAN to WAN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P session establishment – 4 p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establish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quality deter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layer protocol configuration negot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ter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 Encaps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LC default encaps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55200" y="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3000" y="998640"/>
            <a:ext cx="7993080" cy="5292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9000"/>
          </a:bodyPr>
          <a:p>
            <a:pPr marL="234000" indent="-2340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P 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229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5600" indent="1602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way handsh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229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5600" indent="1602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way handsh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229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bug ppp authenti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confirm authentication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4000" indent="-2340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P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229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e on a serial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4000" indent="-2340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PPP configuration, use show interfaces command to displ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229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CP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229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CP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236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237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Fundamental Concepts of Point-to-Point Serial Communication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how two or more data streams are transported across a single physical connection using TD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2730600"/>
            <a:ext cx="4876920" cy="3141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948200" y="2847960"/>
            <a:ext cx="419580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Fundamental Concepts of Point-to-Point Serial Communication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 the location of the demarcation point relative to customer and service provider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401840" y="2522520"/>
            <a:ext cx="564516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Fundamental Concepts of Point-to-Point Serial Communication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terms DTE and DCE with relative to the location of devices in a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2125800"/>
            <a:ext cx="5229360" cy="2393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991040" y="3753000"/>
            <a:ext cx="415296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Fundamental Concepts of Point-to-Point Serial Communication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high-level data link control (HDLC) uses one of three frame types to encapsulat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881360" y="2492280"/>
            <a:ext cx="507816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Fundamental Concepts of Point-to-Point Serial Communication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when and how to configure HDLC encapsulation on a rou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874800" y="2570040"/>
            <a:ext cx="7385040" cy="31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Fundamental Concepts of Point-to-Point Serial Communication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procedure to follow when troubleshooting a serial conn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182600" y="2550960"/>
            <a:ext cx="644544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Point-to-Point Concept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PPP in terms of its use in WAN lin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951200" y="2131920"/>
            <a:ext cx="451800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K</cp:lastModifiedBy>
  <cp:lastPrinted>1999-01-27T00:54:54Z</cp:lastPrinted>
  <dcterms:modified xsi:type="dcterms:W3CDTF">2012-04-02T13:19:03Z</dcterms:modified>
  <cp:revision>341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