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49E685-36FC-4B4C-ACD4-2088C1A1936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F3D5DE8-F531-490F-B6C0-8B1B79A6794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2BBDD4F-9452-40AE-BCD2-FB64AB11449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A1769AC-DE06-418B-B322-48E435298B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NM = Enterprise Composite 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options for connecting subscribers to th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71760" y="2543040"/>
            <a:ext cx="60069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prises u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1727280"/>
            <a:ext cx="74167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ulse Amplitude Modulation Sampl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247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reation of a Time Division Multiplexing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42400" cy="4626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43040" y="2900520"/>
            <a:ext cx="66150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2760" y="3495600"/>
            <a:ext cx="66150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43040" y="4086360"/>
            <a:ext cx="6615000" cy="0"/>
          </a:xfrm>
          <a:prstGeom prst="line">
            <a:avLst/>
          </a:prstGeom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00280" y="236232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136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38480" y="236700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9200" y="237636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85880" y="237168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69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480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9120" y="236232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51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86240" y="237168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3868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19400" y="236232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76880" y="237636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0" y="238608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9600" y="23814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053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864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62480" y="23670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4356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46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976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6.14 Time Division Multiplexing Using PCM Signal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M systems using PAM are susceptible to noise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stry standard for converting an analog signal into a digital signal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lse Code Mod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C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M/TDM has many advantages over FDM and PAM/T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ls are less susceptible to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ircuitry lends itself readily to integrated circuit design, which makes digital circuits cheaper than analog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-to-digital interface is easily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 Pulse Code Modul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stry standard method for converting one analog voice signal into a digital signal is P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ive basic steps to PC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1 Sampl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how often measurements are taken of the input analog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yquist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s that an analog signal should be sampled at a rate at least twice its highest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lecommunications, the network was designed to handle signals between 0 and 4000 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/8000 of a second (12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) a voltage measurement is taken of the input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98560" y="2097000"/>
            <a:ext cx="75549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2 Quantiz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M, each voltage measurement is converted to an 8-bit code, and the 8-bit coded is sent instead of the actual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signal can be an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8-bit coded limits the conversion process to the recognition of 256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56)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to convert the input level to one of the 256 discrete cod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3 Compan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zing a signal will result in some distortion because we do not code the exact voltage of the input sig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stortion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antizing no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t is greater for low-amplitude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an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reduce quantizing no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gnal is compressed at the transmitter to divide low-amplitude signals into more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signal is decoded at the receiving system, it is expanded by reversing the compress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4 Enco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ression and quantization of the input signal, it will be one of the 256 discrete signal levels that can be assigned an 8-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assigning an 8-bit code to represent the signal level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5 Fram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coded 8-bit signal is time division multiplexed with 23 other 8-bit signals to generate 192 bits for 24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ngle framing bit is added to these 192 bits to make a 193-bit fr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ing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n established pattern of 1s and 0s for 12 frames (1,0,0,0,1,1,0,1,1,1,0,0) and then repeat in each of the succeeding 12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ttern is used by the receiving terminal to stay synchronized with the receive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6 North American DS1 System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building block for digital transmission standards begins with the DS0 sign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voic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/sample x 8,000 samples/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S1 signal has 24 voice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 bits per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x 8 bits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raming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e Frame of a DS1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184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7 T1 Carrier System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ing system of choice to connect two central offices in a North American DS1 system is called T1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o remove load coils from pairs being used for T1 to improve high-frequ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 (pulse regenerators) are placed where the load coils were and at each central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perfram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01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 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5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481640" cy="2962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114640"/>
            <a:ext cx="46386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789280"/>
            <a:ext cx="4425840" cy="307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8640" y="2776680"/>
            <a:ext cx="463536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08T14:57:40Z</dcterms:modified>
  <cp:revision>35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