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85D1288-B25F-4DB1-954F-EC568226FA1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2.2.1 thru 2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 (comman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2.1, 2.1.2.2 &amp;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4.1 &amp; 2.1.4.2 (for the latter graphic modify it to use the serial and the router to router pictu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7.1 (use stat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712AFFD-33B1-40FF-AC57-C37022E4BA7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518AFC5-C5E6-4163-922E-E093380FC85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040A2FC-3551-46E1-8974-387EF0E1DE5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oint-to-Point Protocol (PPP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general function of each layer of PPP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530440"/>
            <a:ext cx="4471920" cy="3084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30880" y="2487600"/>
            <a:ext cx="47131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urpose and format of each of the fields in a PP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96760" y="3100320"/>
            <a:ext cx="74232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hree phases of PPP session establ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2720" y="2144880"/>
            <a:ext cx="55213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70160" y="2224080"/>
            <a:ext cx="62769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28760" y="2073240"/>
            <a:ext cx="666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haracteristics of N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24160" y="2101680"/>
            <a:ext cx="601344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configuration options are communicated in the LC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54240" y="2390760"/>
            <a:ext cx="6240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of the commands used to configure and verify PPP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4680" y="2238480"/>
            <a:ext cx="5302080" cy="404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#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how interfaces serial 0/3/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rial0/3/0 is up, line protocol is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ardware is GT96K S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net address is 10.0.0.1/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TU 1500 bytes, BW 1544 Kbit/sec, DLY 20000 usec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liability 255/255, txload 1/255, rxload 1/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capsulation PPP, LCP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pen: IPCP, CDPCP, loopback not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epalive set (10 s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input 00:00:30, output 00:00:04, output hang n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clearing of "show interface" counters 00:00: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queue: 0/75/0/0 (size/max/drops/flushes); Total output drops: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ueing strategy: weighted f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utput queue: 0/1000/64/0 (size/max total/threshold/drop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versations  0/1/256 (active/max active/max to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served Conversations 0/0 (allocated/max alloca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vailable Bandwidth 1158 kilobi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in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out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 packets input, 1187 bytes, 0 no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ceived 0 broadcasts, 0 runts, 0 giants, 0 thrott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input errors, 0 CRC, 0 frame, 0 overrun, 0 ignored, 0 ab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5 packets output, 538 bytes, 0 underru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errors, 0 collisions, 0 interface re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unknown protocol dr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buffer failures, 0 output buffers swapped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carrier tran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CD=up  DSR=up  DTR=up  RTS=up  CTS=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680" y="2305080"/>
            <a:ext cx="3571920" cy="129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compress [predictor|stac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ss algorithm Predictor or St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ppp quality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percen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link treshold (1 - 1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show interfaces serial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17720" y="2787480"/>
            <a:ext cx="7337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96760" y="2081160"/>
            <a:ext cx="6950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serial communication as the basis of WAN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2570040"/>
            <a:ext cx="61722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e between PAP and CH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04920" y="2043000"/>
            <a:ext cx="61545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P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82800" y="2620800"/>
            <a:ext cx="645480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CH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7080" y="2685960"/>
            <a:ext cx="74217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the PPP encapsulation and authentication process on a flow ch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39800" y="2451240"/>
            <a:ext cx="564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PPP connection with authent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4240" y="2320920"/>
            <a:ext cx="64753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authentication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54040" y="2611440"/>
            <a:ext cx="59706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5081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is a widely used WA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provides multi-protocol LAN to WAN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session establishment – 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quality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ayer protocol configuration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C default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3000" y="998640"/>
            <a:ext cx="7993080" cy="529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 ppp authent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firm authenticati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on a seri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PP configuration, use show interfaces command to disp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3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3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wo or more data streams are transported across a single physical connection using T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2730600"/>
            <a:ext cx="4876920" cy="314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48200" y="2847960"/>
            <a:ext cx="4195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location of the demarcation point relative to customer and service provid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01840" y="2522520"/>
            <a:ext cx="56451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terms DTE and DCE with relative to the location of devices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125800"/>
            <a:ext cx="5229360" cy="23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91040" y="3753000"/>
            <a:ext cx="41529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high-level data link control (HDLC) uses one of three frame types to encapsul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81360" y="2492280"/>
            <a:ext cx="50781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when and how to configure HDLC encapsulation on a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74800" y="2570040"/>
            <a:ext cx="738504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rocedure to follow when troubleshooting a serial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2600" y="2550960"/>
            <a:ext cx="64454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PPP in terms of its use in WAN lin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51200" y="2131920"/>
            <a:ext cx="45180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4-02T13:19:03Z</dcterms:modified>
  <cp:revision>341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