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45AF5E7-64FF-499E-8129-2D5A1C274CF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1.3.3.1 &amp; 1.3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bjective stated above does not make sense to me.  Reword the above objective as follows:  List factors to consider when selecting a WAN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ace permits add graphics 1.2.2.2 &amp; 1.2.2.3 (if forced to make a choice between the 2 graphic pick 1.2.2.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graphic can be found at the following URL (not necessary to use – just a thought):  http://www.cisco.com/image/jpg/en/us/guest/products/ps6438/c1244/cdccont_0900aecd802c2010_0900aecd802c2010-0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FF3041D-91C3-42BF-BED1-FD358C61D3D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9F887E0-7D33-4945-BB88-89A33734B85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BA4775F-7C73-44B7-8AAA-15560DE8349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ervices in a Converged WA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1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NM = Enterprise Composite Network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ious options for connecting subscribers to the 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71760" y="2543040"/>
            <a:ext cx="600696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erprises u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eased line services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14360" y="2732040"/>
            <a:ext cx="6343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cuit switching options available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0280" y="2800440"/>
            <a:ext cx="4064040" cy="2168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867200" y="2824200"/>
            <a:ext cx="405756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ket switching options available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27160" y="2333520"/>
            <a:ext cx="58071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ors to consider when selecting a WAN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19240" y="1727280"/>
            <a:ext cx="74167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Pulse Amplitude Modulation Sampl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0247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reation of a Time Division Multiplexing Signal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042400" cy="4626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643040" y="2900520"/>
            <a:ext cx="66150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52760" y="3495600"/>
            <a:ext cx="66150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43040" y="4086360"/>
            <a:ext cx="6615000" cy="0"/>
          </a:xfrm>
          <a:prstGeom prst="line">
            <a:avLst/>
          </a:prstGeom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00280" y="2362320"/>
            <a:ext cx="11412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81360" y="2367000"/>
            <a:ext cx="11412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7400" y="2362320"/>
            <a:ext cx="11448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38480" y="2367000"/>
            <a:ext cx="11412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9200" y="2376360"/>
            <a:ext cx="11448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85880" y="2371680"/>
            <a:ext cx="11448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66960" y="2362320"/>
            <a:ext cx="11448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48040" y="2367000"/>
            <a:ext cx="11412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29120" y="2362320"/>
            <a:ext cx="11412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05160" y="2362320"/>
            <a:ext cx="11448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86240" y="2371680"/>
            <a:ext cx="11412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52920" y="2367000"/>
            <a:ext cx="11412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38680" y="2357280"/>
            <a:ext cx="11412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19400" y="2362320"/>
            <a:ext cx="11448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2367000"/>
            <a:ext cx="11412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76880" y="2376360"/>
            <a:ext cx="11412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57600" y="2386080"/>
            <a:ext cx="11448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9600" y="2381400"/>
            <a:ext cx="11448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05360" y="2362320"/>
            <a:ext cx="11448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86440" y="2367000"/>
            <a:ext cx="11412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62480" y="2367000"/>
            <a:ext cx="11448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43560" y="2357280"/>
            <a:ext cx="114120" cy="3886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24640" y="2367000"/>
            <a:ext cx="114120" cy="38862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19760" y="2362320"/>
            <a:ext cx="114480" cy="3886200"/>
          </a:xfrm>
          <a:prstGeom prst="rect">
            <a:avLst/>
          </a:prstGeom>
          <a:noFill/>
          <a:ln w="255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</a:rPr>
              <a:t>6.14 Time Division Multiplexing Using PCM Signal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M systems using PAM are susceptible to noise inter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dustry standard for converting an analog signal into a digital signal is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lse Code Modu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C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M/TDM has many advantages over FDM and PAM/T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ls are less susceptible to no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circuitry lends itself readily to integrated circuit design, which makes digital circuits cheaper than analog circu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-to-digital interface is easily achie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5 Pulse Code Modul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ustry standard method for converting one analog voice signal into a digital signal is P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ive basic steps to PC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5.1 Sampl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mp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s to how often measurements are taken of the input analog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yquist Theor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s that an analog signal should be sampled at a rate at least twice its highest frequ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elecommunications, the network was designed to handle signals between 0 and 4000 H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1/8000 of a second (125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) a voltage measurement is taken of the input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Cisco Architecture and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rpose and function of W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98560" y="2097000"/>
            <a:ext cx="755496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5.2 Quantiz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CM, each voltage measurement is converted to an 8-bit code, and the 8-bit coded is sent instead of the actual vol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put signal can be any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8-bit coded limits the conversion process to the recognition of 256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56)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ant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rocess to convert the input level to one of the 256 discrete code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5.3 Compand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ntizing a signal will result in some distortion because we do not code the exact voltage of the input sig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distortion is calle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antizing no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it is greater for low-amplitude sign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and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used to reduce quantizing noi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gnal is compressed at the transmitter to divide low-amplitude signals into more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signal is decoded at the receiving system, it is expanded by reversing the compression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5.4 Encod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ompression and quantization of the input signal, it will be one of the 256 discrete signal levels that can be assigned an 8-bi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assigning an 8-bit code to represent the signal level is know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co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5.5 Fram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ncoded 8-bit signal is time division multiplexed with 23 other 8-bit signals to generate 192 bits for 24 sign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ngle framing bit is added to these 192 bits to make a 193-bit fra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ming B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an established pattern of 1s and 0s for 12 frames (1,0,0,0,1,1,0,1,1,1,0,0) and then repeat in each of the succeeding 12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attern is used by the receiving terminal to stay synchronized with the received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6 North American DS1 System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ic building block for digital transmission standards begins with the DS0 signal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voice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bits/sample x 8,000 samples/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S1 signal has 24 voice equival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 bits per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x 8 bits per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framing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ne Frame of a DS1 Signal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5184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6.17 T1 Carrier System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ltiplexing system of choice to connect two central offices in a North American DS1 system is called T1 car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ecessary to remove load coils from pairs being used for T1 to improve high-frequency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 (pulse regenerators) are placed where the load coils were and at each central of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perfram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001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N is defin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 communications network that operates beyond the geographic scope of a 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primarily operate on layer 1 &amp; 2 of the OSI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technologie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e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-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-768 / STM-256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.84 Mbit/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81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bit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5560" y="996840"/>
            <a:ext cx="7940880" cy="5453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Enterpris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expansion of the hierarchical model that further divides the enterprise network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ng the appropriate WAN technology requires considering some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’s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scope of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AN uses a public or privat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Cisco Architecture and 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ges of business growth, the corresponding business requirements for services and how those requirements are reflected in the Enterprise’s changing network top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00120" y="3095640"/>
            <a:ext cx="595476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5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5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Cisco Architecture and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blems with the Hierarchical Design Model that Cisco's Enterprise Composite Model has been designed to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009880" y="2633760"/>
            <a:ext cx="48672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Cisco Architecture and</a:t>
            </a: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rpose of Cisco Enterprise Archite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62360" y="3565440"/>
            <a:ext cx="4481640" cy="2962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114640"/>
            <a:ext cx="46386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N functions in terms of the OSI Reference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17720" y="2552760"/>
            <a:ext cx="72421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WAN physical layer concepts for network and Internet commun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789280"/>
            <a:ext cx="4425840" cy="3073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08640" y="2776680"/>
            <a:ext cx="463536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WAN data link layer protocols used in today’s Enterprise WAN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33400" y="2387520"/>
            <a:ext cx="553428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ching technologies used for WANs in an Enterprise 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2760" y="2859120"/>
            <a:ext cx="3779640" cy="2197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06920" y="3071880"/>
            <a:ext cx="43275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3-04-08T14:57:40Z</dcterms:modified>
  <cp:revision>350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