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F216BF8-D7AA-4BFD-9104-7401FCEC3A4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F2769CB-B768-4E3A-AE30-34BDEC33C2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EADE39F-54B4-4E33-822C-7885CD9E15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E98DA32-33A6-4C07-843B-6FCFE89CA6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2.1 &amp; 5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F3D5800-3808-437C-B727-76092D1B5DE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C33B8C5-AB35-4DCC-B0EC-1B2BE62B3D9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3.1 &amp; 5.2.3.2 (use the examples), 5.2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BC56A6E-7409-4162-B8C5-F978609BB5A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67499D2-1C8E-4FDD-80D1-B80596BF08B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92B003E-1FDC-4006-8809-ABD3F01BCEC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4.1 (use syntax &amp; one example), 5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BB0B73F-70C1-4C03-8F8B-BD11C958CE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5BFCF3A-1F8E-464F-9810-F48A30C67DF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3C2F1FD-3F41-4690-8AAB-10F83F61612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9E5FEFC-FA1E-41F1-B311-7FD2DF0E2A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3BD119C-8693-401F-A83C-084088DDEE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305E397-6A4A-4C8E-B0C4-E32DB345F0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B5830B51-2F0F-4438-9173-BC50AFA158C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B562116-50D2-4AC5-8FBB-1137CD6C759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AAA3ED8-E071-43E0-8300-DDC01C2F4AF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2C8C012-3395-47C7-A7DF-0B4647F7CEB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D31DFA0-BB2A-4675-874C-07F3B8A0FE7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88398F8-8D77-4A9C-8A62-EF4B69E064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7A00F96-1AB2-4384-8EBE-85B59D4A00B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6B8C0B2-4694-4766-8D00-790DBD3010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7DC2844-8862-41CC-8E29-D181E29AECB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B6C8BC-4622-4ED1-B1CE-1000478F330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53329C2-1F00-446F-AAC8-3AE65159912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8248129-ACA7-4D0F-B27E-ABFF80A6F5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07F18EA-ABA7-4281-BEDC-BB23144DF1D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26BBA1B-FF41-4634-A82A-E35047E1C9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86FEF3-8057-46B9-A743-C01F86BF41B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sure what you want here.  It looks like this is associated with the lab portion of the chapter.  If you’re looking for an objective I would place the following 2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, place &amp; verify an standard/extedended ACL and verify its plac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y ACL’s functionality and troubleshoot a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far as a graphic is concerned you can use a previous topology (for example the graphic from 5.4.5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F7B3CD7-AB11-4DD1-8A0E-3820798DD56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4DEC15B-A51C-428F-AC8E-F89EC297AB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98EE56C-2825-4558-AA98-84BC5818475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0F24897-CF06-47B8-9462-BB894200A35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9FE139A-9E55-436E-8B97-0793910C9A5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3F08F32-3AB0-48EB-AD77-3DFE96111B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0383FB4-142D-4B44-8875-22B94236661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60D072E-DF79-4F9A-9B15-6942CA5C618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5..1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1BEC03C-8EB3-4A31-B34D-3973A37297C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2839D12-D19B-4A2A-AC17-7C078EB084D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7D0BACD-019B-479B-98CB-DAB2478AB8B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Access Control Lists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46200" y="1468440"/>
            <a:ext cx="79452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505400" y="1317600"/>
            <a:ext cx="4624200" cy="387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20520" y="3443400"/>
            <a:ext cx="60105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15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wildcard masks with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1057320" y="1805040"/>
            <a:ext cx="7014960" cy="1108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0" y="334800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58680" y="4202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5208480"/>
            <a:ext cx="2435400" cy="11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Wildcard Mask Calcul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255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-255.255.255.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000.000.00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79200" y="60627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4213080" y="3989520"/>
            <a:ext cx="4748400" cy="264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4"/>
          <p:cNvSpPr/>
          <p:nvPr/>
        </p:nvSpPr>
        <p:spPr>
          <a:xfrm>
            <a:off x="4691160" y="3629160"/>
            <a:ext cx="39956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an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´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dcard mask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276200" y="2233440"/>
            <a:ext cx="65916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419040" y="1930320"/>
            <a:ext cx="84330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92040" y="1990800"/>
            <a:ext cx="8475840" cy="4867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817640" y="1967040"/>
            <a:ext cx="6567480" cy="4698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8800" y="1779480"/>
            <a:ext cx="18194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84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umber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1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ly delete old and write new one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463680" y="2565360"/>
            <a:ext cx="8156520" cy="389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78200" y="3678120"/>
            <a:ext cx="5397480" cy="95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157800" y="1517760"/>
            <a:ext cx="2933640" cy="82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nto Not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Pa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7224480" y="2541600"/>
            <a:ext cx="603000" cy="1366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te a 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592200" y="2855880"/>
            <a:ext cx="81820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9080" y="1803240"/>
            <a:ext cx="3956040" cy="301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890880" y="3683160"/>
            <a:ext cx="5253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eps that occur in a complete TCP conver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4520" y="2476440"/>
            <a:ext cx="77054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4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cess for editing named ACL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dding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0" y="1841400"/>
            <a:ext cx="3614760" cy="2738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3270240" y="3639960"/>
            <a:ext cx="58737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Standar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9555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monitor and verify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71440" y="3006720"/>
            <a:ext cx="85996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iltering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a standard 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0" y="302256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25320" y="2055960"/>
            <a:ext cx="8082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89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tended AC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722160" y="2735280"/>
            <a:ext cx="80679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62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 extended ACL to a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838080" y="2004840"/>
            <a:ext cx="78534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Extended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d extend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084320" y="1952640"/>
            <a:ext cx="73785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79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e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s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x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355680" y="3171960"/>
            <a:ext cx="85629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311120" y="2865600"/>
            <a:ext cx="7232760" cy="3724200"/>
          </a:xfrm>
          <a:prstGeom prst="rect">
            <a:avLst/>
          </a:prstGeom>
          <a:ln w="0">
            <a:noFill/>
          </a:ln>
        </p:spPr>
      </p:pic>
      <p:sp>
        <p:nvSpPr>
          <p:cNvPr id="246" name="Oval 7"/>
          <p:cNvSpPr/>
          <p:nvPr/>
        </p:nvSpPr>
        <p:spPr>
          <a:xfrm>
            <a:off x="1143000" y="633096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2335320" y="4441320"/>
            <a:ext cx="1601640" cy="1830600"/>
          </a:xfrm>
          <a:prstGeom prst="line">
            <a:avLst/>
          </a:prstGeom>
          <a:ln w="93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3540240" y="6313320"/>
            <a:ext cx="1371600" cy="29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2673360" y="6550200"/>
            <a:ext cx="8348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346040" y="2523960"/>
            <a:ext cx="7048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a packet filter allows or blocks traf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52560" y="2046240"/>
            <a:ext cx="682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1312920" y="2027160"/>
            <a:ext cx="71359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lexive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286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 directly 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878040" y="2749680"/>
            <a:ext cx="73864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920880" y="2009880"/>
            <a:ext cx="76755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e-based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708120" y="2641680"/>
            <a:ext cx="77277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Complex ACLs in a Medium-Size Enterprise Branch Office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troubleshoot common ACL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1447920" y="1951200"/>
            <a:ext cx="6562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8" descr=""/>
          <p:cNvPicPr/>
          <p:nvPr/>
        </p:nvPicPr>
        <p:blipFill>
          <a:blip r:embed="rId1"/>
          <a:stretch/>
        </p:blipFill>
        <p:spPr>
          <a:xfrm>
            <a:off x="1752480" y="2827440"/>
            <a:ext cx="6829560" cy="4030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mplement, Verify and Troubleshoot ACLs in an Enterprise Network Environm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55480" y="1563840"/>
            <a:ext cx="794088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, place and verify a standard/ extended ACL and verify its 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y ACL’s functionality and troubleshoot a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0400" y="939600"/>
            <a:ext cx="7940880" cy="55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cess List (ACL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permit and deny statements that are used to filter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s 1 - 99 and 1300 -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 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by number 100 -199 &amp; 2000 - 26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 traffic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312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0460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 IOS 11.2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for either standard or extend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’s use Wildcard Masks (W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as the inverse of a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ck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gnore th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46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 th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ce the ACL on a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CL are placed nearest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ACL are placed nearest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s for verifying &amp; troubleshooting an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ccess-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xive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based 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ACLs control access to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125360" y="2027160"/>
            <a:ext cx="71614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8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8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 flow chart to show how ACLs ope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711440" y="2087640"/>
            <a:ext cx="56084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types and formats of AC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mple (numbered or na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360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lex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9280" indent="-26964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Cisco ACLs can be identified using standardized numbering o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4834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ere ACLs should be placed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2249640"/>
            <a:ext cx="5084640" cy="333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140440" y="4059360"/>
            <a:ext cx="3987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xplain How ACLs are Used to Secure a Medium-Size Enterprise Branch Offic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considerations for creating AC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409680" y="2452680"/>
            <a:ext cx="82994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59:54Z</dcterms:modified>
  <cp:revision>38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