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E09B3561-7E5B-4763-BFEE-101E6D3CCBE1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40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F78634A7-0D6D-4E5D-822E-BB9D7EB327D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858960" y="239760"/>
            <a:ext cx="5199120" cy="38988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396360" y="4277880"/>
            <a:ext cx="5985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EF5B7D98-A553-4340-9849-DF0BA099C00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6166784D-FCB8-48A9-83C9-971F2764C35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540B2006-1102-46DB-A229-0BDCBE878D1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5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95AC3C5-A16E-434B-967E-C134359E998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5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1273E22D-EA7C-40C3-AB44-0B98C20EF27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5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2BB5822D-6182-49E0-86F5-F64DBAD9665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2.1.1 &amp; 3.2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660A6E43-E0C6-4BB4-AB14-23D37E3FB5B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16676FCE-F8E1-46FA-9478-C8DA4AA1376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DF1B0DBF-4509-43A0-A5C8-C6D2249B1DE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3.2.1 &amp; 3.3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66F8DA43-2DEC-41D0-BD82-5FD022BC7C1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3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913647C8-400D-43A6-A3E4-8CF07CE66B4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1.1 (frame rel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57603615-9D5C-4B1A-8184-7544D912046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4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56E2A59-13D7-4B4A-84E7-2B5621459B4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4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19AFEE2A-1547-475D-A401-FF8677885A5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4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73EA10B9-26C5-4DC3-B455-FFE8F0B29E1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F488958B-F545-4DC2-8A30-5E68E731314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40210032-3FBC-458A-9587-FE7362D1462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1.1 (frame rel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6CBC78F1-83BC-4F04-8C73-83A939DAE36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1.1 (frame rel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90028425-A25F-4009-9E88-6B02F607AFB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1.1 (frame rel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9E121385-5BBC-47F6-A91C-442DB775282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AFB3480E-A7B3-4BA6-A64A-2347E490219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F17360DF-ADA6-42A1-820E-A045F70886B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1"/>
          <p:cNvSpPr/>
          <p:nvPr/>
        </p:nvSpPr>
        <p:spPr>
          <a:xfrm>
            <a:off x="5797440" y="8480520"/>
            <a:ext cx="795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877FEB0E-66FB-4C02-AFBD-D9E8042EC7E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0108288-8B6C-499A-86A9-94C2F8908E2E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9F9B859-4C25-4B86-8200-86AE717445EA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04BDB97E-7981-4A21-8738-59CBE996DDF4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609480" y="525600"/>
            <a:ext cx="1447920" cy="769680"/>
            <a:chOff x="609480" y="525600"/>
            <a:chExt cx="1447920" cy="769680"/>
          </a:xfrm>
        </p:grpSpPr>
        <p:sp>
          <p:nvSpPr>
            <p:cNvPr id="92" name="AutoShape 8"/>
            <p:cNvSpPr/>
            <p:nvPr/>
          </p:nvSpPr>
          <p:spPr>
            <a:xfrm>
              <a:off x="609480" y="525600"/>
              <a:ext cx="144792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9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3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4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5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6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7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8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9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0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1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2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Picture 27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Frame Relay </a:t>
            </a:r>
            <a:endParaRPr b="1" lang="en-US" sz="30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Accessing the WAN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9" descr=""/>
          <p:cNvPicPr/>
          <p:nvPr/>
        </p:nvPicPr>
        <p:blipFill>
          <a:blip r:embed="rId1"/>
          <a:stretch/>
        </p:blipFill>
        <p:spPr>
          <a:xfrm>
            <a:off x="4518000" y="3787920"/>
            <a:ext cx="4626000" cy="30700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2400" y="457200"/>
            <a:ext cx="899136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pes of topologies that are used for implementing Frame Relay in different environ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0" y="2282760"/>
            <a:ext cx="4627440" cy="3208320"/>
          </a:xfrm>
          <a:prstGeom prst="rect">
            <a:avLst/>
          </a:prstGeom>
          <a:ln w="0">
            <a:noFill/>
          </a:ln>
        </p:spPr>
      </p:pic>
      <p:sp>
        <p:nvSpPr>
          <p:cNvPr id="195" name="Oval 10"/>
          <p:cNvSpPr/>
          <p:nvPr/>
        </p:nvSpPr>
        <p:spPr>
          <a:xfrm>
            <a:off x="1781280" y="3301920"/>
            <a:ext cx="914400" cy="7351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1"/>
          <p:cNvSpPr/>
          <p:nvPr/>
        </p:nvSpPr>
        <p:spPr>
          <a:xfrm>
            <a:off x="5151600" y="5872320"/>
            <a:ext cx="914400" cy="7347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457200"/>
            <a:ext cx="899136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pes of topologies that are used for implementing Frame Relay in different environ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8" descr=""/>
          <p:cNvPicPr/>
          <p:nvPr/>
        </p:nvPicPr>
        <p:blipFill>
          <a:blip r:embed="rId1"/>
          <a:stretch/>
        </p:blipFill>
        <p:spPr>
          <a:xfrm>
            <a:off x="0" y="2116080"/>
            <a:ext cx="4610160" cy="3600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"/>
          <p:cNvPicPr/>
          <p:nvPr/>
        </p:nvPicPr>
        <p:blipFill>
          <a:blip r:embed="rId2"/>
          <a:stretch/>
        </p:blipFill>
        <p:spPr>
          <a:xfrm>
            <a:off x="4552920" y="3073320"/>
            <a:ext cx="459108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91720" cy="433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Management Interface (LM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286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alive mechan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286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status information about Frame Relay connections between the router (DTE) and the Frame Relay switch (D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I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286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C status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286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286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addr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286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flow control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ON/XOFF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0x11/0x13 – DC1/DC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91720" cy="433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er attached to a Frame Relay network uses LMI status messages and inverse ARP queries to map VCs to layer 3 network IP Addre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363680" y="2865600"/>
            <a:ext cx="65847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91720" cy="433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verse A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interface is enabled, the router will send Inverse-Arp requests out all DLCIs learned via LMI for all protocols configured on the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1413000" y="3201840"/>
            <a:ext cx="645768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5560" y="457200"/>
            <a:ext cx="83361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Basic Frame Relay PVC</a:t>
            </a:r>
            <a:endParaRPr b="1" lang="en-US" sz="36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gure a basic Frame Relay PVC on a router serial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1"/>
          <a:stretch/>
        </p:blipFill>
        <p:spPr>
          <a:xfrm>
            <a:off x="0" y="2336760"/>
            <a:ext cx="5100480" cy="3448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2"/>
          <a:stretch/>
        </p:blipFill>
        <p:spPr>
          <a:xfrm>
            <a:off x="4718160" y="3538440"/>
            <a:ext cx="442584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5560" y="457200"/>
            <a:ext cx="83361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Basic Frame Relay PVC</a:t>
            </a:r>
            <a:endParaRPr b="1" lang="en-US" sz="36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gure a static Frame Relay m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" descr=""/>
          <p:cNvPicPr/>
          <p:nvPr/>
        </p:nvPicPr>
        <p:blipFill>
          <a:blip r:embed="rId1"/>
          <a:stretch/>
        </p:blipFill>
        <p:spPr>
          <a:xfrm>
            <a:off x="1006560" y="1895400"/>
            <a:ext cx="6084720" cy="33163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6127920" y="5146560"/>
            <a:ext cx="281448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268200" indent="-268200">
              <a:lnSpc>
                <a:spcPct val="85000"/>
              </a:lnSpc>
              <a:spcBef>
                <a:spcPts val="1125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broadca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 turns the broadcast into a unicast to send it out so that the other side gets the routing updat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7280" y="5005440"/>
            <a:ext cx="5326200" cy="14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268200" indent="-26820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urier New"/>
              </a:rPr>
              <a:t>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interface s0/0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ip address 10.1.1.1 255.255.255.2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encapsulation frame r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bandwidth 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frame relay map ip 10.1.1.2 102 broad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5560" y="457200"/>
            <a:ext cx="83361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Basic Frame Relay PVC</a:t>
            </a:r>
            <a:endParaRPr b="1" lang="en-US" sz="36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er as a Frame Relay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frame-relay swi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interface Serial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no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encapsulation frame-r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clockrate 56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frame-relay intf-type d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frame-relay route 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102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interface 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Serial1 2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interface Serial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no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encapsulation frame-r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clockrate 56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frame-relay intf-type d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frame-relay route 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201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interface </a:t>
            </a:r>
            <a:r>
              <a:rPr b="1" lang="cs-CZ" sz="2000" spc="-1" strike="noStrike">
                <a:solidFill>
                  <a:srgbClr val="000000"/>
                </a:solidFill>
                <a:latin typeface="Courier New"/>
              </a:rPr>
              <a:t>Serial0 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6"/>
          <p:cNvSpPr/>
          <p:nvPr/>
        </p:nvSpPr>
        <p:spPr>
          <a:xfrm flipH="1">
            <a:off x="3774960" y="4132440"/>
            <a:ext cx="2495520" cy="380880"/>
          </a:xfrm>
          <a:prstGeom prst="line">
            <a:avLst/>
          </a:prstGeom>
          <a:ln w="25560">
            <a:solidFill>
              <a:srgbClr val="0183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"/>
          <p:cNvSpPr/>
          <p:nvPr/>
        </p:nvSpPr>
        <p:spPr>
          <a:xfrm flipH="1">
            <a:off x="4107960" y="3989520"/>
            <a:ext cx="3148200" cy="1960560"/>
          </a:xfrm>
          <a:prstGeom prst="line">
            <a:avLst/>
          </a:prstGeom>
          <a:ln w="25560">
            <a:solidFill>
              <a:srgbClr val="0183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 flipH="1" flipV="1">
            <a:off x="3135240" y="2636640"/>
            <a:ext cx="2897280" cy="338436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 flipH="1" flipV="1">
            <a:off x="4002120" y="4060440"/>
            <a:ext cx="3278160" cy="19004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450720" y="2255760"/>
            <a:ext cx="3183120" cy="357120"/>
          </a:xfrm>
          <a:prstGeom prst="ellipse">
            <a:avLst/>
          </a:prstGeom>
          <a:noFill/>
          <a:ln w="255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401760" y="4405320"/>
            <a:ext cx="3182760" cy="35712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1082520" y="3197160"/>
            <a:ext cx="6872400" cy="36115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1000" y="457200"/>
            <a:ext cx="8550360" cy="588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dvanced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6400" y="1392120"/>
            <a:ext cx="3392280" cy="3105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width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970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tted Information Rate (C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970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tted Burst Information Rate (CB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970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ss Burst (B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2"/>
          <a:stretch/>
        </p:blipFill>
        <p:spPr>
          <a:xfrm>
            <a:off x="4024440" y="1173240"/>
            <a:ext cx="505908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0" y="1973160"/>
            <a:ext cx="5202360" cy="24735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>
            <a:off x="4308480" y="3840120"/>
            <a:ext cx="4819680" cy="300348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04840" y="457200"/>
            <a:ext cx="878688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dvanced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w control in Frame Relay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2" descr=""/>
          <p:cNvPicPr/>
          <p:nvPr/>
        </p:nvPicPr>
        <p:blipFill>
          <a:blip r:embed="rId1"/>
          <a:stretch/>
        </p:blipFill>
        <p:spPr>
          <a:xfrm>
            <a:off x="0" y="2421000"/>
            <a:ext cx="4425840" cy="2944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2"/>
          <a:stretch/>
        </p:blipFill>
        <p:spPr>
          <a:xfrm>
            <a:off x="5033880" y="1512720"/>
            <a:ext cx="3989520" cy="25084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39760" y="457200"/>
            <a:ext cx="8904240" cy="588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180800"/>
            <a:ext cx="5565600" cy="825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me Relay is used to provide WAN services to the Enter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6" descr=""/>
          <p:cNvPicPr/>
          <p:nvPr/>
        </p:nvPicPr>
        <p:blipFill>
          <a:blip r:embed="rId3"/>
          <a:stretch/>
        </p:blipFill>
        <p:spPr>
          <a:xfrm>
            <a:off x="4511520" y="4076640"/>
            <a:ext cx="4192920" cy="2781360"/>
          </a:xfrm>
          <a:prstGeom prst="rect">
            <a:avLst/>
          </a:prstGeom>
          <a:ln w="0">
            <a:noFill/>
          </a:ln>
        </p:spPr>
      </p:pic>
      <p:sp>
        <p:nvSpPr>
          <p:cNvPr id="160" name="Oval 18"/>
          <p:cNvSpPr/>
          <p:nvPr/>
        </p:nvSpPr>
        <p:spPr>
          <a:xfrm>
            <a:off x="6019920" y="1495440"/>
            <a:ext cx="1995480" cy="21420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9"/>
          <p:cNvSpPr/>
          <p:nvPr/>
        </p:nvSpPr>
        <p:spPr>
          <a:xfrm>
            <a:off x="5543640" y="4022640"/>
            <a:ext cx="1995480" cy="250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0"/>
          <p:cNvSpPr/>
          <p:nvPr/>
        </p:nvSpPr>
        <p:spPr>
          <a:xfrm>
            <a:off x="1008000" y="2349360"/>
            <a:ext cx="2210040" cy="3463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7873920" y="3759120"/>
            <a:ext cx="13035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S0 = 64 kb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5560" y="457200"/>
            <a:ext cx="83361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n Advanced Frame Relay PVC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3121200" y="1819440"/>
            <a:ext cx="6022800" cy="50385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-360" y="1891800"/>
            <a:ext cx="4125960" cy="1265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int-to-point subinterfaces on a physical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55560" y="457200"/>
            <a:ext cx="83361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n Advanced Frame Relay PVC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mmands used for verifying Frame Relay ope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1227240" y="2397240"/>
            <a:ext cx="637524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55560" y="457200"/>
            <a:ext cx="83361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n Advanced Frame Relay PVC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ps for troubleshooting a Frame Relay configu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1673280" y="2587680"/>
            <a:ext cx="543708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90400" y="856800"/>
            <a:ext cx="7940880" cy="5550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relay is the most widely used WAN technology because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greater bandwidth than leased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cost because it uses less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relay is associated with layer 2 of the OSI model and encapsulates data packets in a frame relay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relay is configured on virtual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virtual circuits may be identified by a DL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relay uses inverse ARP to map DLCI to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5560" y="1780920"/>
            <a:ext cx="7940880" cy="4513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ing frame relay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frame relay encaps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ing either static or dynamic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ing split horizon problems that develop when multiple VCs are placed on a single physical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affecting frame relay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service provider has their charging scheme set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relay flow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4486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commands can be used to help verify frame relay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ow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ow frame-relay l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ow frame-relay pvc ##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ow frame-relay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following command to help troubleshoot a  frame relay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 frame-relay l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0" y="0"/>
            <a:ext cx="9144000" cy="4382640"/>
            <a:chOff x="0" y="0"/>
            <a:chExt cx="9144000" cy="4382640"/>
          </a:xfrm>
        </p:grpSpPr>
        <p:grpSp>
          <p:nvGrpSpPr>
            <p:cNvPr id="250" name="Group 3"/>
            <p:cNvGrpSpPr/>
            <p:nvPr/>
          </p:nvGrpSpPr>
          <p:grpSpPr>
            <a:xfrm>
              <a:off x="2741760" y="2357280"/>
              <a:ext cx="3809520" cy="2025360"/>
              <a:chOff x="2741760" y="2357280"/>
              <a:chExt cx="3809520" cy="2025360"/>
            </a:xfrm>
          </p:grpSpPr>
          <p:sp>
            <p:nvSpPr>
              <p:cNvPr id="251" name="AutoShape 4"/>
              <p:cNvSpPr/>
              <p:nvPr/>
            </p:nvSpPr>
            <p:spPr>
              <a:xfrm>
                <a:off x="2741760" y="2357280"/>
                <a:ext cx="3809520" cy="20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5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6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7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8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9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0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1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2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3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4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5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6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7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8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" name="Rectangle 19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39760" y="457200"/>
            <a:ext cx="8904240" cy="588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181160"/>
            <a:ext cx="835632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ame Relay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ernet over fiber op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mo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ame Relay to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ural sites with low bandwidth demand (local stores to into their corporate W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urveillance cam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ame Relay as part/complement ISDN, X.25 (original ide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 optimized for throughput, other services guaranteed by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9760" y="457200"/>
            <a:ext cx="8904240" cy="588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533520" y="1181160"/>
            <a:ext cx="803592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0" y="2284560"/>
            <a:ext cx="4054320" cy="25477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9760" y="457200"/>
            <a:ext cx="8904240" cy="588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me Relay is used to provide WAN services to the Enter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2"/>
          <a:stretch/>
        </p:blipFill>
        <p:spPr>
          <a:xfrm>
            <a:off x="3986280" y="3332160"/>
            <a:ext cx="5006880" cy="3429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6"/>
          <p:cNvSpPr/>
          <p:nvPr/>
        </p:nvSpPr>
        <p:spPr>
          <a:xfrm>
            <a:off x="344520" y="5557680"/>
            <a:ext cx="363528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lvl="1" marL="179280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 Relay typical speeds are 56 kbps to 44.7 Mb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0" descr=""/>
          <p:cNvPicPr/>
          <p:nvPr/>
        </p:nvPicPr>
        <p:blipFill>
          <a:blip r:embed="rId1"/>
          <a:stretch/>
        </p:blipFill>
        <p:spPr>
          <a:xfrm>
            <a:off x="4219560" y="3857760"/>
            <a:ext cx="4924440" cy="30002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5560" y="456840"/>
            <a:ext cx="8336160" cy="60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5560" y="1136160"/>
            <a:ext cx="7940880" cy="825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me Relay uses virtual circuits to carry packets from one DTE to anoth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D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2"/>
          <a:stretch/>
        </p:blipFill>
        <p:spPr>
          <a:xfrm>
            <a:off x="0" y="2106720"/>
            <a:ext cx="4762440" cy="2543040"/>
          </a:xfrm>
          <a:prstGeom prst="rect">
            <a:avLst/>
          </a:prstGeom>
          <a:ln w="0">
            <a:noFill/>
          </a:ln>
        </p:spPr>
      </p:pic>
      <p:sp>
        <p:nvSpPr>
          <p:cNvPr id="177" name="Line 9"/>
          <p:cNvSpPr/>
          <p:nvPr/>
        </p:nvSpPr>
        <p:spPr>
          <a:xfrm>
            <a:off x="3938760" y="6257880"/>
            <a:ext cx="403200" cy="179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0" y="5627520"/>
            <a:ext cx="4002120" cy="9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ple VCs on the same lin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distinguishable by the  Data-link Connection Identifier (DL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6960" y="457200"/>
            <a:ext cx="8986680" cy="541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me Rela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fra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1093680" y="2306520"/>
            <a:ext cx="6413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6960" y="457200"/>
            <a:ext cx="8986680" cy="541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me Relay – fram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>
            <a:off x="927000" y="2048040"/>
            <a:ext cx="7802640" cy="29080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7"/>
          <p:cNvSpPr/>
          <p:nvPr/>
        </p:nvSpPr>
        <p:spPr>
          <a:xfrm>
            <a:off x="868320" y="2932200"/>
            <a:ext cx="10368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11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7728120" y="2935440"/>
            <a:ext cx="103644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11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203040" y="5105520"/>
            <a:ext cx="519912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LC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bits together (6 +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/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used in FR (Command/Respon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ed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C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ward Explicit Congestion No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C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ward Explicit Congestion Notifi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ard Eligi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5146560" y="2492280"/>
            <a:ext cx="99540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(max 8 k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6960" y="457200"/>
            <a:ext cx="8986680" cy="541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ECN - BEC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ce A is sending data to device B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ccross a Frame Relay intrastru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 of the intermediate Frame Relay switches encounters congesti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; it will 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336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N bit on packets being returned to the sending dev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1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t tel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nding router t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 off and apply flow control like traffic Sha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336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CN bit on the packets being sent to the receiving devi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1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s the receiving device that the flow is congested and that it should inform upper layer protocols, if possible, that it should close down windowing et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inform the sending application to slow d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osef Kaderka</cp:lastModifiedBy>
  <cp:lastPrinted>1999-01-27T00:54:54Z</cp:lastPrinted>
  <dcterms:modified xsi:type="dcterms:W3CDTF">2013-10-24T13:23:15Z</dcterms:modified>
  <cp:revision>379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