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DDF8CD3-093A-4A57-932C-457633199DF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1.3.3.1 &amp; 1.3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stated above does not make sense to me.  Reword the above objective as follows:  List factors to consider when selecting a WAN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ace permits add graphics 1.2.2.2 &amp; 1.2.2.3 (if forced to make a choice between the 2 graphic pick 1.2.2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graphic can be found at the following URL (not necessary to use – just a thought):  http://www.cisco.com/image/jpg/en/us/guest/products/ps6438/c1244/cdccont_0900aecd802c2010_0900aecd802c2010-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5FFB345-8FE0-4903-8ED0-A8F8ADFEBD9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9C16D9B-865E-4699-8474-0AFEEE701CE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4A3974E-5483-4ACB-AC30-E08A909E952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vices in a Converged W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NM = Enterprise Composite Network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ous options for connecting subscribers to th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71760" y="2543040"/>
            <a:ext cx="60069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prises u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eased line services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14360" y="2732040"/>
            <a:ext cx="6343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cui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0280" y="2800440"/>
            <a:ext cx="406404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67200" y="2824200"/>
            <a:ext cx="4057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e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7160" y="2333520"/>
            <a:ext cx="5807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to consider when selecting a WA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9240" y="1727280"/>
            <a:ext cx="74167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Pulse Amplitude Modulation Sampl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247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reation of a Time Division Multiplexing Sign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42400" cy="4626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43040" y="2900520"/>
            <a:ext cx="66150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52760" y="3495600"/>
            <a:ext cx="66150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43040" y="4086360"/>
            <a:ext cx="6615000" cy="0"/>
          </a:xfrm>
          <a:prstGeom prst="line">
            <a:avLst/>
          </a:prstGeom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00280" y="236232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8136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236232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38480" y="236700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9200" y="2376360"/>
            <a:ext cx="11448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85880" y="237168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6960" y="2362320"/>
            <a:ext cx="11448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4804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9120" y="2362320"/>
            <a:ext cx="11412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5160" y="2362320"/>
            <a:ext cx="11448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86240" y="237168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52920" y="2367000"/>
            <a:ext cx="11412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38680" y="235728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19400" y="2362320"/>
            <a:ext cx="11448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2367000"/>
            <a:ext cx="11412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76880" y="237636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57600" y="2386080"/>
            <a:ext cx="11448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9600" y="238140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05360" y="2362320"/>
            <a:ext cx="11448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8644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62480" y="236700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43560" y="235728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2464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19760" y="236232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6.14 Time Division Multiplexing Using PCM Signal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M systems using PAM are susceptible to noise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ustry standard for converting an analog signal into a digital signal i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lse Code Mod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C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M/TDM has many advantages over FDM and PAM/T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ls are less susceptible to no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circuitry lends itself readily to integrated circuit design, which makes digital circuits cheaper than analog circ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-to-digital interface is easily ach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 Pulse Code Modul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ustry standard method for converting one analog voice signal into a digital signal is P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ive basic steps to PC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1 Sampl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how often measurements are taken of the input analog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yquist 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s that an analog signal should be sampled at a rate at least twice its highest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elecommunications, the network was designed to handle signals between 0 and 4000 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/8000 of a second (125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) a voltage measurement is taken of the input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pose and function of W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98560" y="2097000"/>
            <a:ext cx="75549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2 Quantiz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CM, each voltage measurement is converted to an 8-bit code, and the 8-bit coded is sent instead of the actual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put signal can be any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8-bit coded limits the conversion process to the recognition of 256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56)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nt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ocess to convert the input level to one of the 256 discrete code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3 Compand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zing a signal will result in some distortion because we do not code the exact voltage of the input sig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distortion is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antizing no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t is greater for low-amplitude sign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an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used to reduce quantizing no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gnal is compressed at the transmitter to divide low-amplitude signals into more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signal is decoded at the receiving system, it is expanded by reversing the compress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4 Encod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mpression and quantization of the input signal, it will be one of the 256 discrete signal levels that can be assigned an 8-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assigning an 8-bit code to represent the signal level is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5 Fram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coded 8-bit signal is time division multiplexed with 23 other 8-bit signals to generate 192 bits for 24 sign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ngle framing bit is added to these 192 bits to make a 193-bit fr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ing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n established pattern of 1s and 0s for 12 frames (1,0,0,0,1,1,0,1,1,1,0,0) and then repeat in each of the succeeding 12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ttern is used by the receiving terminal to stay synchronized with the received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6 North American DS1 System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building block for digital transmission standards begins with the DS0 signal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voice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s/sample x 8,000 samples/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S1 signal has 24 voice equival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 bits per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x 8 bits p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raming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ne Frame of a DS1 Sign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184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7 T1 Carrier System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ing system of choice to connect two central offices in a North American DS1 system is called T1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cessary to remove load coils from pairs being used for T1 to improve high-frequency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 (pulse regenerators) are placed where the load coils were and at each central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perfram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01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N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munications network that operates beyond the geographic scope of a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primarily operate on layer 1 &amp; 2 of the O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technolog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768 / STM-25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.84 Mbit/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5560" y="996840"/>
            <a:ext cx="7940880" cy="545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Enterpris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expansion of the hierarchical model that further divides the enterprise network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the appropriate WAN technology requires considering som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’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scope of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AN uses a public or priv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 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ges of business growth, the corresponding business requirements for services and how those requirements are reflected in the Enterprise’s changing network top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00120" y="3095640"/>
            <a:ext cx="59547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5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blems with the Hierarchical Design Model that Cisco's Enterprise Composite Model has been designed to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09880" y="2633760"/>
            <a:ext cx="4867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pose of Cisco Enterprise Archit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62360" y="3565440"/>
            <a:ext cx="4481640" cy="2962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114640"/>
            <a:ext cx="46386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 functions in terms of the OSI Referenc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17720" y="2552760"/>
            <a:ext cx="72421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WAN physical layer concepts for network and Internet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789280"/>
            <a:ext cx="4425840" cy="3073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08640" y="2776680"/>
            <a:ext cx="463536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WAN data link layer protocols used in today’s Enterprise WAN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33400" y="2387520"/>
            <a:ext cx="55342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ing technologies used for WANs in an Enterpris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2760" y="2859120"/>
            <a:ext cx="3779640" cy="2197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6920" y="3071880"/>
            <a:ext cx="43275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04-08T14:57:40Z</dcterms:modified>
  <cp:revision>350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