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2FD9EB6-AC41-42A2-916D-BD430597022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3.1.1 &amp; 6.3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3.1.1 &amp; 6.3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3.2.1 &amp; 6.3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3.2.1 &amp; 6.3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1.1.1 (use this if you don’t want to make the changes that I recommend bel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bove objective is too long and wordy.  Consider breaking it down into 2 objectives for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the benefits of teleworkers for business, society and the environment (graphic 6.1.1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  remote connection technologies and describe scenarios  in which each would be implemented (graphic 6.1.2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1.1.1 (use this if you don’t want to make the changes that I recommend bel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bove objective is too long and wordy.  Consider breaking it down into 2 objectives for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the benefits of teleworkers for business, society and the environment (graphic 6.1.1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  remote connection technologies and describe scenarios  in which each would be implemented (graphic 6.1.2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2.3.1 &amp; 6.2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A686888-B16A-421F-8EFC-408BB59D561D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5781467-AF59-4819-8F94-B705967336AB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5081795-1E50-4C14-A5F4-372AB876F321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roviding Teleworker Servic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6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Broadband Services extend Enterprise Network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Enterprises defend themselves from threats to wireless network  secu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52680" y="2459160"/>
            <a:ext cx="586728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portance and benefits of VPN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28600" y="1857240"/>
            <a:ext cx="70866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portance and benefits of VPN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287360" y="1897200"/>
            <a:ext cx="651348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1881360"/>
            <a:ext cx="823752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8560" y="1827360"/>
            <a:ext cx="811548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12800" y="1768320"/>
            <a:ext cx="768996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racteristics of secure VP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4920" y="2684520"/>
            <a:ext cx="85341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cept of VPN tunne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108080" y="1969920"/>
            <a:ext cx="69534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cept of VPN encry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103400" y="2038320"/>
            <a:ext cx="664056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cept of IPsec Protoc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89000" y="2109960"/>
            <a:ext cx="6637320" cy="45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enterprise requirements for providing teleworker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broadband services extend Enterprise Networks including DSL, cable, and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VPN technology provides secure teleworker services in an Enterprise sett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4680" y="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for providing teleworker servic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s continuity of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for increas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 &amp; reliable access to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needed for a teleworker to connect to an organization’s network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5560" y="1171080"/>
            <a:ext cx="7940880" cy="5318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band services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s signal in either direction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minimal changes to existing telephone        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s high bandwidth data rates to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mo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 availability v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nicipal Wi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ellit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ng teleworke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PN security achieved through 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encryption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nn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 of a secure V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onfidenti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18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19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nterprise Requirements for Providing Teleworker Service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benefits of teleworkers for business, society and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58680" y="2422440"/>
            <a:ext cx="676296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nterprise Requirements for Providing Teleworker Service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st remote connection technologies and describe scenarios in which each would be implem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03480" y="2303640"/>
            <a:ext cx="675468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nterprise Requirements for Providing Teleworker Service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key differences between private and public network infrastruct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47680" y="2144880"/>
            <a:ext cx="67946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Broadband Services extend Enterprise Network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efly describe how broadband services allow teleworkers to use the Internet to connect to the Enterprise 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69880" y="2505240"/>
            <a:ext cx="629604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Broadband Services extend Enterprise Network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Enterprises use cable connectivity to extend their r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71400" y="2092320"/>
            <a:ext cx="7405920" cy="4633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727600" y="1868400"/>
            <a:ext cx="341640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179280" indent="-1792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CSIS 3.0 (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ata Over Cable Service Interface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5.62 Mbit/s per 8 MHz EuroDOCSI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; up to 8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Broadband Services extend Enterprise Network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Enterprises use DSL connectivity to extend their r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2104920"/>
            <a:ext cx="5576760" cy="3351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032360" y="5121360"/>
            <a:ext cx="51116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9760" y="456840"/>
            <a:ext cx="8813880" cy="56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roadband wireles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1390680"/>
            <a:ext cx="4508640" cy="20289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761000" y="709560"/>
            <a:ext cx="4297320" cy="3127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-3240" y="3852720"/>
            <a:ext cx="4707000" cy="2917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843440" y="3949560"/>
            <a:ext cx="430056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osef Kaderka</cp:lastModifiedBy>
  <cp:lastPrinted>1999-01-27T00:54:54Z</cp:lastPrinted>
  <dcterms:modified xsi:type="dcterms:W3CDTF">2013-04-22T14:57:06Z</dcterms:modified>
  <cp:revision>347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