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70358F8-3347-4E5F-879B-D42E47342CD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5474EF9-512A-40C6-A1EC-AFD7399CA02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5D24123-2D70-4852-9F92-AED721D43F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13AD4FB-AC3A-4BDC-98AF-9D46ED19CE2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2.1 &amp; 5.2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C757041-EBCB-40BD-89EC-F2160A93E22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3.1 &amp; 5.2.3.2 (use the examples), 5.2.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C198A5D-4FDD-4939-8E0B-BE32F1F3783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3.1 &amp; 5.2.3.2 (use the examples), 5.2.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4DFE05A-6AC4-4194-BEB9-7AF9B2129F5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 (use syntax &amp; one example), 5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0C96E20-B2B7-48BD-8760-85FA8A24C42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 (use syntax &amp; one example), 5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A5AEADA-B311-46B9-8853-543D22A653A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 (use syntax &amp; one example), 5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87FFB37-3A77-4DC5-B7C8-FD20D3F5EF2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817DCB1-92F9-4092-A8A0-A43DEDA7A73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7EF521C-9872-47FF-A1DA-96ACFFA150F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628173F-2DD6-455A-BDED-D301A0D3963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9C79AAB-9C0D-4EF6-94DB-4310627F735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17C53BD-3A64-402B-9752-EC1559E1E17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244D5A7-BEF2-4EC9-9BC4-4A564D86773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6ABD05D-2D9F-4EB1-BFBD-3174D93CE10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ED08B26-6886-43A2-8C20-3CF6309559D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28EDE03-F21A-4DA0-9583-04F60BCE3F5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91B34E5-A2A5-4D74-BA71-3CDC835973C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3D69C13-2082-47B9-9C69-6F6C8876E20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209D947-A0DD-4883-84F1-D53D1C05215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5BEFB74-9903-4623-A405-01BEA6DD539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DEF4E24-1CE6-477C-B9FA-EF49BB47F6E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83CFDD8-29C3-434F-8A9B-FA8B869DB14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22F6E7D-84AD-4055-94E2-FE205196D36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D6A52E1-E74F-4C9C-A2B8-4FBE293CD62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32B732F-19BB-4FC3-B92E-02DD086606D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8C9D82E-ED2C-4900-9A29-FE820DEBD41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BD5A998-D884-4BDB-BCCC-1FD319E7000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sure what you want here.  It looks like this is associated with the lab portion of the chapter.  If you’re looking for an objective I would place the following 2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, place &amp; verify an standard/extedended ACL and verify its plac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y ACL’s functionality and troubleshoot as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far as a graphic is concerned you can use a previous topology (for example the graphic from 5.4.5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CDB67F6-C722-41DE-ACEB-C95FE19B660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E2231B2-B9AE-4D41-87F2-FDA579ED7D5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6BE6FD7-6530-420D-8FE5-A5E1B6B7DE6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DF7E9B1-5866-46F6-88E2-1680199B0EC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3A56A63-41C0-4571-B0DD-B31B35E9969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E804DFC-9396-4283-8C05-B77984236F7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1901371-0E61-4FAD-8832-5C91738B428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FB569D0-5EA1-4871-B2A5-70FE9800D9E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.1.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207D291-DFF6-4425-9F03-19438B02478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C243044-775B-4F9E-8C08-CC6BF432B2C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6EA3CCC-B9BD-471E-A344-BB8FC712290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ccess Control Lists 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646200" y="1468440"/>
            <a:ext cx="79452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ndard A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505400" y="1317600"/>
            <a:ext cx="4624200" cy="387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20520" y="3443400"/>
            <a:ext cx="601056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15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wildcard masks with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1057320" y="1805040"/>
            <a:ext cx="7014960" cy="1108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0" y="3348000"/>
            <a:ext cx="243540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Wildcard Mask Calcul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255.255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-255.255.255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000.000.00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58680" y="4202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0" y="5208480"/>
            <a:ext cx="243540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Wildcard Mask Calcul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255.255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-255.255.255.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000.000.00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79200" y="606276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3" descr=""/>
          <p:cNvPicPr/>
          <p:nvPr/>
        </p:nvPicPr>
        <p:blipFill>
          <a:blip r:embed="rId2"/>
          <a:stretch/>
        </p:blipFill>
        <p:spPr>
          <a:xfrm>
            <a:off x="4213080" y="3989520"/>
            <a:ext cx="4748400" cy="2641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4"/>
          <p:cNvSpPr/>
          <p:nvPr/>
        </p:nvSpPr>
        <p:spPr>
          <a:xfrm>
            <a:off x="4691160" y="3629160"/>
            <a:ext cx="39956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an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os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ey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´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dcard mask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L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276200" y="2233440"/>
            <a:ext cx="65916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419040" y="1930320"/>
            <a:ext cx="843300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392040" y="1990800"/>
            <a:ext cx="8475840" cy="4867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88800" y="1779480"/>
            <a:ext cx="18194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1817640" y="1967040"/>
            <a:ext cx="6567480" cy="4698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88800" y="1779480"/>
            <a:ext cx="18194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846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cess for editing number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1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ly delete old and write new one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463680" y="2565360"/>
            <a:ext cx="8156520" cy="3892680"/>
          </a:xfrm>
          <a:prstGeom prst="rect">
            <a:avLst/>
          </a:prstGeom>
          <a:ln w="0">
            <a:noFill/>
          </a:ln>
        </p:spPr>
      </p:pic>
      <p:sp>
        <p:nvSpPr>
          <p:cNvPr id="208" name="Oval 6"/>
          <p:cNvSpPr/>
          <p:nvPr/>
        </p:nvSpPr>
        <p:spPr>
          <a:xfrm>
            <a:off x="1978200" y="3678120"/>
            <a:ext cx="5397480" cy="95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157800" y="1517760"/>
            <a:ext cx="2933640" cy="822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Pa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into Note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Pa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H="1">
            <a:off x="7224480" y="2541600"/>
            <a:ext cx="603000" cy="1366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te a name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592200" y="2855880"/>
            <a:ext cx="81820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cess for editing nam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tretch/>
        </p:blipFill>
        <p:spPr>
          <a:xfrm>
            <a:off x="19080" y="1803240"/>
            <a:ext cx="3956040" cy="301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3890880" y="3683160"/>
            <a:ext cx="52531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teps that occur in a complete TCP conver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4520" y="2476440"/>
            <a:ext cx="77054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64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cess for editing named ACL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dding 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0" y="1841400"/>
            <a:ext cx="3614760" cy="2738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2"/>
          <a:stretch/>
        </p:blipFill>
        <p:spPr>
          <a:xfrm>
            <a:off x="3270240" y="3639960"/>
            <a:ext cx="58737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955520"/>
            <a:ext cx="7940880" cy="451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monitor and verify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271440" y="3006720"/>
            <a:ext cx="85996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89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tended AC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iltering t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 a standard A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1"/>
          <a:stretch/>
        </p:blipFill>
        <p:spPr>
          <a:xfrm>
            <a:off x="0" y="302256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end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625320" y="2055960"/>
            <a:ext cx="8082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89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tended AC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ex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722160" y="2735280"/>
            <a:ext cx="80679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625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p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 extended ACL to an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838080" y="2004840"/>
            <a:ext cx="78534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d extend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1084320" y="1952640"/>
            <a:ext cx="73785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plex ACLs in a Medium-Size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797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re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s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x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355680" y="3171960"/>
            <a:ext cx="856296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namic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1311120" y="2865600"/>
            <a:ext cx="7232760" cy="3724200"/>
          </a:xfrm>
          <a:prstGeom prst="rect">
            <a:avLst/>
          </a:prstGeom>
          <a:ln w="0">
            <a:noFill/>
          </a:ln>
        </p:spPr>
      </p:pic>
      <p:sp>
        <p:nvSpPr>
          <p:cNvPr id="246" name="Oval 7"/>
          <p:cNvSpPr/>
          <p:nvPr/>
        </p:nvSpPr>
        <p:spPr>
          <a:xfrm>
            <a:off x="1143000" y="6330960"/>
            <a:ext cx="1371600" cy="29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2335320" y="4441320"/>
            <a:ext cx="1601640" cy="1830600"/>
          </a:xfrm>
          <a:prstGeom prst="line">
            <a:avLst/>
          </a:prstGeom>
          <a:ln w="93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3540240" y="6313320"/>
            <a:ext cx="1371600" cy="29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2673360" y="6550200"/>
            <a:ext cx="83484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namic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1346040" y="2523960"/>
            <a:ext cx="70488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a packet filter allows or blocks traf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952560" y="2046240"/>
            <a:ext cx="682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lexive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1"/>
          <a:stretch/>
        </p:blipFill>
        <p:spPr>
          <a:xfrm>
            <a:off x="1312920" y="2027160"/>
            <a:ext cx="71359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lexive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t directly o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878040" y="2749680"/>
            <a:ext cx="73864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e-bas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920880" y="2009880"/>
            <a:ext cx="76755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e-based A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708120" y="2641680"/>
            <a:ext cx="77277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troubleshoot common ACL probl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447920" y="1951200"/>
            <a:ext cx="65624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8" descr=""/>
          <p:cNvPicPr/>
          <p:nvPr/>
        </p:nvPicPr>
        <p:blipFill>
          <a:blip r:embed="rId1"/>
          <a:stretch/>
        </p:blipFill>
        <p:spPr>
          <a:xfrm>
            <a:off x="1752480" y="2827440"/>
            <a:ext cx="6829560" cy="40305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mplement, Verify and Troubleshoot ACLs in an Enterprise Network Environm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55480" y="1563840"/>
            <a:ext cx="794088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, place and verify a standard/ extended ACL and verify its pla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fy ACL’s functionality and troubleshoot as nee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90400" y="939600"/>
            <a:ext cx="7940880" cy="555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cess List (ACL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ies of permit and deny statements that are used to filter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by numbers 1 - 99 and 1300 -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traffic based on source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by number 100 -199 &amp; 2000 - 26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traffic bas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200" y="4312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5560" y="1704600"/>
            <a:ext cx="7940880" cy="453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 IOS 11.2 and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for either standard or extended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’s use Wildcard Masks (W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as the inverse of a subnet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eck th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gnore th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46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A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ate the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ce the ACL on a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ACL are placed nearest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ACL are placed nearest th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s for verifying &amp; troubleshooting an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access-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xive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based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ACLs control access to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125360" y="2027160"/>
            <a:ext cx="71614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8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8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a flow chart to show how ACLs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711440" y="2087640"/>
            <a:ext cx="56084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types and formats of AC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6036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mple (numbered or na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6036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lex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Cisco ACLs can be identified using standardized numbering or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4834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here ACLs should be placed in 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2249640"/>
            <a:ext cx="5084640" cy="3338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5140440" y="4059360"/>
            <a:ext cx="3987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considerations for creating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09680" y="2452680"/>
            <a:ext cx="82994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10-24T13:59:54Z</dcterms:modified>
  <cp:revision>389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