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BCA7427-B90D-4A38-95B7-94D3BEC8FA8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F153FF0-F5D4-41A0-AA6F-BCFBB3D0E3A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783A26D-F3AC-470D-BDF7-FD835594CE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3BA92C3-33C3-472E-90E2-791B9856E74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7388215-478C-4AB1-94B4-684EF55B70B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E5AD680-C262-446B-8F85-5826D6527B6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CB68534-94FB-4C88-A0AE-E101CC5BFE9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584ACE7-8249-4BCB-961E-E508061B83D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1.1 &amp; 3.2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ECB04A0-1C14-43CE-9981-FC7E68338E8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6338F02-2FC3-45C9-A90B-3AB5D3969FF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1A78C71-F02D-4645-91D6-6A2D29409D4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&amp; 3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D5196DC-3270-4BA8-9B3A-1EC969ED00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DEBA008-6FC5-4E45-9B46-54731D0F691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40CE8F3-640E-4357-97D3-13F3F471D8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C440BDD-149C-40D3-9734-31D96A0ECBF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1F68E0E-25A0-421D-84A7-1D75C483F70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1C71A30-9186-474E-901C-2C5B7C50625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CCA01B7-226F-4FAA-858C-3B465F36689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3FAA567-7F97-4303-BC9B-09DED3054C8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261C45F-31D6-4EC7-9CD2-5478DA4FFA5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F98B3F5-A817-432E-B762-DCD3AFAD979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1D3D1EE-6330-42AD-85E4-663DF0A95CF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00EFE29-6660-4479-9E70-C0E2BC9B47B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59D4654-50C8-4263-8884-DBEAC4B3B8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2BD9C38-0DF9-471A-A952-5D6ED6296C1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EB7C922-1807-4FDC-8AFA-0C7EFAA37A6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6673CC7-BC81-4B58-8A17-382C8904962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A752955-418B-491A-A4E5-80388F7AF31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Frame Relay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4518000" y="3787920"/>
            <a:ext cx="4626000" cy="3070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0" y="2282760"/>
            <a:ext cx="4627440" cy="3208320"/>
          </a:xfrm>
          <a:prstGeom prst="rect">
            <a:avLst/>
          </a:prstGeom>
          <a:ln w="0">
            <a:noFill/>
          </a:ln>
        </p:spPr>
      </p:pic>
      <p:sp>
        <p:nvSpPr>
          <p:cNvPr id="195" name="Oval 10"/>
          <p:cNvSpPr/>
          <p:nvPr/>
        </p:nvSpPr>
        <p:spPr>
          <a:xfrm>
            <a:off x="1781280" y="3301920"/>
            <a:ext cx="914400" cy="735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"/>
          <p:cNvSpPr/>
          <p:nvPr/>
        </p:nvSpPr>
        <p:spPr>
          <a:xfrm>
            <a:off x="5151600" y="5872320"/>
            <a:ext cx="914400" cy="7347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0" y="2116080"/>
            <a:ext cx="4610160" cy="360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4552920" y="3073320"/>
            <a:ext cx="45910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Management Interface (LM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alive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tatus information about Frame Relay connections between the router (DTE) and the Frame Relay switch (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I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 statu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flow control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N/XOF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0x11/0x13 – DC1/DC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er attached to a Frame Relay network uses LMI status messages and inverse ARP queries to map VCs to layer 3 network IP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363680" y="2865600"/>
            <a:ext cx="65847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verse 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interface is enabled, the router will send Inverse-Arp requests out all DLCIs learned via LMI for all protocols configured on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413000" y="3201840"/>
            <a:ext cx="64576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basic Frame Relay PVC on a router seri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0" y="2336760"/>
            <a:ext cx="5100480" cy="3448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4718160" y="3538440"/>
            <a:ext cx="44258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static Frame Relay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1006560" y="1895400"/>
            <a:ext cx="6084720" cy="3316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6127920" y="5146560"/>
            <a:ext cx="2814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8200" indent="-268200">
              <a:lnSpc>
                <a:spcPct val="85000"/>
              </a:lnSpc>
              <a:spcBef>
                <a:spcPts val="11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broadca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turns the broadcast into a unicast to send it out so that the other side gets the routing upd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7280" y="5005440"/>
            <a:ext cx="53262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interface s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ip address 10.1.1.1 255.255.255.2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capsulation frame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bandwidth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rame relay map ip 10.1.1.2 102 broad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as a Frame Relay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frame-relay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interface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no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encapsulation frame-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clockrate 56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intf-type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rout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102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interfac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rial1 2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interface Seria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no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encapsulation frame-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clockrate 56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intf-type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rout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201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interfac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rial0 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3774960" y="4132440"/>
            <a:ext cx="2495520" cy="380880"/>
          </a:xfrm>
          <a:prstGeom prst="line">
            <a:avLst/>
          </a:prstGeom>
          <a:ln w="255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4107960" y="3989520"/>
            <a:ext cx="3148200" cy="1960560"/>
          </a:xfrm>
          <a:prstGeom prst="line">
            <a:avLst/>
          </a:prstGeom>
          <a:ln w="255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 flipH="1" flipV="1">
            <a:off x="3135240" y="2636640"/>
            <a:ext cx="2897280" cy="338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H="1" flipV="1">
            <a:off x="4002120" y="4060440"/>
            <a:ext cx="3278160" cy="1900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450720" y="2255760"/>
            <a:ext cx="3183120" cy="357120"/>
          </a:xfrm>
          <a:prstGeom prst="ellipse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401760" y="4405320"/>
            <a:ext cx="3182760" cy="3571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082520" y="3197160"/>
            <a:ext cx="6872400" cy="3611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1000" y="457200"/>
            <a:ext cx="855036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6400" y="1392120"/>
            <a:ext cx="3392280" cy="310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width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Information Rate (C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Burst Information Rate (CB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Burst (B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024440" y="1173240"/>
            <a:ext cx="505908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973160"/>
            <a:ext cx="5202360" cy="2473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308480" y="3840120"/>
            <a:ext cx="4819680" cy="300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4840" y="457200"/>
            <a:ext cx="8786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control in Frame Rela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2" descr=""/>
          <p:cNvPicPr/>
          <p:nvPr/>
        </p:nvPicPr>
        <p:blipFill>
          <a:blip r:embed="rId1"/>
          <a:stretch/>
        </p:blipFill>
        <p:spPr>
          <a:xfrm>
            <a:off x="0" y="2421000"/>
            <a:ext cx="4425840" cy="294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2"/>
          <a:stretch/>
        </p:blipFill>
        <p:spPr>
          <a:xfrm>
            <a:off x="5033880" y="1512720"/>
            <a:ext cx="3989520" cy="250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80800"/>
            <a:ext cx="556560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"/>
          <p:cNvPicPr/>
          <p:nvPr/>
        </p:nvPicPr>
        <p:blipFill>
          <a:blip r:embed="rId3"/>
          <a:stretch/>
        </p:blipFill>
        <p:spPr>
          <a:xfrm>
            <a:off x="4511520" y="4076640"/>
            <a:ext cx="4192920" cy="2781360"/>
          </a:xfrm>
          <a:prstGeom prst="rect">
            <a:avLst/>
          </a:prstGeom>
          <a:ln w="0">
            <a:noFill/>
          </a:ln>
        </p:spPr>
      </p:pic>
      <p:sp>
        <p:nvSpPr>
          <p:cNvPr id="160" name="Oval 18"/>
          <p:cNvSpPr/>
          <p:nvPr/>
        </p:nvSpPr>
        <p:spPr>
          <a:xfrm>
            <a:off x="6019920" y="1495440"/>
            <a:ext cx="1995480" cy="214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9"/>
          <p:cNvSpPr/>
          <p:nvPr/>
        </p:nvSpPr>
        <p:spPr>
          <a:xfrm>
            <a:off x="5543640" y="4022640"/>
            <a:ext cx="1995480" cy="250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0"/>
          <p:cNvSpPr/>
          <p:nvPr/>
        </p:nvSpPr>
        <p:spPr>
          <a:xfrm>
            <a:off x="1008000" y="2349360"/>
            <a:ext cx="2210040" cy="346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7873920" y="3759120"/>
            <a:ext cx="1303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S0 = 64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3121200" y="1819440"/>
            <a:ext cx="6022800" cy="5038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891800"/>
            <a:ext cx="4125960" cy="126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int-to-point subinterfaces on a physic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ands used for verifying Frame Relay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227240" y="2397240"/>
            <a:ext cx="63752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for troubleshooting a Frame Relay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673280" y="2587680"/>
            <a:ext cx="5437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0400" y="856800"/>
            <a:ext cx="7940880" cy="555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the most widely used WAN technology becaus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greater bandwidth than 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cost because it uses less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associated with layer 2 of the OSI model and encapsulates data packets in a frame relay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configured on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irtual circuits may be identified by a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uses inverse ARP to map DLCI to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frame relay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frame relay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ither static or dynamic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split horizon problems that develop when multiple VCs are placed on a single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affecting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ervice provider has their charging schem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commands can be used to help verify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pvc ##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 to help troubleshoot a 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5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5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181160"/>
            <a:ext cx="83563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over fiber op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to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ral sites with low bandwidth demand (local stores to into their corporate W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rveillance cam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as part/complement ISDN, X.25 (original 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 optimized for throughput, other services guaranteed by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80359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2284560"/>
            <a:ext cx="4054320" cy="2547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3986280" y="3332160"/>
            <a:ext cx="5006880" cy="3429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344520" y="5557680"/>
            <a:ext cx="36352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179280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Relay typical speeds are 56 kbps to 44.7 Mb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4219560" y="3857760"/>
            <a:ext cx="4924440" cy="3000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8336160" cy="60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136160"/>
            <a:ext cx="794088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uses virtual circuits to carry packets from one DTE to anoth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0" y="210672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77" name="Line 9"/>
          <p:cNvSpPr/>
          <p:nvPr/>
        </p:nvSpPr>
        <p:spPr>
          <a:xfrm>
            <a:off x="3938760" y="6257880"/>
            <a:ext cx="403200" cy="17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0" y="5627520"/>
            <a:ext cx="400212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 VCs on the same lin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distinguishable by the  Data-link Connection Identifier (DL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093680" y="2306520"/>
            <a:ext cx="641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–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927000" y="2048040"/>
            <a:ext cx="7802640" cy="2908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868320" y="2932200"/>
            <a:ext cx="1036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7728120" y="2935440"/>
            <a:ext cx="1036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03040" y="5105520"/>
            <a:ext cx="5199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bits together (6 +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/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used in FR (Command/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Explicit Congestion 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 Explicit Congestion Not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ard Elig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146560" y="2492280"/>
            <a:ext cx="9954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max 8 k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CN - BE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 A is sending data to device 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ross a Frame Relay int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of the intermediate Frame Relay switches encounters conges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it will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 bit on packets being returned to the sending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t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ding router 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off and apply flow control like traffic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 bit on the packets being sent to the receiving de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the receiving device that the flow is congested and that it should inform upper layer protocols, if possible, that it should close down windowing et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nform the sending application to slow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10-24T13:23:15Z</dcterms:modified>
  <cp:revision>379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