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F645-000E-475B-A31B-3694FD79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BFF-0991-461D-B35F-707D124F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112E-0FCF-4A6C-B171-63FBBC6C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2CB-915D-4B84-B483-BCAC56C6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EC62C-11A8-41B7-A114-655C1A60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DF0C-7415-4DA0-B256-D4A06361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5D25-730D-46C9-9CAE-7911EB65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1012-E316-4AFD-8505-CB470357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F240-A52C-4046-956F-AD13F517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CF0E-670E-4C6D-A76E-EC40D9EF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6901-8D62-49E5-A376-FA735707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D3A9-F571-46E1-8BEF-2A988931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34C9-0B7A-411B-A82B-84EEF50C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97F9-33CE-48C9-A095-B12A3473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59AC-F618-498C-A2EB-BC0C30BB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F354-D78F-4EFA-B67A-D5C5C921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BDF5-504E-4215-BB74-55E39C26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5918B-7BD5-48B8-9F59-9A8D12E3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BA9BD-F392-48F2-97BF-9C506B65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4159B-DF43-4807-83BD-F55A54C2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5E60D-C560-469A-B6A5-2BC4B961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1D201-EE3D-4E00-AA38-6FADA879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3997-C1CD-4BC1-AAE1-967D7389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E541F-21A5-4CD1-ABF5-4E230EDC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AAA84-9BE7-48FA-8823-A760F3C7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10E44-F838-4239-A93C-1DD9605F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DA177-AD57-416C-AD76-5B438660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CA9BE-1463-41D2-81C9-0CCB30B6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E7EEF-B857-4EE4-ABB6-B802F03A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C0570-C66E-44FC-B013-3012701C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515E8-5F34-4E15-97CB-59F53DD0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50B77-5387-4AEF-B732-AC82ADAB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EED9A-57BD-4618-A857-9E5FF68C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510-EC80-448F-9028-FC526CEB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7EE94-DBDD-4C97-B039-2A5084B9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459A1-A530-4BBA-A433-54F86FD5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2C297-325F-43F1-9FE4-C8B42012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125E3-C4D0-4160-B49D-8C080C75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7CE3E-E99E-474D-A7D2-4AA83040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8BEBC-A62E-4234-BA63-068FDEC5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9D100-7808-4365-8336-CD5F66DC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CF22C-F0E3-4C1A-B0F7-828AF941D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D0629-D5EF-4720-8023-959C4987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EAB11-9D95-43BA-AB31-8706ACBD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FD13-3A8F-4799-971B-16D2E66F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727BC-ACC3-4F1C-84BA-64C23C3E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007EE-41E4-4253-B34D-84ED34B9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A8A55-19F9-4DE5-9E78-4A7909CC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4A2BE-F346-4423-8E7C-67919C9E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799DF-CE80-41EF-9B5F-08C3D92A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6F75D-7F18-4880-B09E-50475F81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8D218-306A-4E8D-BE88-973D914C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377CD-8509-4291-8BED-FEECDABF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0B06A-DDFB-4FD8-B14A-98A996FD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57323-7F2B-49AD-ABBE-3897816B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13D0-D650-475A-AFA6-AB900C63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0D10A-2B10-469F-9366-FD62C817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BCB6E-B9EF-4721-BA02-E72DDE3DA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453DD-58BC-4AF5-9B2D-2ECA3AD8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93C2E-B134-459C-9D70-66215361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7CF2D-2FA9-4E35-8C72-85FE597F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25D06-6741-4EF4-9B49-05F60318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D7884-119E-4C7C-A76D-83D03AE6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6CECA-8EEA-4CB0-8890-2D91DE25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A2416-944E-4456-B1E7-53B3B881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DAE3C-B88E-4F36-AE43-175AF647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08C3-F218-4604-9EFE-C9F8D184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CEC4D-5818-461C-8FC5-38154EF6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39F46-E163-479F-A12D-230A0A69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97DF3-A192-4B72-8BFE-A2369A00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4BA64-069C-4B6C-8150-7DED0C17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8DF46-5CD3-431B-ABB8-D0F96EF6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9AE15-146C-4FEE-A030-ED432114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F68F8A-83D4-4FB8-B9D2-420228CB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82995-7D71-45A2-B70C-E68519C0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451BA-FED1-4E85-B657-E29F841B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71A15-ADEC-4235-B6CA-AB88BB0C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D4F-DC0C-4D64-AD00-169D4B64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2D6C1-3ED5-4CA8-A545-AF96DD14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0EC46-CCBC-4AC2-8A94-F84C629A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3DF2F-316D-442F-8537-BDE40BB1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00206-F0D5-430D-9B18-68CDA003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9A9E7-55F7-4368-A4A6-C5C2B6D44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7AC-08D8-44A4-8ECC-433C3A02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05B4C-B07D-495E-B455-7560523E2CAD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Obrázek 2" descr=""/>
          <p:cNvPicPr/>
          <p:nvPr/>
        </p:nvPicPr>
        <p:blipFill>
          <a:blip r:embed="rId2"/>
          <a:stretch/>
        </p:blipFill>
        <p:spPr>
          <a:xfrm>
            <a:off x="1962000" y="6021360"/>
            <a:ext cx="5220000" cy="80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3086-D822-4283-BD08-1108CEFEE001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593F-34C2-4CC0-919F-0E6B0C3D9472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9FF9-7BE9-47B2-B127-2DBB6784BF3F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890C-A67E-4DC4-B773-35F122C17F55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AA02-3112-4B8A-AAF6-0C8C20C150E9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E01F-9530-4274-82E6-A90F1B603D3E}" type="slidenum">
              <a:rPr b="1" lang="cs-CZ" sz="14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d2533c"/>
                </a:solidFill>
                <a:latin typeface="Cambria"/>
              </a:rPr>
              <a:t>PROTOKOL IPSEC</a:t>
            </a:r>
            <a:endParaRPr b="0" lang="en-US" sz="54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400" spc="-1" strike="noStrike">
              <a:solidFill>
                <a:srgbClr val="57576e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Scénáře nasazení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4960" indent="-1749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IPSec může být nasazen takto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74960" indent="-1749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Tři základní varianty konfigurac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38840" indent="-1749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Host to Hos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8840" indent="-1749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Gateway to Gateway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 (propojení sítí - tunel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8840" indent="-17496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Host to Gatewa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7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  <p:grpSp>
        <p:nvGrpSpPr>
          <p:cNvPr id="312" name="Group 372"/>
          <p:cNvGrpSpPr/>
          <p:nvPr/>
        </p:nvGrpSpPr>
        <p:grpSpPr>
          <a:xfrm>
            <a:off x="1476360" y="2133720"/>
            <a:ext cx="7500600" cy="718920"/>
            <a:chOff x="1476360" y="2133720"/>
            <a:chExt cx="7500600" cy="718920"/>
          </a:xfrm>
        </p:grpSpPr>
        <p:sp>
          <p:nvSpPr>
            <p:cNvPr id="313" name="AutoShape 367"/>
            <p:cNvSpPr/>
            <p:nvPr/>
          </p:nvSpPr>
          <p:spPr>
            <a:xfrm>
              <a:off x="1497240" y="2133720"/>
              <a:ext cx="7479720" cy="71712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eefd7"/>
                </a:gs>
                <a:gs pos="100000">
                  <a:srgbClr val="d5d69c"/>
                </a:gs>
              </a:gsLst>
              <a:lin ang="2700000"/>
            </a:gra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63040" rIns="90000" tIns="46800" bIns="46800" anchor="ctr">
              <a:normAutofit/>
            </a:bodyPr>
            <a:p>
              <a:pPr marL="260280" indent="4680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Ochrana komunikace mezi dvěma koncovými počítači</a:t>
              </a:r>
              <a:endParaRPr b="0" lang="en-US" sz="22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14" name="AutoShape 368"/>
            <p:cNvSpPr/>
            <p:nvPr/>
          </p:nvSpPr>
          <p:spPr>
            <a:xfrm>
              <a:off x="1476360" y="2133720"/>
              <a:ext cx="1636560" cy="71892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aaba0"/>
                </a:gs>
                <a:gs pos="100000">
                  <a:srgbClr val="f6d9d4"/>
                </a:gs>
              </a:gsLst>
              <a:lin ang="2700000"/>
            </a:gra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Transport</a:t>
              </a:r>
              <a:r>
                <a:rPr b="1" lang="cs-CZ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ní</a:t>
              </a:r>
              <a:r>
                <a:rPr b="1" lang="en-US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 m</a:t>
              </a:r>
              <a:r>
                <a:rPr b="1" lang="cs-CZ" sz="2200" spc="-1" strike="noStrike">
                  <a:solidFill>
                    <a:srgbClr val="292934"/>
                  </a:solidFill>
                  <a:latin typeface="Calibri"/>
                  <a:ea typeface="Arial"/>
                </a:rPr>
                <a:t>ód</a:t>
              </a:r>
              <a:endParaRPr b="0" lang="en-US" sz="22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15" name="Group 373"/>
          <p:cNvGrpSpPr/>
          <p:nvPr/>
        </p:nvGrpSpPr>
        <p:grpSpPr>
          <a:xfrm>
            <a:off x="1476360" y="3068640"/>
            <a:ext cx="7524360" cy="720720"/>
            <a:chOff x="1476360" y="3068640"/>
            <a:chExt cx="7524360" cy="720720"/>
          </a:xfrm>
        </p:grpSpPr>
        <p:sp>
          <p:nvSpPr>
            <p:cNvPr id="316" name="AutoShape 374"/>
            <p:cNvSpPr/>
            <p:nvPr/>
          </p:nvSpPr>
          <p:spPr>
            <a:xfrm>
              <a:off x="1497240" y="3068640"/>
              <a:ext cx="7503480" cy="71892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eefd7"/>
                </a:gs>
                <a:gs pos="100000">
                  <a:srgbClr val="d5d69c"/>
                </a:gs>
              </a:gsLst>
              <a:lin ang="2700000"/>
            </a:gra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1463040" rIns="90000" tIns="46800" bIns="46800" anchor="ctr">
              <a:normAutofit/>
            </a:bodyPr>
            <a:p>
              <a:pPr marL="264960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Ochrana komunikace mezi koncovým počítačem a sítí nebo mezi dvěma sítěmi</a:t>
              </a:r>
              <a:endParaRPr b="0" lang="en-US" sz="22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317" name="AutoShape 375"/>
            <p:cNvSpPr/>
            <p:nvPr/>
          </p:nvSpPr>
          <p:spPr>
            <a:xfrm>
              <a:off x="1476360" y="3068640"/>
              <a:ext cx="1641600" cy="720720"/>
            </a:xfrm>
            <a:prstGeom prst="roundRect">
              <a:avLst>
                <a:gd name="adj" fmla="val 4167"/>
              </a:avLst>
            </a:prstGeom>
            <a:gradFill rotWithShape="0">
              <a:gsLst>
                <a:gs pos="0">
                  <a:srgbClr val="eaaba0"/>
                </a:gs>
                <a:gs pos="100000">
                  <a:srgbClr val="f6d9d4"/>
                </a:gs>
              </a:gsLst>
              <a:lin ang="2700000"/>
            </a:gradFill>
            <a:ln w="9360">
              <a:solidFill>
                <a:srgbClr val="2929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spcBef>
                  <a:spcPts val="1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Tunel</a:t>
              </a:r>
              <a:r>
                <a:rPr b="1" lang="cs-CZ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ovací</a:t>
              </a:r>
              <a:r>
                <a:rPr b="1" lang="en-US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 m</a:t>
              </a:r>
              <a:r>
                <a:rPr b="1" lang="cs-CZ" sz="22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ód</a:t>
              </a:r>
              <a:endParaRPr b="0" lang="en-US" sz="22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Transportní mód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2378160" y="3700440"/>
            <a:ext cx="838080" cy="743040"/>
          </a:xfrm>
          <a:prstGeom prst="rect">
            <a:avLst/>
          </a:prstGeom>
          <a:gradFill rotWithShape="0">
            <a:gsLst>
              <a:gs pos="0">
                <a:srgbClr val="6e7b9e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3216240" y="3700440"/>
            <a:ext cx="83808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3362760" y="383868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2557800" y="3851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1332000" y="370044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4" name="Text Box 9"/>
          <p:cNvSpPr/>
          <p:nvPr/>
        </p:nvSpPr>
        <p:spPr>
          <a:xfrm>
            <a:off x="1258920" y="371808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5" name="Rectangle 10"/>
          <p:cNvSpPr/>
          <p:nvPr/>
        </p:nvSpPr>
        <p:spPr>
          <a:xfrm>
            <a:off x="5959440" y="3699000"/>
            <a:ext cx="83808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6797520" y="3699000"/>
            <a:ext cx="83844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7" name="Text Box 12"/>
          <p:cNvSpPr/>
          <p:nvPr/>
        </p:nvSpPr>
        <p:spPr>
          <a:xfrm>
            <a:off x="6950520" y="38671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5977440" y="369396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29" name="Rectangle 14"/>
          <p:cNvSpPr/>
          <p:nvPr/>
        </p:nvSpPr>
        <p:spPr>
          <a:xfrm>
            <a:off x="4716360" y="3699000"/>
            <a:ext cx="1243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0" name="Text Box 15"/>
          <p:cNvSpPr/>
          <p:nvPr/>
        </p:nvSpPr>
        <p:spPr>
          <a:xfrm>
            <a:off x="4825080" y="376704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1" name="Rectangle 16"/>
          <p:cNvSpPr/>
          <p:nvPr/>
        </p:nvSpPr>
        <p:spPr>
          <a:xfrm>
            <a:off x="7635960" y="3699000"/>
            <a:ext cx="83808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2" name="Text Box 17"/>
          <p:cNvSpPr/>
          <p:nvPr/>
        </p:nvSpPr>
        <p:spPr>
          <a:xfrm>
            <a:off x="7679160" y="370044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pat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3" name="Rectangle 19"/>
          <p:cNvSpPr/>
          <p:nvPr/>
        </p:nvSpPr>
        <p:spPr>
          <a:xfrm>
            <a:off x="3419640" y="2143080"/>
            <a:ext cx="1304640" cy="716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4" name="Rectangle 20"/>
          <p:cNvSpPr/>
          <p:nvPr/>
        </p:nvSpPr>
        <p:spPr>
          <a:xfrm>
            <a:off x="4724280" y="2143080"/>
            <a:ext cx="838440" cy="716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5" name="Text Box 21"/>
          <p:cNvSpPr/>
          <p:nvPr/>
        </p:nvSpPr>
        <p:spPr>
          <a:xfrm>
            <a:off x="4797360" y="231948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6" name="Text Box 22"/>
          <p:cNvSpPr/>
          <p:nvPr/>
        </p:nvSpPr>
        <p:spPr>
          <a:xfrm>
            <a:off x="3480120" y="214488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7" name="Text Box 23"/>
          <p:cNvSpPr/>
          <p:nvPr/>
        </p:nvSpPr>
        <p:spPr>
          <a:xfrm>
            <a:off x="3637080" y="177336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Běžný IP pake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8" name="Text Box 24"/>
          <p:cNvSpPr/>
          <p:nvPr/>
        </p:nvSpPr>
        <p:spPr>
          <a:xfrm>
            <a:off x="1620720" y="327816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9" name="Text Box 25"/>
          <p:cNvSpPr/>
          <p:nvPr/>
        </p:nvSpPr>
        <p:spPr>
          <a:xfrm>
            <a:off x="5219640" y="3284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0" name="Rectangle 26"/>
          <p:cNvSpPr/>
          <p:nvPr/>
        </p:nvSpPr>
        <p:spPr>
          <a:xfrm>
            <a:off x="3387600" y="5349960"/>
            <a:ext cx="838440" cy="743040"/>
          </a:xfrm>
          <a:prstGeom prst="rect">
            <a:avLst/>
          </a:prstGeom>
          <a:gradFill rotWithShape="0">
            <a:gsLst>
              <a:gs pos="0">
                <a:srgbClr val="6e7b9e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1" name="Text Box 29"/>
          <p:cNvSpPr/>
          <p:nvPr/>
        </p:nvSpPr>
        <p:spPr>
          <a:xfrm>
            <a:off x="3567240" y="5500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2" name="Rectangle 30"/>
          <p:cNvSpPr/>
          <p:nvPr/>
        </p:nvSpPr>
        <p:spPr>
          <a:xfrm>
            <a:off x="2341440" y="534996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3" name="Text Box 31"/>
          <p:cNvSpPr/>
          <p:nvPr/>
        </p:nvSpPr>
        <p:spPr>
          <a:xfrm>
            <a:off x="2268360" y="5367240"/>
            <a:ext cx="117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4" name="Rectangle 32"/>
          <p:cNvSpPr/>
          <p:nvPr/>
        </p:nvSpPr>
        <p:spPr>
          <a:xfrm>
            <a:off x="4213080" y="5348160"/>
            <a:ext cx="838440" cy="7448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5" name="Rectangle 33"/>
          <p:cNvSpPr/>
          <p:nvPr/>
        </p:nvSpPr>
        <p:spPr>
          <a:xfrm>
            <a:off x="5051520" y="5348160"/>
            <a:ext cx="838080" cy="7448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6" name="Text Box 34"/>
          <p:cNvSpPr/>
          <p:nvPr/>
        </p:nvSpPr>
        <p:spPr>
          <a:xfrm>
            <a:off x="5204160" y="551664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7" name="Text Box 35"/>
          <p:cNvSpPr/>
          <p:nvPr/>
        </p:nvSpPr>
        <p:spPr>
          <a:xfrm>
            <a:off x="4231440" y="534348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8" name="Rectangle 36"/>
          <p:cNvSpPr/>
          <p:nvPr/>
        </p:nvSpPr>
        <p:spPr>
          <a:xfrm>
            <a:off x="5889600" y="5348160"/>
            <a:ext cx="838080" cy="74484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9" name="Text Box 37"/>
          <p:cNvSpPr/>
          <p:nvPr/>
        </p:nvSpPr>
        <p:spPr>
          <a:xfrm>
            <a:off x="5933160" y="534996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pat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0" name="Text Box 38"/>
          <p:cNvSpPr/>
          <p:nvPr/>
        </p:nvSpPr>
        <p:spPr>
          <a:xfrm>
            <a:off x="3132000" y="493380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AH + 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Tunelovací mód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2281320" y="3062160"/>
            <a:ext cx="838080" cy="743040"/>
          </a:xfrm>
          <a:prstGeom prst="rect">
            <a:avLst/>
          </a:prstGeom>
          <a:gradFill rotWithShape="0">
            <a:gsLst>
              <a:gs pos="0">
                <a:srgbClr val="6e7b9e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4165560" y="3059280"/>
            <a:ext cx="838080" cy="7426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312080" y="319716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2486160" y="3219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121200" y="3059280"/>
            <a:ext cx="1046160" cy="7426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3048120" y="307656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5122800" y="4052880"/>
            <a:ext cx="83844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7216920" y="4052880"/>
            <a:ext cx="838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0" name="Text Box 11"/>
          <p:cNvSpPr/>
          <p:nvPr/>
        </p:nvSpPr>
        <p:spPr>
          <a:xfrm>
            <a:off x="7369560" y="422100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1" name="Text Box 12"/>
          <p:cNvSpPr/>
          <p:nvPr/>
        </p:nvSpPr>
        <p:spPr>
          <a:xfrm>
            <a:off x="5140800" y="404820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2" name="Rectangle 13"/>
          <p:cNvSpPr/>
          <p:nvPr/>
        </p:nvSpPr>
        <p:spPr>
          <a:xfrm>
            <a:off x="5973840" y="4052880"/>
            <a:ext cx="1243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6082200" y="41212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4" name="Rectangle 15"/>
          <p:cNvSpPr/>
          <p:nvPr/>
        </p:nvSpPr>
        <p:spPr>
          <a:xfrm>
            <a:off x="8055000" y="4052880"/>
            <a:ext cx="83808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8098560" y="405432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pat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6" name="Rectangle 17"/>
          <p:cNvSpPr/>
          <p:nvPr/>
        </p:nvSpPr>
        <p:spPr>
          <a:xfrm>
            <a:off x="4013280" y="1849320"/>
            <a:ext cx="1305000" cy="716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7" name="Rectangle 18"/>
          <p:cNvSpPr/>
          <p:nvPr/>
        </p:nvSpPr>
        <p:spPr>
          <a:xfrm>
            <a:off x="5318280" y="1849320"/>
            <a:ext cx="838080" cy="716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5391000" y="20257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4073760" y="185112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0" name="Text Box 21"/>
          <p:cNvSpPr/>
          <p:nvPr/>
        </p:nvSpPr>
        <p:spPr>
          <a:xfrm>
            <a:off x="4230720" y="14796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Běžný IP paket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1" name="Text Box 22"/>
          <p:cNvSpPr/>
          <p:nvPr/>
        </p:nvSpPr>
        <p:spPr>
          <a:xfrm>
            <a:off x="1765440" y="2637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5711760" y="36385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3" name="Rectangle 24"/>
          <p:cNvSpPr/>
          <p:nvPr/>
        </p:nvSpPr>
        <p:spPr>
          <a:xfrm>
            <a:off x="2340000" y="5565600"/>
            <a:ext cx="838080" cy="743040"/>
          </a:xfrm>
          <a:prstGeom prst="rect">
            <a:avLst/>
          </a:prstGeom>
          <a:gradFill rotWithShape="0">
            <a:gsLst>
              <a:gs pos="0">
                <a:srgbClr val="6e7b9e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2519640" y="5716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AH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2484360" y="507852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Arial"/>
                <a:ea typeface="Arial"/>
              </a:rPr>
              <a:t>Paket při použití AH + 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6" name="Rectangle 35"/>
          <p:cNvSpPr/>
          <p:nvPr/>
        </p:nvSpPr>
        <p:spPr>
          <a:xfrm>
            <a:off x="1239840" y="306540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1166760" y="308304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Nové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8" name="Rectangle 37"/>
          <p:cNvSpPr/>
          <p:nvPr/>
        </p:nvSpPr>
        <p:spPr>
          <a:xfrm>
            <a:off x="4076640" y="405432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4003560" y="407196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Nové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0" name="Rectangle 39"/>
          <p:cNvSpPr/>
          <p:nvPr/>
        </p:nvSpPr>
        <p:spPr>
          <a:xfrm>
            <a:off x="3170160" y="5564160"/>
            <a:ext cx="83844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1" name="Rectangle 40"/>
          <p:cNvSpPr/>
          <p:nvPr/>
        </p:nvSpPr>
        <p:spPr>
          <a:xfrm>
            <a:off x="5264280" y="5564160"/>
            <a:ext cx="838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5416920" y="573264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Data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3188160" y="5559480"/>
            <a:ext cx="81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4" name="Rectangle 43"/>
          <p:cNvSpPr/>
          <p:nvPr/>
        </p:nvSpPr>
        <p:spPr>
          <a:xfrm>
            <a:off x="4021200" y="5564160"/>
            <a:ext cx="1243080" cy="74448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5" name="Text Box 44"/>
          <p:cNvSpPr/>
          <p:nvPr/>
        </p:nvSpPr>
        <p:spPr>
          <a:xfrm>
            <a:off x="4129560" y="56325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Původn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6" name="Rectangle 45"/>
          <p:cNvSpPr/>
          <p:nvPr/>
        </p:nvSpPr>
        <p:spPr>
          <a:xfrm>
            <a:off x="6102360" y="5564160"/>
            <a:ext cx="838080" cy="7444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6145920" y="5565600"/>
            <a:ext cx="7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ESP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zápat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8" name="Rectangle 47"/>
          <p:cNvSpPr/>
          <p:nvPr/>
        </p:nvSpPr>
        <p:spPr>
          <a:xfrm>
            <a:off x="1293840" y="5565600"/>
            <a:ext cx="1046160" cy="743040"/>
          </a:xfrm>
          <a:prstGeom prst="rect">
            <a:avLst/>
          </a:prstGeom>
          <a:noFill/>
          <a:ln w="25560">
            <a:solidFill>
              <a:srgbClr val="2929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1220760" y="5583240"/>
            <a:ext cx="11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Nové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34"/>
                </a:solidFill>
                <a:latin typeface="Calibri"/>
                <a:ea typeface="Arial"/>
              </a:rPr>
              <a:t>IP záhlaví</a:t>
            </a: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Transportní mód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grpSp>
        <p:nvGrpSpPr>
          <p:cNvPr id="391" name="Group 8"/>
          <p:cNvGrpSpPr/>
          <p:nvPr/>
        </p:nvGrpSpPr>
        <p:grpSpPr>
          <a:xfrm>
            <a:off x="1276200" y="3108240"/>
            <a:ext cx="4246200" cy="3195360"/>
            <a:chOff x="1276200" y="3108240"/>
            <a:chExt cx="4246200" cy="3195360"/>
          </a:xfrm>
        </p:grpSpPr>
        <p:pic>
          <p:nvPicPr>
            <p:cNvPr id="392" name="Picture 4" descr="endtoend"/>
            <p:cNvPicPr/>
            <p:nvPr/>
          </p:nvPicPr>
          <p:blipFill>
            <a:blip r:embed="rId1"/>
            <a:stretch/>
          </p:blipFill>
          <p:spPr>
            <a:xfrm>
              <a:off x="1276200" y="3108240"/>
              <a:ext cx="4246200" cy="312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AutoShape 6"/>
            <p:cNvSpPr/>
            <p:nvPr/>
          </p:nvSpPr>
          <p:spPr>
            <a:xfrm>
              <a:off x="1557720" y="5728680"/>
              <a:ext cx="1957320" cy="57492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End-to-End Host Security</a:t>
              </a:r>
              <a:endParaRPr b="0" lang="en-US" sz="16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394" name="Group 29"/>
          <p:cNvGrpSpPr/>
          <p:nvPr/>
        </p:nvGrpSpPr>
        <p:grpSpPr>
          <a:xfrm>
            <a:off x="3813120" y="1623960"/>
            <a:ext cx="4548240" cy="3637800"/>
            <a:chOff x="3813120" y="1623960"/>
            <a:chExt cx="4548240" cy="3637800"/>
          </a:xfrm>
        </p:grpSpPr>
        <p:sp>
          <p:nvSpPr>
            <p:cNvPr id="395" name="AutoShape 7"/>
            <p:cNvSpPr/>
            <p:nvPr/>
          </p:nvSpPr>
          <p:spPr>
            <a:xfrm>
              <a:off x="6435720" y="4935960"/>
              <a:ext cx="1390680" cy="32580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2736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34"/>
                  </a:solidFill>
                  <a:latin typeface="Arial Narrow"/>
                  <a:ea typeface="Arial"/>
                </a:rPr>
                <a:t>Server Isolation</a:t>
              </a:r>
              <a:endParaRPr b="0" lang="en-US" sz="1600" spc="-1" strike="noStrike">
                <a:solidFill>
                  <a:srgbClr val="292934"/>
                </a:solidFill>
                <a:latin typeface="Arial"/>
              </a:endParaRPr>
            </a:p>
          </p:txBody>
        </p:sp>
        <p:pic>
          <p:nvPicPr>
            <p:cNvPr id="396" name="Picture 28" descr="2804A_C02"/>
            <p:cNvPicPr/>
            <p:nvPr/>
          </p:nvPicPr>
          <p:blipFill>
            <a:blip r:embed="rId2"/>
            <a:stretch/>
          </p:blipFill>
          <p:spPr>
            <a:xfrm>
              <a:off x="3813120" y="1623960"/>
              <a:ext cx="4548240" cy="29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21" descr="Encryption01"/>
            <p:cNvPicPr/>
            <p:nvPr/>
          </p:nvPicPr>
          <p:blipFill>
            <a:blip r:embed="rId3"/>
            <a:stretch/>
          </p:blipFill>
          <p:spPr>
            <a:xfrm>
              <a:off x="4925880" y="2090880"/>
              <a:ext cx="17640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22" descr="Encryption01"/>
            <p:cNvPicPr/>
            <p:nvPr/>
          </p:nvPicPr>
          <p:blipFill>
            <a:blip r:embed="rId4"/>
            <a:stretch/>
          </p:blipFill>
          <p:spPr>
            <a:xfrm>
              <a:off x="4721400" y="2389320"/>
              <a:ext cx="17604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23" descr="Encryption01"/>
            <p:cNvPicPr/>
            <p:nvPr/>
          </p:nvPicPr>
          <p:blipFill>
            <a:blip r:embed="rId5"/>
            <a:stretch/>
          </p:blipFill>
          <p:spPr>
            <a:xfrm>
              <a:off x="4867200" y="2852640"/>
              <a:ext cx="17640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24" descr="Encryption01"/>
            <p:cNvPicPr/>
            <p:nvPr/>
          </p:nvPicPr>
          <p:blipFill>
            <a:blip r:embed="rId6"/>
            <a:stretch/>
          </p:blipFill>
          <p:spPr>
            <a:xfrm>
              <a:off x="4843440" y="3263760"/>
              <a:ext cx="176400" cy="282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Tu</a:t>
            </a: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n</a:t>
            </a: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el</a:t>
            </a: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ovací</a:t>
            </a: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 </a:t>
            </a: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mó</a:t>
            </a: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d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02" name="AutoShape 48"/>
          <p:cNvSpPr/>
          <p:nvPr/>
        </p:nvSpPr>
        <p:spPr>
          <a:xfrm>
            <a:off x="5724360" y="2386080"/>
            <a:ext cx="2264040" cy="2311200"/>
          </a:xfrm>
          <a:custGeom>
            <a:avLst/>
            <a:gdLst>
              <a:gd name="textAreaLeft" fmla="*/ 26640 w 2264040"/>
              <a:gd name="textAreaRight" fmla="*/ 2237400 w 2264040"/>
              <a:gd name="textAreaTop" fmla="*/ 26640 h 2311200"/>
              <a:gd name="textAreaBottom" fmla="*/ 2284560 h 2311200"/>
            </a:gdLst>
            <a:ahLst/>
            <a:rect l="textAreaLeft" t="textAreaTop" r="textAreaRight" b="textAreaBottom"/>
            <a:pathLst>
              <a:path w="21600" h="22050">
                <a:moveTo>
                  <a:pt x="875" y="0"/>
                </a:moveTo>
                <a:arcTo wR="875" hR="875" stAng="16200000" swAng="-5400000"/>
                <a:lnTo>
                  <a:pt x="0" y="21175"/>
                </a:lnTo>
                <a:arcTo wR="875" hR="875" stAng="10800000" swAng="-5400000"/>
                <a:lnTo>
                  <a:pt x="20725" y="22050"/>
                </a:lnTo>
                <a:arcTo wR="875" hR="875" stAng="5400000" swAng="-5400000"/>
                <a:lnTo>
                  <a:pt x="21600" y="875"/>
                </a:lnTo>
                <a:arcTo wR="875" hR="875" stAng="0" swAng="-5400000"/>
                <a:close/>
              </a:path>
            </a:pathLst>
          </a:custGeom>
          <a:gradFill rotWithShape="0">
            <a:gsLst>
              <a:gs pos="0">
                <a:srgbClr val="8dacd0"/>
              </a:gs>
              <a:gs pos="100000">
                <a:srgbClr val="dee7f1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3" name="AutoShape 7"/>
          <p:cNvSpPr/>
          <p:nvPr/>
        </p:nvSpPr>
        <p:spPr>
          <a:xfrm>
            <a:off x="1270080" y="1618200"/>
            <a:ext cx="1877760" cy="32580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Site-to-Site VPN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4" name="AutoShape 31"/>
          <p:cNvSpPr/>
          <p:nvPr/>
        </p:nvSpPr>
        <p:spPr>
          <a:xfrm>
            <a:off x="4052880" y="2216160"/>
            <a:ext cx="987480" cy="57492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IPSec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Tunnel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5" name="AutoShape 47"/>
          <p:cNvSpPr/>
          <p:nvPr/>
        </p:nvSpPr>
        <p:spPr>
          <a:xfrm>
            <a:off x="1106640" y="2386080"/>
            <a:ext cx="2263680" cy="2311200"/>
          </a:xfrm>
          <a:custGeom>
            <a:avLst/>
            <a:gdLst>
              <a:gd name="textAreaLeft" fmla="*/ 26640 w 2263680"/>
              <a:gd name="textAreaRight" fmla="*/ 2237040 w 2263680"/>
              <a:gd name="textAreaTop" fmla="*/ 26640 h 2311200"/>
              <a:gd name="textAreaBottom" fmla="*/ 2284560 h 2311200"/>
            </a:gdLst>
            <a:ahLst/>
            <a:rect l="textAreaLeft" t="textAreaTop" r="textAreaRight" b="textAreaBottom"/>
            <a:pathLst>
              <a:path w="21600" h="22053">
                <a:moveTo>
                  <a:pt x="875" y="0"/>
                </a:moveTo>
                <a:arcTo wR="875" hR="875" stAng="16200000" swAng="-5400000"/>
                <a:lnTo>
                  <a:pt x="0" y="21178"/>
                </a:lnTo>
                <a:arcTo wR="875" hR="875" stAng="10800000" swAng="-5400000"/>
                <a:lnTo>
                  <a:pt x="20725" y="22053"/>
                </a:lnTo>
                <a:arcTo wR="875" hR="875" stAng="5400000" swAng="-5400000"/>
                <a:lnTo>
                  <a:pt x="21600" y="875"/>
                </a:lnTo>
                <a:arcTo wR="875" hR="875" stAng="0" swAng="-5400000"/>
                <a:close/>
              </a:path>
            </a:pathLst>
          </a:custGeom>
          <a:gradFill rotWithShape="0">
            <a:gsLst>
              <a:gs pos="0">
                <a:srgbClr val="8dacd0"/>
              </a:gs>
              <a:gs pos="100000">
                <a:srgbClr val="dee7f1"/>
              </a:gs>
            </a:gsLst>
            <a:lin ang="2700000"/>
          </a:gra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6" name="AutoShape 33"/>
          <p:cNvSpPr/>
          <p:nvPr/>
        </p:nvSpPr>
        <p:spPr>
          <a:xfrm>
            <a:off x="2933640" y="4260600"/>
            <a:ext cx="882720" cy="57492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IPSec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Gateway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7" name="AutoShape 34"/>
          <p:cNvSpPr/>
          <p:nvPr/>
        </p:nvSpPr>
        <p:spPr>
          <a:xfrm>
            <a:off x="1233360" y="3998160"/>
            <a:ext cx="1455840" cy="29484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34"/>
                </a:solidFill>
                <a:latin typeface="Arial Narrow"/>
                <a:ea typeface="Arial"/>
              </a:rPr>
              <a:t>Windows XP Client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8" name="AutoShape 35"/>
          <p:cNvSpPr/>
          <p:nvPr/>
        </p:nvSpPr>
        <p:spPr>
          <a:xfrm>
            <a:off x="6767640" y="4255560"/>
            <a:ext cx="998280" cy="29484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" rIns="900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34"/>
                </a:solidFill>
                <a:latin typeface="Arial Narrow"/>
                <a:ea typeface="Arial"/>
              </a:rPr>
              <a:t>FTP Server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9" name="AutoShape 36"/>
          <p:cNvSpPr/>
          <p:nvPr/>
        </p:nvSpPr>
        <p:spPr>
          <a:xfrm>
            <a:off x="6305400" y="2527920"/>
            <a:ext cx="981360" cy="32580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Site B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0" name="AutoShape 37"/>
          <p:cNvSpPr/>
          <p:nvPr/>
        </p:nvSpPr>
        <p:spPr>
          <a:xfrm>
            <a:off x="1771560" y="2527920"/>
            <a:ext cx="981000" cy="32580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Site A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1" name="Picture 38" descr="Server01"/>
          <p:cNvPicPr/>
          <p:nvPr/>
        </p:nvPicPr>
        <p:blipFill>
          <a:blip r:embed="rId1"/>
          <a:stretch/>
        </p:blipFill>
        <p:spPr>
          <a:xfrm>
            <a:off x="6856560" y="3365640"/>
            <a:ext cx="693720" cy="815760"/>
          </a:xfrm>
          <a:prstGeom prst="rect">
            <a:avLst/>
          </a:prstGeom>
          <a:ln w="0">
            <a:noFill/>
          </a:ln>
        </p:spPr>
      </p:pic>
      <p:sp>
        <p:nvSpPr>
          <p:cNvPr id="412" name="Line 50"/>
          <p:cNvSpPr/>
          <p:nvPr/>
        </p:nvSpPr>
        <p:spPr>
          <a:xfrm>
            <a:off x="2127240" y="3552840"/>
            <a:ext cx="21528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3" name="Picture 45" descr="VpnB01"/>
          <p:cNvPicPr/>
          <p:nvPr/>
        </p:nvPicPr>
        <p:blipFill>
          <a:blip r:embed="rId2"/>
          <a:stretch/>
        </p:blipFill>
        <p:spPr>
          <a:xfrm>
            <a:off x="3730680" y="3352680"/>
            <a:ext cx="1730160" cy="760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6" descr="Internet01"/>
          <p:cNvPicPr/>
          <p:nvPr/>
        </p:nvPicPr>
        <p:blipFill>
          <a:blip r:embed="rId3"/>
          <a:stretch/>
        </p:blipFill>
        <p:spPr>
          <a:xfrm>
            <a:off x="3962520" y="3129120"/>
            <a:ext cx="1171440" cy="1168200"/>
          </a:xfrm>
          <a:prstGeom prst="rect">
            <a:avLst/>
          </a:prstGeom>
          <a:ln w="0">
            <a:noFill/>
          </a:ln>
        </p:spPr>
      </p:pic>
      <p:sp>
        <p:nvSpPr>
          <p:cNvPr id="415" name="Line 49"/>
          <p:cNvSpPr/>
          <p:nvPr/>
        </p:nvSpPr>
        <p:spPr>
          <a:xfrm>
            <a:off x="5192640" y="3914640"/>
            <a:ext cx="18288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pic>
        <p:nvPicPr>
          <p:cNvPr id="416" name="Picture 40" descr="Server01"/>
          <p:cNvPicPr/>
          <p:nvPr/>
        </p:nvPicPr>
        <p:blipFill>
          <a:blip r:embed="rId4"/>
          <a:stretch/>
        </p:blipFill>
        <p:spPr>
          <a:xfrm>
            <a:off x="5608800" y="3451320"/>
            <a:ext cx="693720" cy="815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1" descr="Server01"/>
          <p:cNvPicPr/>
          <p:nvPr/>
        </p:nvPicPr>
        <p:blipFill>
          <a:blip r:embed="rId5"/>
          <a:stretch/>
        </p:blipFill>
        <p:spPr>
          <a:xfrm>
            <a:off x="2916360" y="3241800"/>
            <a:ext cx="693720" cy="815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43" descr="Computer_DesktopComputer01"/>
          <p:cNvPicPr/>
          <p:nvPr/>
        </p:nvPicPr>
        <p:blipFill>
          <a:blip r:embed="rId6"/>
          <a:stretch/>
        </p:blipFill>
        <p:spPr>
          <a:xfrm>
            <a:off x="1639800" y="3174840"/>
            <a:ext cx="758880" cy="85248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51"/>
          <p:cNvSpPr/>
          <p:nvPr/>
        </p:nvSpPr>
        <p:spPr>
          <a:xfrm>
            <a:off x="5398920" y="4403520"/>
            <a:ext cx="882720" cy="574920"/>
          </a:xfrm>
          <a:prstGeom prst="roundRect">
            <a:avLst>
              <a:gd name="adj" fmla="val 4167"/>
            </a:avLst>
          </a:prstGeom>
          <a:solidFill>
            <a:srgbClr val="ffffff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2736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IPSec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34"/>
                </a:solidFill>
                <a:latin typeface="Arial Narrow"/>
                <a:ea typeface="Arial"/>
              </a:rPr>
              <a:t>Gateway</a:t>
            </a:r>
            <a:endParaRPr b="0" lang="en-US" sz="16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 Narrow"/>
              </a:rPr>
              <a:t>Implementa</a:t>
            </a: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ce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3160" indent="-1731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Časté síťové prvky a operační systémy: 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Zařízení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Cisco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PC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s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MS Windows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73160" indent="-1731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IPSec a MS Windows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dpora od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Windows 200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Flexib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lní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onfigura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ční možnosti 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(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místní politika nebo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 Active Directory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73160" indent="-1731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MS Management Console (MMC)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Snap-in modul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 pro správu 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IP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 bezpečnosti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astavení obecných pravidel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 (IKE –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doby platností, šifrovací algoritmy atd.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34160" indent="-1731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astavení pravid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8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Jak IPSec zabezpečuje datový provoz?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grpSp>
        <p:nvGrpSpPr>
          <p:cNvPr id="423" name="Group 3"/>
          <p:cNvGrpSpPr/>
          <p:nvPr/>
        </p:nvGrpSpPr>
        <p:grpSpPr>
          <a:xfrm>
            <a:off x="1476000" y="2817720"/>
            <a:ext cx="7394760" cy="2981160"/>
            <a:chOff x="1476000" y="2817720"/>
            <a:chExt cx="7394760" cy="2981160"/>
          </a:xfrm>
        </p:grpSpPr>
        <p:sp>
          <p:nvSpPr>
            <p:cNvPr id="424" name="Rectangle 4"/>
            <p:cNvSpPr/>
            <p:nvPr/>
          </p:nvSpPr>
          <p:spPr>
            <a:xfrm rot="10800000">
              <a:off x="1476000" y="5666760"/>
              <a:ext cx="7394760" cy="1317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25" name="AutoShape 5"/>
            <p:cNvSpPr/>
            <p:nvPr/>
          </p:nvSpPr>
          <p:spPr>
            <a:xfrm rot="5400000">
              <a:off x="1947600" y="4643280"/>
              <a:ext cx="2095560" cy="136440"/>
            </a:xfrm>
            <a:custGeom>
              <a:avLst/>
              <a:gdLst>
                <a:gd name="textAreaLeft" fmla="*/ 0 w 2095560"/>
                <a:gd name="textAreaRight" fmla="*/ 2095920 w 20955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732" y="0"/>
                  </a:lnTo>
                  <a:lnTo>
                    <a:pt x="21600" y="10800"/>
                  </a:lnTo>
                  <a:lnTo>
                    <a:pt x="2073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endParaRPr b="0" lang="en-US" sz="2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26" name="AutoShape 6"/>
            <p:cNvSpPr/>
            <p:nvPr/>
          </p:nvSpPr>
          <p:spPr>
            <a:xfrm rot="5400000">
              <a:off x="6348240" y="4643280"/>
              <a:ext cx="2095560" cy="136440"/>
            </a:xfrm>
            <a:custGeom>
              <a:avLst/>
              <a:gdLst>
                <a:gd name="textAreaLeft" fmla="*/ 0 w 2095560"/>
                <a:gd name="textAreaRight" fmla="*/ 2095920 w 20955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732" y="0"/>
                  </a:lnTo>
                  <a:lnTo>
                    <a:pt x="21600" y="10800"/>
                  </a:lnTo>
                  <a:lnTo>
                    <a:pt x="20732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e9e9e9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endParaRPr b="0" lang="en-US" sz="2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pic>
          <p:nvPicPr>
            <p:cNvPr id="427" name="Picture 7" descr="Computer_DesktopComputerSansKeyboard01"/>
            <p:cNvPicPr/>
            <p:nvPr/>
          </p:nvPicPr>
          <p:blipFill>
            <a:blip r:embed="rId1"/>
            <a:stretch/>
          </p:blipFill>
          <p:spPr>
            <a:xfrm>
              <a:off x="2479680" y="2817720"/>
              <a:ext cx="1032120" cy="125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8" descr="Computer_DesktopComputerSansKeyboard01"/>
            <p:cNvPicPr/>
            <p:nvPr/>
          </p:nvPicPr>
          <p:blipFill>
            <a:blip r:embed="rId2"/>
            <a:stretch/>
          </p:blipFill>
          <p:spPr>
            <a:xfrm>
              <a:off x="6929640" y="2817720"/>
              <a:ext cx="1031760" cy="1257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9" name="Group 9"/>
          <p:cNvGrpSpPr/>
          <p:nvPr/>
        </p:nvGrpSpPr>
        <p:grpSpPr>
          <a:xfrm>
            <a:off x="1793880" y="2238480"/>
            <a:ext cx="6822720" cy="2832120"/>
            <a:chOff x="1793880" y="2238480"/>
            <a:chExt cx="6822720" cy="2832120"/>
          </a:xfrm>
        </p:grpSpPr>
        <p:sp>
          <p:nvSpPr>
            <p:cNvPr id="430" name="Line 10"/>
            <p:cNvSpPr/>
            <p:nvPr/>
          </p:nvSpPr>
          <p:spPr>
            <a:xfrm flipH="1">
              <a:off x="3416400" y="3281760"/>
              <a:ext cx="64296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1" name="Line 11"/>
            <p:cNvSpPr/>
            <p:nvPr/>
          </p:nvSpPr>
          <p:spPr>
            <a:xfrm>
              <a:off x="6262920" y="3281760"/>
              <a:ext cx="64296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2" name="Freeform 12"/>
            <p:cNvSpPr/>
            <p:nvPr/>
          </p:nvSpPr>
          <p:spPr>
            <a:xfrm>
              <a:off x="1793880" y="2238480"/>
              <a:ext cx="1263960" cy="2610000"/>
            </a:xfrm>
            <a:custGeom>
              <a:avLst/>
              <a:gdLst/>
              <a:ahLst/>
              <a:rect l="l" t="t" r="r" b="b"/>
              <a:pathLst>
                <a:path w="576" h="1720">
                  <a:moveTo>
                    <a:pt x="576" y="0"/>
                  </a:moveTo>
                  <a:lnTo>
                    <a:pt x="0" y="0"/>
                  </a:lnTo>
                  <a:lnTo>
                    <a:pt x="0" y="1720"/>
                  </a:lnTo>
                  <a:lnTo>
                    <a:pt x="219" y="1720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3" name="Freeform 13"/>
            <p:cNvSpPr/>
            <p:nvPr/>
          </p:nvSpPr>
          <p:spPr>
            <a:xfrm flipH="1">
              <a:off x="7419240" y="2238480"/>
              <a:ext cx="1197000" cy="2610000"/>
            </a:xfrm>
            <a:custGeom>
              <a:avLst/>
              <a:gdLst/>
              <a:ahLst/>
              <a:rect l="l" t="t" r="r" b="b"/>
              <a:pathLst>
                <a:path w="576" h="1720">
                  <a:moveTo>
                    <a:pt x="576" y="0"/>
                  </a:moveTo>
                  <a:lnTo>
                    <a:pt x="0" y="0"/>
                  </a:lnTo>
                  <a:lnTo>
                    <a:pt x="0" y="1720"/>
                  </a:lnTo>
                  <a:lnTo>
                    <a:pt x="219" y="1720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4" name="AutoShape 14"/>
            <p:cNvSpPr/>
            <p:nvPr/>
          </p:nvSpPr>
          <p:spPr>
            <a:xfrm>
              <a:off x="6774120" y="4239000"/>
              <a:ext cx="1317600" cy="3808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CP </a:t>
              </a:r>
              <a:r>
                <a:rPr b="1" lang="cs-CZ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vrstva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5" name="AutoShape 15"/>
            <p:cNvSpPr/>
            <p:nvPr/>
          </p:nvSpPr>
          <p:spPr>
            <a:xfrm>
              <a:off x="6774120" y="4689720"/>
              <a:ext cx="1317600" cy="3808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IPSec Driver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6" name="AutoShape 16"/>
            <p:cNvSpPr/>
            <p:nvPr/>
          </p:nvSpPr>
          <p:spPr>
            <a:xfrm>
              <a:off x="2179800" y="4239000"/>
              <a:ext cx="1317600" cy="3808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TCP </a:t>
              </a:r>
              <a:r>
                <a:rPr b="1" lang="cs-CZ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vrstva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37" name="AutoShape 17"/>
            <p:cNvSpPr/>
            <p:nvPr/>
          </p:nvSpPr>
          <p:spPr>
            <a:xfrm>
              <a:off x="2179800" y="4689720"/>
              <a:ext cx="1317600" cy="38088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IPSec Driver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38" name="Group 18"/>
          <p:cNvGrpSpPr/>
          <p:nvPr/>
        </p:nvGrpSpPr>
        <p:grpSpPr>
          <a:xfrm>
            <a:off x="3170160" y="5060880"/>
            <a:ext cx="4019040" cy="1463760"/>
            <a:chOff x="3170160" y="5060880"/>
            <a:chExt cx="4019040" cy="1463760"/>
          </a:xfrm>
        </p:grpSpPr>
        <p:sp>
          <p:nvSpPr>
            <p:cNvPr id="439" name="Freeform 19"/>
            <p:cNvSpPr/>
            <p:nvPr/>
          </p:nvSpPr>
          <p:spPr>
            <a:xfrm>
              <a:off x="3170160" y="5108400"/>
              <a:ext cx="1260360" cy="439920"/>
            </a:xfrm>
            <a:custGeom>
              <a:avLst/>
              <a:gdLst/>
              <a:ahLst/>
              <a:rect l="l" t="t" r="r" b="b"/>
              <a:pathLst>
                <a:path w="746" h="414">
                  <a:moveTo>
                    <a:pt x="0" y="0"/>
                  </a:moveTo>
                  <a:lnTo>
                    <a:pt x="0" y="414"/>
                  </a:lnTo>
                  <a:lnTo>
                    <a:pt x="746" y="414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40" name="AutoShape 20"/>
            <p:cNvSpPr/>
            <p:nvPr/>
          </p:nvSpPr>
          <p:spPr>
            <a:xfrm>
              <a:off x="3887640" y="6143400"/>
              <a:ext cx="2333520" cy="381240"/>
            </a:xfrm>
            <a:prstGeom prst="roundRect">
              <a:avLst>
                <a:gd name="adj" fmla="val 4167"/>
              </a:avLst>
            </a:prstGeom>
            <a:solidFill>
              <a:srgbClr val="ffffff"/>
            </a:solidFill>
            <a:ln w="9360">
              <a:solidFill>
                <a:srgbClr val="4d4d4d"/>
              </a:solidFill>
              <a:miter/>
            </a:ln>
            <a:effectLst>
              <a:outerShdw dist="17819" dir="2700000" blurRad="0" rotWithShape="0">
                <a:srgbClr val="afafa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Zabezpečené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 IP </a:t>
              </a:r>
              <a:r>
                <a:rPr b="1" lang="cs-CZ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akety</a:t>
              </a:r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441" name="Group 21"/>
            <p:cNvGrpSpPr/>
            <p:nvPr/>
          </p:nvGrpSpPr>
          <p:grpSpPr>
            <a:xfrm>
              <a:off x="4395600" y="5060880"/>
              <a:ext cx="730080" cy="1003320"/>
              <a:chOff x="4395600" y="5060880"/>
              <a:chExt cx="730080" cy="1003320"/>
            </a:xfrm>
          </p:grpSpPr>
          <p:pic>
            <p:nvPicPr>
              <p:cNvPr id="442" name="Picture 22" descr="ArbitraryElement01"/>
              <p:cNvPicPr/>
              <p:nvPr/>
            </p:nvPicPr>
            <p:blipFill>
              <a:blip r:embed="rId3"/>
              <a:stretch/>
            </p:blipFill>
            <p:spPr>
              <a:xfrm>
                <a:off x="4395600" y="5599080"/>
                <a:ext cx="730080" cy="46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3" name="Picture 23" descr="Security_Secured01"/>
              <p:cNvPicPr/>
              <p:nvPr/>
            </p:nvPicPr>
            <p:blipFill>
              <a:blip r:embed="rId4"/>
              <a:stretch/>
            </p:blipFill>
            <p:spPr>
              <a:xfrm>
                <a:off x="4524120" y="5060880"/>
                <a:ext cx="449280" cy="722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4" name="Group 24"/>
            <p:cNvGrpSpPr/>
            <p:nvPr/>
          </p:nvGrpSpPr>
          <p:grpSpPr>
            <a:xfrm>
              <a:off x="5208480" y="5060880"/>
              <a:ext cx="730080" cy="1003320"/>
              <a:chOff x="5208480" y="5060880"/>
              <a:chExt cx="730080" cy="1003320"/>
            </a:xfrm>
          </p:grpSpPr>
          <p:pic>
            <p:nvPicPr>
              <p:cNvPr id="445" name="Picture 25" descr="ArbitraryElement01"/>
              <p:cNvPicPr/>
              <p:nvPr/>
            </p:nvPicPr>
            <p:blipFill>
              <a:blip r:embed="rId5"/>
              <a:stretch/>
            </p:blipFill>
            <p:spPr>
              <a:xfrm>
                <a:off x="5208480" y="5599080"/>
                <a:ext cx="730080" cy="46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6" name="Picture 26" descr="Security_Secured01"/>
              <p:cNvPicPr/>
              <p:nvPr/>
            </p:nvPicPr>
            <p:blipFill>
              <a:blip r:embed="rId6"/>
              <a:stretch/>
            </p:blipFill>
            <p:spPr>
              <a:xfrm>
                <a:off x="5337000" y="5060880"/>
                <a:ext cx="448920" cy="722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7" name="Freeform 27"/>
            <p:cNvSpPr/>
            <p:nvPr/>
          </p:nvSpPr>
          <p:spPr>
            <a:xfrm flipH="1">
              <a:off x="5928480" y="5108400"/>
              <a:ext cx="1260360" cy="439920"/>
            </a:xfrm>
            <a:custGeom>
              <a:avLst/>
              <a:gdLst/>
              <a:ahLst/>
              <a:rect l="l" t="t" r="r" b="b"/>
              <a:pathLst>
                <a:path w="746" h="414">
                  <a:moveTo>
                    <a:pt x="0" y="0"/>
                  </a:moveTo>
                  <a:lnTo>
                    <a:pt x="0" y="414"/>
                  </a:lnTo>
                  <a:lnTo>
                    <a:pt x="746" y="414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sp>
        <p:nvSpPr>
          <p:cNvPr id="448" name="AutoShape 28"/>
          <p:cNvSpPr/>
          <p:nvPr/>
        </p:nvSpPr>
        <p:spPr>
          <a:xfrm>
            <a:off x="3408480" y="5946840"/>
            <a:ext cx="338040" cy="393480"/>
          </a:xfrm>
          <a:custGeom>
            <a:avLst/>
            <a:gdLst>
              <a:gd name="textAreaLeft" fmla="*/ 0 w 338040"/>
              <a:gd name="textAreaRight" fmla="*/ 338400 w 33804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1600" h="25139">
                <a:moveTo>
                  <a:pt x="0" y="0"/>
                </a:moveTo>
                <a:arcTo wR="0" hR="0" stAng="16200000" swAng="-5400000"/>
                <a:lnTo>
                  <a:pt x="0" y="25139"/>
                </a:lnTo>
                <a:arcTo wR="0" hR="0" stAng="10800000" swAng="-5400000"/>
                <a:lnTo>
                  <a:pt x="21600" y="2513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800080"/>
              </a:gs>
              <a:gs pos="50000">
                <a:srgbClr val="f0f0f0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292934"/>
            </a:solidFill>
            <a:miter/>
          </a:ln>
          <a:effectLst>
            <a:outerShdw dist="17819" dir="2700000" blurRad="0" rotWithShape="0">
              <a:srgbClr val="29293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grpSp>
        <p:nvGrpSpPr>
          <p:cNvPr id="449" name="Group 29"/>
          <p:cNvGrpSpPr/>
          <p:nvPr/>
        </p:nvGrpSpPr>
        <p:grpSpPr>
          <a:xfrm>
            <a:off x="3979800" y="2227320"/>
            <a:ext cx="2374560" cy="2288520"/>
            <a:chOff x="3979800" y="2227320"/>
            <a:chExt cx="2374560" cy="2288520"/>
          </a:xfrm>
        </p:grpSpPr>
        <p:sp>
          <p:nvSpPr>
            <p:cNvPr id="450" name="Freeform 30"/>
            <p:cNvSpPr/>
            <p:nvPr/>
          </p:nvSpPr>
          <p:spPr>
            <a:xfrm>
              <a:off x="3979800" y="2227320"/>
              <a:ext cx="488880" cy="718920"/>
            </a:xfrm>
            <a:custGeom>
              <a:avLst/>
              <a:gdLst/>
              <a:ahLst/>
              <a:rect l="l" t="t" r="r" b="b"/>
              <a:pathLst>
                <a:path w="308" h="316">
                  <a:moveTo>
                    <a:pt x="0" y="0"/>
                  </a:moveTo>
                  <a:lnTo>
                    <a:pt x="308" y="0"/>
                  </a:lnTo>
                  <a:lnTo>
                    <a:pt x="308" y="316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sp>
          <p:nvSpPr>
            <p:cNvPr id="451" name="Freeform 31"/>
            <p:cNvSpPr/>
            <p:nvPr/>
          </p:nvSpPr>
          <p:spPr>
            <a:xfrm flipH="1">
              <a:off x="5861520" y="2227320"/>
              <a:ext cx="489240" cy="718920"/>
            </a:xfrm>
            <a:custGeom>
              <a:avLst/>
              <a:gdLst/>
              <a:ahLst/>
              <a:rect l="l" t="t" r="r" b="b"/>
              <a:pathLst>
                <a:path w="308" h="316">
                  <a:moveTo>
                    <a:pt x="0" y="0"/>
                  </a:moveTo>
                  <a:lnTo>
                    <a:pt x="308" y="0"/>
                  </a:lnTo>
                  <a:lnTo>
                    <a:pt x="308" y="316"/>
                  </a:lnTo>
                </a:path>
              </a:pathLst>
            </a:custGeom>
            <a:noFill/>
            <a:ln w="572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34"/>
                </a:solidFill>
                <a:latin typeface="Arial"/>
              </a:endParaRPr>
            </a:p>
          </p:txBody>
        </p:sp>
        <p:grpSp>
          <p:nvGrpSpPr>
            <p:cNvPr id="452" name="Group 32"/>
            <p:cNvGrpSpPr/>
            <p:nvPr/>
          </p:nvGrpSpPr>
          <p:grpSpPr>
            <a:xfrm>
              <a:off x="4020840" y="2948040"/>
              <a:ext cx="2333520" cy="1567800"/>
              <a:chOff x="4020840" y="2948040"/>
              <a:chExt cx="2333520" cy="1567800"/>
            </a:xfrm>
          </p:grpSpPr>
          <p:pic>
            <p:nvPicPr>
              <p:cNvPr id="453" name="Picture 33" descr="Security_Permissions01"/>
              <p:cNvPicPr/>
              <p:nvPr/>
            </p:nvPicPr>
            <p:blipFill>
              <a:blip r:embed="rId7"/>
              <a:stretch/>
            </p:blipFill>
            <p:spPr>
              <a:xfrm>
                <a:off x="4860720" y="3595320"/>
                <a:ext cx="652320" cy="92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AutoShape 34"/>
              <p:cNvSpPr/>
              <p:nvPr/>
            </p:nvSpPr>
            <p:spPr>
              <a:xfrm>
                <a:off x="4020840" y="2948040"/>
                <a:ext cx="2333520" cy="631440"/>
              </a:xfrm>
              <a:prstGeom prst="roundRect">
                <a:avLst>
                  <a:gd name="adj" fmla="val 4167"/>
                </a:avLst>
              </a:prstGeom>
              <a:solidFill>
                <a:srgbClr val="ffffff"/>
              </a:solidFill>
              <a:ln w="9360">
                <a:solidFill>
                  <a:srgbClr val="4d4d4d"/>
                </a:solidFill>
                <a:miter/>
              </a:ln>
              <a:effectLst>
                <a:outerShdw dist="17819" dir="2700000" blurRad="0" rotWithShape="0">
                  <a:srgbClr val="afafa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8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Internet Key Exchange (IKE) </a:t>
                </a:r>
                <a:r>
                  <a:rPr b="1" lang="cs-CZ" sz="1800" spc="-1" strike="noStrike">
                    <a:solidFill>
                      <a:srgbClr val="000000"/>
                    </a:solidFill>
                    <a:latin typeface="Arial Narrow"/>
                    <a:ea typeface="Arial"/>
                  </a:rPr>
                  <a:t>vyjednávání</a:t>
                </a:r>
                <a:endParaRPr b="0" lang="en-US" sz="1800" spc="-1" strike="noStrike">
                  <a:solidFill>
                    <a:srgbClr val="292934"/>
                  </a:solidFill>
                  <a:latin typeface="Arial"/>
                </a:endParaRPr>
              </a:p>
            </p:txBody>
          </p:sp>
        </p:grpSp>
        <p:sp>
          <p:nvSpPr>
            <p:cNvPr id="455" name="AutoShape 35"/>
            <p:cNvSpPr/>
            <p:nvPr/>
          </p:nvSpPr>
          <p:spPr>
            <a:xfrm>
              <a:off x="4466880" y="3705120"/>
              <a:ext cx="338400" cy="393840"/>
            </a:xfrm>
            <a:custGeom>
              <a:avLst/>
              <a:gdLst>
                <a:gd name="textAreaLeft" fmla="*/ 0 w 338400"/>
                <a:gd name="textAreaRight" fmla="*/ 338760 w 33840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1600" h="25135">
                  <a:moveTo>
                    <a:pt x="0" y="0"/>
                  </a:moveTo>
                  <a:arcTo wR="0" hR="0" stAng="16200000" swAng="-5400000"/>
                  <a:lnTo>
                    <a:pt x="0" y="25135"/>
                  </a:lnTo>
                  <a:arcTo wR="0" hR="0" stAng="10800000" swAng="-5400000"/>
                  <a:lnTo>
                    <a:pt x="21600" y="2513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800080"/>
                </a:gs>
                <a:gs pos="50000">
                  <a:srgbClr val="f0f0f0"/>
                </a:gs>
                <a:gs pos="100000">
                  <a:srgbClr val="800080"/>
                </a:gs>
              </a:gsLst>
              <a:lin ang="5400000"/>
            </a:gradFill>
            <a:ln w="9360">
              <a:solidFill>
                <a:srgbClr val="292934"/>
              </a:solidFill>
              <a:miter/>
            </a:ln>
            <a:effectLst>
              <a:outerShdw dist="17819" dir="2700000" blurRad="0" rotWithShape="0">
                <a:srgbClr val="29293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Arial Narrow"/>
                </a:rPr>
                <a:t>2</a:t>
              </a:r>
              <a:endParaRPr b="0" lang="en-US" sz="2400" spc="-1" strike="noStrike">
                <a:solidFill>
                  <a:srgbClr val="292934"/>
                </a:solidFill>
                <a:latin typeface="Arial"/>
              </a:endParaRPr>
            </a:p>
          </p:txBody>
        </p:sp>
      </p:grpSp>
      <p:grpSp>
        <p:nvGrpSpPr>
          <p:cNvPr id="456" name="Group 61"/>
          <p:cNvGrpSpPr/>
          <p:nvPr/>
        </p:nvGrpSpPr>
        <p:grpSpPr>
          <a:xfrm>
            <a:off x="2313000" y="1434960"/>
            <a:ext cx="5766840" cy="1418400"/>
            <a:chOff x="2313000" y="1434960"/>
            <a:chExt cx="5766840" cy="1418400"/>
          </a:xfrm>
        </p:grpSpPr>
        <p:grpSp>
          <p:nvGrpSpPr>
            <p:cNvPr id="457" name="Group 60"/>
            <p:cNvGrpSpPr/>
            <p:nvPr/>
          </p:nvGrpSpPr>
          <p:grpSpPr>
            <a:xfrm>
              <a:off x="2313000" y="1434960"/>
              <a:ext cx="5766840" cy="1418400"/>
              <a:chOff x="2313000" y="1434960"/>
              <a:chExt cx="5766840" cy="1418400"/>
            </a:xfrm>
          </p:grpSpPr>
          <p:grpSp>
            <p:nvGrpSpPr>
              <p:cNvPr id="458" name="Group 59"/>
              <p:cNvGrpSpPr/>
              <p:nvPr/>
            </p:nvGrpSpPr>
            <p:grpSpPr>
              <a:xfrm>
                <a:off x="2313000" y="1834920"/>
                <a:ext cx="5766840" cy="1018440"/>
                <a:chOff x="2313000" y="1834920"/>
                <a:chExt cx="5766840" cy="1018440"/>
              </a:xfrm>
            </p:grpSpPr>
            <p:pic>
              <p:nvPicPr>
                <p:cNvPr id="459" name="Picture 38" descr="Policy_Writing01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352680" y="1834920"/>
                  <a:ext cx="703440" cy="990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0" name="Picture 39" descr="Policy_Writing01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268680" y="1863000"/>
                  <a:ext cx="703440" cy="990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1" name="AutoShape 40"/>
                <p:cNvSpPr/>
                <p:nvPr/>
              </p:nvSpPr>
              <p:spPr>
                <a:xfrm>
                  <a:off x="6752160" y="2194200"/>
                  <a:ext cx="1327680" cy="396360"/>
                </a:xfrm>
                <a:prstGeom prst="roundRect">
                  <a:avLst>
                    <a:gd name="adj" fmla="val 4167"/>
                  </a:avLst>
                </a:prstGeom>
                <a:solidFill>
                  <a:srgbClr val="ffffff"/>
                </a:solidFill>
                <a:ln w="93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afafa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  <a:ea typeface="Arial"/>
                    </a:rPr>
                    <a:t>IPSec Policy</a:t>
                  </a: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sp>
              <p:nvSpPr>
                <p:cNvPr id="462" name="AutoShape 41"/>
                <p:cNvSpPr/>
                <p:nvPr/>
              </p:nvSpPr>
              <p:spPr>
                <a:xfrm>
                  <a:off x="2313000" y="2194200"/>
                  <a:ext cx="1328040" cy="396360"/>
                </a:xfrm>
                <a:prstGeom prst="roundRect">
                  <a:avLst>
                    <a:gd name="adj" fmla="val 4167"/>
                  </a:avLst>
                </a:prstGeom>
                <a:solidFill>
                  <a:srgbClr val="ffffff"/>
                </a:solidFill>
                <a:ln w="9360">
                  <a:solidFill>
                    <a:srgbClr val="4d4d4d"/>
                  </a:solidFill>
                  <a:miter/>
                </a:ln>
                <a:effectLst>
                  <a:outerShdw dist="17819" dir="2700000" blurRad="0" rotWithShape="0">
                    <a:srgbClr val="afafaf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Narrow"/>
                      <a:ea typeface="Arial"/>
                    </a:rPr>
                    <a:t>IPSec Policy</a:t>
                  </a:r>
                  <a:endParaRPr b="0" lang="en-US" sz="18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58"/>
              <p:cNvGrpSpPr/>
              <p:nvPr/>
            </p:nvGrpSpPr>
            <p:grpSpPr>
              <a:xfrm>
                <a:off x="2398680" y="1434960"/>
                <a:ext cx="5012280" cy="717120"/>
                <a:chOff x="2398680" y="1434960"/>
                <a:chExt cx="5012280" cy="717120"/>
              </a:xfrm>
            </p:grpSpPr>
            <p:sp>
              <p:nvSpPr>
                <p:cNvPr id="464" name="AutoShape 43"/>
                <p:cNvSpPr/>
                <p:nvPr/>
              </p:nvSpPr>
              <p:spPr>
                <a:xfrm>
                  <a:off x="2398680" y="1563120"/>
                  <a:ext cx="337320" cy="412920"/>
                </a:xfrm>
                <a:custGeom>
                  <a:avLst/>
                  <a:gdLst>
                    <a:gd name="textAreaLeft" fmla="*/ 0 w 337320"/>
                    <a:gd name="textAreaRight" fmla="*/ 337680 w 337320"/>
                    <a:gd name="textAreaTop" fmla="*/ 0 h 412920"/>
                    <a:gd name="textAreaBottom" fmla="*/ 413280 h 412920"/>
                  </a:gdLst>
                  <a:ahLst/>
                  <a:rect l="textAreaLeft" t="textAreaTop" r="textAreaRight" b="textAreaBottom"/>
                  <a:pathLst>
                    <a:path w="21600" h="26436">
                      <a:moveTo>
                        <a:pt x="0" y="0"/>
                      </a:moveTo>
                      <a:arcTo wR="0" hR="0" stAng="16200000" swAng="-5400000"/>
                      <a:lnTo>
                        <a:pt x="0" y="26436"/>
                      </a:lnTo>
                      <a:arcTo wR="0" hR="0" stAng="10800000" swAng="-5400000"/>
                      <a:lnTo>
                        <a:pt x="21600" y="26436"/>
                      </a:lnTo>
                      <a:arcTo wR="0" hR="0" stAng="16200000" swAng="-5400000"/>
                      <a:lnTo>
                        <a:pt x="21600" y="0"/>
                      </a:lnTo>
                      <a:arcTo wR="0" hR="0" stAng="10800000" swAng="-5400000"/>
                      <a:close/>
                    </a:path>
                  </a:pathLst>
                </a:custGeom>
                <a:gradFill rotWithShape="0">
                  <a:gsLst>
                    <a:gs pos="0">
                      <a:srgbClr val="800080"/>
                    </a:gs>
                    <a:gs pos="50000">
                      <a:srgbClr val="f0f0f0"/>
                    </a:gs>
                    <a:gs pos="100000">
                      <a:srgbClr val="800080"/>
                    </a:gs>
                  </a:gsLst>
                  <a:lin ang="5400000"/>
                </a:gradFill>
                <a:ln w="9360">
                  <a:solidFill>
                    <a:srgbClr val="292934"/>
                  </a:solidFill>
                  <a:miter/>
                </a:ln>
                <a:effectLst>
                  <a:outerShdw dist="17819" dir="2700000" blurRad="0" rotWithShape="0">
                    <a:srgbClr val="292934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990033"/>
                      </a:solidFill>
                      <a:latin typeface="Arial Narrow"/>
                    </a:rPr>
                    <a:t>1</a:t>
                  </a:r>
                  <a:endParaRPr b="0" lang="en-US" sz="2400" spc="-1" strike="noStrike">
                    <a:solidFill>
                      <a:srgbClr val="292934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Group 57"/>
                <p:cNvGrpSpPr/>
                <p:nvPr/>
              </p:nvGrpSpPr>
              <p:grpSpPr>
                <a:xfrm>
                  <a:off x="2922840" y="1434960"/>
                  <a:ext cx="4488120" cy="717120"/>
                  <a:chOff x="2922840" y="1434960"/>
                  <a:chExt cx="4488120" cy="717120"/>
                </a:xfrm>
              </p:grpSpPr>
              <p:sp>
                <p:nvSpPr>
                  <p:cNvPr id="466" name="Freeform 45"/>
                  <p:cNvSpPr/>
                  <p:nvPr/>
                </p:nvSpPr>
                <p:spPr>
                  <a:xfrm>
                    <a:off x="2922840" y="1596240"/>
                    <a:ext cx="4488120" cy="55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32" h="432">
                        <a:moveTo>
                          <a:pt x="0" y="432"/>
                        </a:moveTo>
                        <a:lnTo>
                          <a:pt x="0" y="0"/>
                        </a:lnTo>
                        <a:lnTo>
                          <a:pt x="2832" y="0"/>
                        </a:lnTo>
                        <a:lnTo>
                          <a:pt x="2832" y="432"/>
                        </a:lnTo>
                      </a:path>
                    </a:pathLst>
                  </a:custGeom>
                  <a:noFill/>
                  <a:ln w="57240">
                    <a:solidFill>
                      <a:srgbClr val="cc0000"/>
                    </a:solidFill>
                    <a:round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AutoShape 46"/>
                  <p:cNvSpPr/>
                  <p:nvPr/>
                </p:nvSpPr>
                <p:spPr>
                  <a:xfrm>
                    <a:off x="4330800" y="1434960"/>
                    <a:ext cx="1705320" cy="399600"/>
                  </a:xfrm>
                  <a:prstGeom prst="roundRect">
                    <a:avLst>
                      <a:gd name="adj" fmla="val 41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4d4d4d"/>
                    </a:solidFill>
                    <a:miter/>
                  </a:ln>
                  <a:effectLst>
                    <a:outerShdw dist="17819" dir="2700000" blurRad="0" rotWithShape="0">
                      <a:srgbClr val="afafaf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Arial Narrow"/>
                        <a:ea typeface="Arial"/>
                      </a:rPr>
                      <a:t>MMC</a:t>
                    </a:r>
                    <a:endParaRPr b="0" lang="en-US" sz="1800" spc="-1" strike="noStrike">
                      <a:solidFill>
                        <a:srgbClr val="292934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468" name="Picture 56" descr="2DomainWithOus01"/>
            <p:cNvPicPr/>
            <p:nvPr/>
          </p:nvPicPr>
          <p:blipFill>
            <a:blip r:embed="rId10"/>
            <a:stretch/>
          </p:blipFill>
          <p:spPr>
            <a:xfrm>
              <a:off x="4664520" y="1881360"/>
              <a:ext cx="1077120" cy="93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Arial Narrow"/>
              </a:rPr>
              <a:t>Konfigurace IPSec u MS Windows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53000" indent="-1530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Filtr – definice parametrů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P adresa 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P protoko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Zdrojový a cílový TCP a UDP por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3000" indent="-1530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kce filtru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volit přenos i nezabezpečených paketů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ezabezpečené pakety blokovat (zahazovat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Aktivovat zabezpečený režim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3000" indent="-15300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utentizac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erberos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ředsdílený ke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83760" indent="-15300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Certifikát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Možnosti autentizace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erberos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ntegrován do Active director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ředsdílený ke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Textový řetězec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eexistuje spolehlivý a jednoduchý mechanismus zneplatnění 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užití pouze pro testovací účel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Certifikát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utná přítomnost c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ertifi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ační a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utorit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ompromitované údaje lze zneplatnit (r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evocation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Testování konfigurace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Host to Host 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AH, ESP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utentizace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ředsdílený klíč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Certifikát (vlastní CA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Nástroje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PSec monitor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etwork monitor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Wireshark apod.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Přehled vlastností protokolu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IPSec – rámec otevřených standardů pro zajištění bezpečné komunikace přes sítě IP prostřednictvím využívání kryptografických bezpečnostních služeb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acuje na síťové vrstvě referenčního modelu síťové architektury ISO/OSI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yvinut primárně pro IPv6, kde bývala jeho podpora povinná každým uzlem – už není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Implementován i pro IPv4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-18036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Nelze použít pro přenos dat utajovaných dle zákona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0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IPSec u směrovačů Cisco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 ISAKMP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Internet Security Association and Key Management Protocol 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(zabývá se všemi aspekty SA a zajišťuje výměnu kryptografických klíčů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 transformační sady IPSec 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 krypto ACL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Access Control List – rozhoduje o použití IPSEc pro každý pake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Konfigurace krypto map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plikace krypto mapy na rozhraní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ISAKMP 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24000" y="2536560"/>
            <a:ext cx="79200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crypto isakmp policy 1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encr aes 256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authentication pre-share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group 5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lifetime 360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crypto isakmp key cisco address</a:t>
            </a: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192.1.1.2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transformační sady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607760" y="3257640"/>
            <a:ext cx="7427880" cy="16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5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crypto ipsec transform-set</a:t>
            </a: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cs-CZ" sz="2400" spc="-1" strike="noStrike">
                <a:solidFill>
                  <a:srgbClr val="33cccc"/>
                </a:solidFill>
                <a:latin typeface="Courier New"/>
              </a:rPr>
              <a:t>MUJTRANS</a:t>
            </a:r>
            <a:br>
              <a:rPr sz="2400"/>
            </a:b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ah-sha-hmac esp-aes 256 esp-sha-hmac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1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(jeden dlouhý řádek, nově se někdy výstižněji označuje „IPSec Proposals“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krypto ACL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617840" y="3255840"/>
            <a:ext cx="662616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49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access-list </a:t>
            </a:r>
            <a:r>
              <a:rPr b="1" lang="af-ZA" sz="2400" spc="-1" strike="noStrike">
                <a:solidFill>
                  <a:srgbClr val="993366"/>
                </a:solidFill>
                <a:latin typeface="Courier New"/>
              </a:rPr>
              <a:t>101</a:t>
            </a:r>
            <a:r>
              <a:rPr b="0" lang="cs-CZ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permit gre host </a:t>
            </a: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	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192.1.1.40 host 192.1.1.2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49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49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(jeden dlouhý řádek, protokol dle potřeby – zde GRE, ale třeba IP, ...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Konfigurace krypto mapy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607760" y="3284280"/>
            <a:ext cx="742788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crypto map </a:t>
            </a:r>
            <a:r>
              <a:rPr b="1" lang="cs-CZ" sz="2400" spc="-1" strike="noStrike">
                <a:solidFill>
                  <a:srgbClr val="0000ff"/>
                </a:solidFill>
                <a:latin typeface="Courier New"/>
              </a:rPr>
              <a:t>MYMAP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10 ipsec-isakmp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set peer 192.1.1.20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set transform-set </a:t>
            </a:r>
            <a:r>
              <a:rPr b="1" lang="cs-CZ" sz="2400" spc="-1" strike="noStrike">
                <a:solidFill>
                  <a:srgbClr val="33cccc"/>
                </a:solidFill>
                <a:latin typeface="Courier New"/>
              </a:rPr>
              <a:t>MUJTRANS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 </a:t>
            </a:r>
            <a:r>
              <a:rPr b="1" lang="af-ZA" sz="2400" spc="-1" strike="noStrike">
                <a:solidFill>
                  <a:srgbClr val="292934"/>
                </a:solidFill>
                <a:latin typeface="Courier New"/>
              </a:rPr>
              <a:t>match address </a:t>
            </a:r>
            <a:r>
              <a:rPr b="1" lang="af-ZA" sz="2400" spc="-1" strike="noStrike">
                <a:solidFill>
                  <a:srgbClr val="993366"/>
                </a:solidFill>
                <a:latin typeface="Courier New"/>
              </a:rPr>
              <a:t>101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d2533c"/>
                </a:solidFill>
                <a:latin typeface="Cambria"/>
              </a:rPr>
              <a:t>Aplikace krypto mapy na rozhraní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547640" y="3327120"/>
            <a:ext cx="7428240" cy="17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interface serial0/0/1 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92934"/>
                </a:solidFill>
                <a:latin typeface="Courier New"/>
              </a:rPr>
              <a:t>R3(config-if)# crypto map </a:t>
            </a:r>
            <a:r>
              <a:rPr b="1" lang="cs-CZ" sz="2400" spc="-1" strike="noStrike">
                <a:solidFill>
                  <a:srgbClr val="0000ff"/>
                </a:solidFill>
                <a:latin typeface="Courier New"/>
              </a:rPr>
              <a:t>MYMAP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86992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Děkuji za pozornost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27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Služby a složení protokolu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IPSec poskytuje následující služby: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ntegrita v prostředí nespojované komunikace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Ověřování původu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Ochrana proti opakovaným vysíláním téhož paketu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Důvěrnost (šifrování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otokoly tvořící základ IPSec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Authentication Header (AH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Encapsulated  Security Payload (ESP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Internet Key Exchange (IKE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Historie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vní popis v RFC 1825, rok 1995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vní implementace v BSDI, rok 1995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Současný stav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RFC 2401 – přehled architektury (1998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RFC 2402 – popis protokolu AH (Authentication Header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RFC 2406 – popis protokolu ESP (Encapsulation Security Payload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RFC 2408 – popis protokolu IKE (Internet Key Exchange) – správa klíčů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Výhody a nevýhody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58560" y="160020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ýhod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Transparentnost (netřeba modifikovat protokoly vyšších vrstev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Škálovatelnost (od jednotlivých PC po velké sítě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Aplikační nezávislost, lze zabezpečit libovolný protokol využívající protokol IP (telnet, ftp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Široká podpora mezi výrobci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Nevýhod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Složitost – citlivost na některé útok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ětší režie, vadící u krátkých paketů (např. zvuk)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Protokol AH (Authentication Header)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6760" indent="-1767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otokol AH zajišťuje tyto funkc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ntegritu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Autentizaci každého IP paketu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Ochranu před opakovaným vyslání téhož paketu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76760" indent="-176760">
              <a:lnSpc>
                <a:spcPct val="8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lastnosti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Nešifruje data, ale nelze je změni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P záhlaví i data jsou podepsán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Zabraňuje útoku typu podvržení adresy sledováním pořadových čísel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užívá algoritmy HMAC (Hash Message Authentication Code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43160" indent="-176760">
              <a:lnSpc>
                <a:spcPct val="8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omunikující strany musí sdílet tajný klíč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d2533c"/>
                </a:solidFill>
                <a:latin typeface="Cambria"/>
              </a:rPr>
              <a:t>Protokol ESP (</a:t>
            </a:r>
            <a:r>
              <a:rPr b="0" lang="en-US" sz="3600" spc="-1" strike="noStrike">
                <a:solidFill>
                  <a:srgbClr val="d2533c"/>
                </a:solidFill>
                <a:latin typeface="Cambria"/>
              </a:rPr>
              <a:t>Encapsulated  Security Payload </a:t>
            </a:r>
            <a:r>
              <a:rPr b="0" lang="cs-CZ" sz="3600" spc="-1" strike="noStrike">
                <a:solidFill>
                  <a:srgbClr val="d2533c"/>
                </a:solidFill>
                <a:latin typeface="Cambria"/>
              </a:rPr>
              <a:t>) </a:t>
            </a:r>
            <a:endParaRPr b="0" lang="en-US" sz="36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otokol ESP poskytuj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Důvěrnost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Určitá důvěrnost toku dat (maskování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Volitelně podporu autentizace - AH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lastnosti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Lze použít souběžně s AH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Podporuje řadu šifrovacích algoritmů, módů, atd.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2" marL="730080" indent="-182520">
              <a:lnSpc>
                <a:spcPct val="90000"/>
              </a:lnSpc>
              <a:spcBef>
                <a:spcPts val="499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34"/>
                </a:solidFill>
                <a:latin typeface="Cambria"/>
              </a:rPr>
              <a:t>DES, 3DES, RC5, IDEA, CAST a další </a:t>
            </a:r>
            <a:endParaRPr b="0" lang="en-US" sz="20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Protokol IKE (</a:t>
            </a:r>
            <a:r>
              <a:rPr b="0" lang="en-US" sz="4000" spc="-1" strike="noStrike">
                <a:solidFill>
                  <a:srgbClr val="d2533c"/>
                </a:solidFill>
                <a:latin typeface="Cambria"/>
              </a:rPr>
              <a:t>Internet Key Exchange </a:t>
            </a: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)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rotokol IKE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Kryptografická infrastruktura zajišťující vyjednávání o výměně klíčů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Ustaví Security Associations (SAs) mezi IPSec partner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Autentizuje IPSec partnery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Security Associations (SA) - </a:t>
            </a:r>
            <a:r>
              <a:rPr b="0" i="1" lang="cs-CZ" sz="2800" spc="-1" strike="noStrike">
                <a:solidFill>
                  <a:srgbClr val="800080"/>
                </a:solidFill>
                <a:latin typeface="Cambria"/>
              </a:rPr>
              <a:t>jednosměrný</a:t>
            </a:r>
            <a:r>
              <a:rPr b="0" i="1" lang="cs-CZ" sz="2800" spc="-1" strike="noStrike">
                <a:solidFill>
                  <a:srgbClr val="292934"/>
                </a:solidFill>
                <a:latin typeface="Cambria"/>
              </a:rPr>
              <a:t> </a:t>
            </a: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vztah mezi odesílající a přijímající stranou; parametry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Security Parameters Index (metoda autentizace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Cílová IP adresa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Identifikátor bezpečnostního protokolu (AH či ESP)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d2533c"/>
                </a:solidFill>
                <a:latin typeface="Cambria"/>
              </a:rPr>
              <a:t>Použití protokolů IPSec</a:t>
            </a:r>
            <a:endParaRPr b="0" lang="en-US" sz="4000" spc="-1" strike="noStrike">
              <a:solidFill>
                <a:srgbClr val="d2533c"/>
              </a:solidFill>
              <a:latin typeface="Cambr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56960" indent="-15696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Authentication Header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Požaduje se připojení k zaručenému adresátovi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Musí být ověřován zdroj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Data sama o sobě nejsou citlivá, riziko zachycení paketů a potenciální kompromitace je nízké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6960" indent="-15696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Encapsulation Security Payload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Utajení p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řenášen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ých</a:t>
            </a: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 informac</a:t>
            </a:r>
            <a:r>
              <a:rPr b="0" lang="cs-CZ" sz="2400" spc="-1" strike="noStrike">
                <a:solidFill>
                  <a:srgbClr val="292934"/>
                </a:solidFill>
                <a:latin typeface="Cambria"/>
              </a:rPr>
              <a:t>í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Pouze požaduje-li se ochrana dat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marL="156960" indent="-156960">
              <a:lnSpc>
                <a:spcPct val="90000"/>
              </a:lnSpc>
              <a:spcBef>
                <a:spcPts val="700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P</a:t>
            </a:r>
            <a:r>
              <a:rPr b="0" lang="en-US" sz="2800" spc="-1" strike="noStrike">
                <a:solidFill>
                  <a:srgbClr val="292934"/>
                </a:solidFill>
                <a:latin typeface="Cambria"/>
              </a:rPr>
              <a:t>rotokoly AH a ESP</a:t>
            </a:r>
            <a:r>
              <a:rPr b="0" lang="cs-CZ" sz="2800" spc="-1" strike="noStrike">
                <a:solidFill>
                  <a:srgbClr val="292934"/>
                </a:solidFill>
                <a:latin typeface="Cambria"/>
              </a:rPr>
              <a:t> současně</a:t>
            </a:r>
            <a:endParaRPr b="0" lang="en-US" sz="28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Musí-li být data chráněna a je nutná autentizace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  <a:p>
            <a:pPr lvl="1" marL="393120" indent="-15696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Cambria"/>
              </a:rPr>
              <a:t>Pokud zvýšená bezpečnost kompenzuje pokles výkonnosti vyplývající z další režie</a:t>
            </a:r>
            <a:endParaRPr b="0" lang="en-US" sz="2400" spc="-1" strike="noStrike">
              <a:solidFill>
                <a:srgbClr val="292934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09:15:07Z</dcterms:created>
  <dc:creator/>
  <dc:description/>
  <dc:language>en-US</dc:language>
  <cp:lastModifiedBy/>
  <dcterms:modified xsi:type="dcterms:W3CDTF">2022-04-03T19:24:49Z</dcterms:modified>
  <cp:revision>2</cp:revision>
  <dc:subject/>
  <dc:title>NADPIS</dc:title>
</cp:coreProperties>
</file>