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10BE-9F3A-4CFE-A9EB-3325BA60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971A-B6B1-46F5-827A-5701B391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F288-5D2B-435C-AA90-806AF57A1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A48D-A6DF-4F19-828B-72D9D8329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C8A0-5169-415A-92F4-B300F4013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BF51-7E08-4EBA-8521-86D8C449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38228-2A57-4496-8156-C7F1B51B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A5B35-A01B-4082-821B-CF6A8D40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6EAD-AC33-4DC9-AFEE-11710A00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DAFFC-52C7-4F11-B145-60C0753F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9634-B105-4208-8528-523421FB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F214-FC0C-4627-9116-9533238B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9569-64CF-439F-9124-374233B3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4524-D839-4C10-9D09-5914F6DD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DC72-13F9-4507-837F-5D4C601B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27BB-FE0D-4941-A513-0AE757FCA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814B-02C6-4BFC-B4F1-D9ED4FF4D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4223F-B02B-44AC-8738-7B26B463C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90546-BAA6-41AF-B90D-CA5B912A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69E42-066B-4031-B9DA-D3FE21F5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93E42-0873-4DE4-AB7E-46CD646E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22848-041F-436F-A9FC-3D3F475C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480D-FA36-40BF-8C3A-9B95D923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A9CFF-43E4-4182-89B8-EC40356E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320AB-558E-4A93-8EBE-2D8890BF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0A609-4B74-4E01-982A-E34D1C64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7E257-B2AF-41AA-93BA-C1C7B134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8FDD9-ACAD-45FA-9E9D-9287615D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41AE9-01CA-42C4-A588-6EA1597E2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CE3FD-0FA1-4456-B4D5-16696ABF4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71615-696E-4B2F-9DAE-6FA2F4E1E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7C2FA-A484-402D-849E-835BFF36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3662E-2BB6-4162-9BA2-520543B3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CE84-D1B0-43C1-B609-685C62A6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9338F-A99D-4C7E-8DF7-43D254EA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7E663-9D3E-43FC-B311-F5DFA351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C738A-31F9-4912-9547-B5754431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927A4-FAB4-4DFE-BC29-9657ABB1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5D4C4-8959-41B1-9980-2D71BCCF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9BB23-6806-4AFC-A1EA-818B1E73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2FE15-67BA-4185-A5D4-CF879E0A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C4D24-D73F-42AE-8E2B-C1AC36C35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A5134-C7D4-4F21-888E-73265C3B5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9A5B4-7837-43B7-B2A6-22D432960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EDB0-84D3-4910-AD25-2BEF4E80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DDDE4-4D68-43DF-A691-905955C6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6B947-0E0F-469E-86AD-B0C89E76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BB092-6572-4A14-9086-A4990604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9539B-F740-4EC0-9203-21308506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CA1B2-995D-4675-9A5A-3CBECE14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D8245-753B-47C8-850B-36FF4025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8A7B2-060D-463A-AE84-4A310849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528FC-D8D8-4AB3-86F4-5B395BF7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71AEF-A827-4BAB-A165-81EF6244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9DBBD-3F01-4DC5-AE5D-2C9B0F38F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375E-02CA-44E0-9FE1-D677F293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0F004-4F05-439E-8BE3-541E2EE11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B07ED-7041-429C-B595-E39D4A111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B89C7-1585-4E58-9D80-7CCAA7B4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14657-302A-41A0-AB2A-E4E43DF8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7837D-02C5-432B-ADB8-EE05B66C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E1BAC-FB61-40B9-B642-BB9C8E29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06421-F1B2-4CAB-923A-21777E6D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AF20D-1B04-47EC-B10D-C449E94D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6F5D7-0DC1-46CC-9097-96D114DF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6D661-0A55-4633-8EBE-6AE1E46E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9F47-DE3D-4966-A43B-EF7F1E1C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2B2CE-45E7-44A7-8999-3EF999CB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5D41C-7F9B-4DB4-9150-DC355742B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4DEA1-DE8B-436E-9A49-D744BADB7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53067-CB6B-4FA4-9BC0-B4E616B22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FB25F-633A-4D53-A8BD-87E61CE7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68522-F32A-4405-813F-8F033DEC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28A5C-6C65-4A3F-B3EF-75BE981E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742B8-E1C2-43C2-8245-9ACAA3A4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DE871-3A7E-4A35-A2D5-D4E2D42E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3858D-0890-4EA7-B2FB-134094E5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98DD-D88D-46E7-83DE-A05C4D2F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E3608-0E96-4ED2-AD06-231E3068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E85A2-A6C4-4E93-9085-2E64D6A8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C6528-0DF7-4E3A-9281-3F99D978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96DDE-2FC6-4270-A9F7-13788A36B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74EE4-F3C5-4F33-8751-FF52900A5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5491-AA75-46AE-8234-1964F4D1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BB94-4C4F-496C-AE96-B30B515472DC}" type="slidenum">
              <a:rPr b="1" lang="cs-CZ" sz="1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Obrázek 2" descr=""/>
          <p:cNvPicPr/>
          <p:nvPr/>
        </p:nvPicPr>
        <p:blipFill>
          <a:blip r:embed="rId2"/>
          <a:stretch/>
        </p:blipFill>
        <p:spPr>
          <a:xfrm>
            <a:off x="1962000" y="6021360"/>
            <a:ext cx="5220000" cy="80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3CD4-0EDC-48C4-97EA-A3DD25D4D465}" type="slidenum">
              <a:rPr b="1" lang="cs-CZ" sz="1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1154-F582-490F-BD28-5ACCA4E80CB9}" type="slidenum">
              <a:rPr b="1" lang="cs-CZ" sz="1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DDA5-7153-49C8-A157-3CAB8D6FCE7D}" type="slidenum">
              <a:rPr b="1" lang="cs-CZ" sz="1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F0B8-1E0B-40E1-9A33-64C7D5165BAE}" type="slidenum">
              <a:rPr b="1" lang="cs-CZ" sz="1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1B30-54E8-4BD7-9854-41F0CAC43507}" type="slidenum">
              <a:rPr b="1" lang="cs-CZ" sz="1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DBF4-15E6-4505-BB77-A6248ECF4BCF}" type="slidenum">
              <a:rPr b="1" lang="cs-CZ" sz="1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d2533c"/>
                </a:solidFill>
                <a:latin typeface="Cambria"/>
              </a:rPr>
              <a:t>PROTOKOL IPSEC</a:t>
            </a:r>
            <a:endParaRPr b="0" lang="en-US" sz="54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400" spc="-1" strike="noStrike">
              <a:solidFill>
                <a:srgbClr val="57576e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Scénáře nasazení IPSec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74960" indent="-17496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IPSec může být nasazen takto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74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74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74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74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74960" indent="-17496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Tři základní varianty konfigurace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38840" indent="-17496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Host to Hos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38840" indent="-17496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Gateway to Gateway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 (propojení sítí - tunel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38840" indent="-17496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Host to Gateway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7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grpSp>
        <p:nvGrpSpPr>
          <p:cNvPr id="312" name="Group 372"/>
          <p:cNvGrpSpPr/>
          <p:nvPr/>
        </p:nvGrpSpPr>
        <p:grpSpPr>
          <a:xfrm>
            <a:off x="1476360" y="2133720"/>
            <a:ext cx="7500600" cy="718920"/>
            <a:chOff x="1476360" y="2133720"/>
            <a:chExt cx="7500600" cy="718920"/>
          </a:xfrm>
        </p:grpSpPr>
        <p:sp>
          <p:nvSpPr>
            <p:cNvPr id="313" name="AutoShape 367"/>
            <p:cNvSpPr/>
            <p:nvPr/>
          </p:nvSpPr>
          <p:spPr>
            <a:xfrm>
              <a:off x="1497240" y="2133720"/>
              <a:ext cx="7479720" cy="717120"/>
            </a:xfrm>
            <a:prstGeom prst="roundRect">
              <a:avLst>
                <a:gd name="adj" fmla="val 4167"/>
              </a:avLst>
            </a:prstGeom>
            <a:gradFill rotWithShape="0">
              <a:gsLst>
                <a:gs pos="0">
                  <a:srgbClr val="eeefd7"/>
                </a:gs>
                <a:gs pos="100000">
                  <a:srgbClr val="d5d69c"/>
                </a:gs>
              </a:gsLst>
              <a:lin ang="2700000"/>
            </a:gra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463040" rIns="90000" tIns="46800" bIns="46800" anchor="ctr">
              <a:normAutofit/>
            </a:bodyPr>
            <a:p>
              <a:pPr marL="260280" indent="4680">
                <a:lnSpc>
                  <a:spcPct val="90000"/>
                </a:lnSpc>
                <a:spcBef>
                  <a:spcPts val="1100"/>
                </a:spcBef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200" spc="-1" strike="noStrike">
                  <a:solidFill>
                    <a:srgbClr val="292934"/>
                  </a:solidFill>
                  <a:latin typeface="Calibri"/>
                  <a:ea typeface="Arial"/>
                </a:rPr>
                <a:t>Ochrana komunikace mezi dvěma koncovými počítači</a:t>
              </a:r>
              <a:endParaRPr b="0" lang="en-US" sz="22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14" name="AutoShape 368"/>
            <p:cNvSpPr/>
            <p:nvPr/>
          </p:nvSpPr>
          <p:spPr>
            <a:xfrm>
              <a:off x="1476360" y="2133720"/>
              <a:ext cx="1636560" cy="718920"/>
            </a:xfrm>
            <a:prstGeom prst="roundRect">
              <a:avLst>
                <a:gd name="adj" fmla="val 4167"/>
              </a:avLst>
            </a:prstGeom>
            <a:gradFill rotWithShape="0">
              <a:gsLst>
                <a:gs pos="0">
                  <a:srgbClr val="eaaba0"/>
                </a:gs>
                <a:gs pos="100000">
                  <a:srgbClr val="f6d9d4"/>
                </a:gs>
              </a:gsLst>
              <a:lin ang="2700000"/>
            </a:gra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9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292934"/>
                  </a:solidFill>
                  <a:latin typeface="Calibri"/>
                  <a:ea typeface="Arial"/>
                </a:rPr>
                <a:t>Transport</a:t>
              </a:r>
              <a:r>
                <a:rPr b="1" lang="cs-CZ" sz="2200" spc="-1" strike="noStrike">
                  <a:solidFill>
                    <a:srgbClr val="292934"/>
                  </a:solidFill>
                  <a:latin typeface="Calibri"/>
                  <a:ea typeface="Arial"/>
                </a:rPr>
                <a:t>ní</a:t>
              </a:r>
              <a:r>
                <a:rPr b="1" lang="en-US" sz="2200" spc="-1" strike="noStrike">
                  <a:solidFill>
                    <a:srgbClr val="292934"/>
                  </a:solidFill>
                  <a:latin typeface="Calibri"/>
                  <a:ea typeface="Arial"/>
                </a:rPr>
                <a:t> m</a:t>
              </a:r>
              <a:r>
                <a:rPr b="1" lang="cs-CZ" sz="2200" spc="-1" strike="noStrike">
                  <a:solidFill>
                    <a:srgbClr val="292934"/>
                  </a:solidFill>
                  <a:latin typeface="Calibri"/>
                  <a:ea typeface="Arial"/>
                </a:rPr>
                <a:t>ód</a:t>
              </a:r>
              <a:endParaRPr b="0" lang="en-US" sz="22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315" name="Group 373"/>
          <p:cNvGrpSpPr/>
          <p:nvPr/>
        </p:nvGrpSpPr>
        <p:grpSpPr>
          <a:xfrm>
            <a:off x="1476360" y="3068640"/>
            <a:ext cx="7524360" cy="720720"/>
            <a:chOff x="1476360" y="3068640"/>
            <a:chExt cx="7524360" cy="720720"/>
          </a:xfrm>
        </p:grpSpPr>
        <p:sp>
          <p:nvSpPr>
            <p:cNvPr id="316" name="AutoShape 374"/>
            <p:cNvSpPr/>
            <p:nvPr/>
          </p:nvSpPr>
          <p:spPr>
            <a:xfrm>
              <a:off x="1497240" y="3068640"/>
              <a:ext cx="7503480" cy="718920"/>
            </a:xfrm>
            <a:prstGeom prst="roundRect">
              <a:avLst>
                <a:gd name="adj" fmla="val 4167"/>
              </a:avLst>
            </a:prstGeom>
            <a:gradFill rotWithShape="0">
              <a:gsLst>
                <a:gs pos="0">
                  <a:srgbClr val="eeefd7"/>
                </a:gs>
                <a:gs pos="100000">
                  <a:srgbClr val="d5d69c"/>
                </a:gs>
              </a:gsLst>
              <a:lin ang="2700000"/>
            </a:gra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463040" rIns="90000" tIns="46800" bIns="46800" anchor="ctr">
              <a:normAutofit/>
            </a:bodyPr>
            <a:p>
              <a:pPr marL="264960">
                <a:lnSpc>
                  <a:spcPct val="9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200" spc="-1" strike="noStrike">
                  <a:solidFill>
                    <a:srgbClr val="292934"/>
                  </a:solidFill>
                  <a:latin typeface="Arial Narrow"/>
                  <a:ea typeface="Arial"/>
                </a:rPr>
                <a:t>Ochrana komunikace mezi koncovým počítačem a sítí nebo mezi dvěma sítěmi</a:t>
              </a:r>
              <a:endParaRPr b="0" lang="en-US" sz="22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17" name="AutoShape 375"/>
            <p:cNvSpPr/>
            <p:nvPr/>
          </p:nvSpPr>
          <p:spPr>
            <a:xfrm>
              <a:off x="1476360" y="3068640"/>
              <a:ext cx="1641600" cy="720720"/>
            </a:xfrm>
            <a:prstGeom prst="roundRect">
              <a:avLst>
                <a:gd name="adj" fmla="val 4167"/>
              </a:avLst>
            </a:prstGeom>
            <a:gradFill rotWithShape="0">
              <a:gsLst>
                <a:gs pos="0">
                  <a:srgbClr val="eaaba0"/>
                </a:gs>
                <a:gs pos="100000">
                  <a:srgbClr val="f6d9d4"/>
                </a:gs>
              </a:gsLst>
              <a:lin ang="2700000"/>
            </a:gra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9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292934"/>
                  </a:solidFill>
                  <a:latin typeface="Arial Narrow"/>
                  <a:ea typeface="Arial"/>
                </a:rPr>
                <a:t>Tunel</a:t>
              </a:r>
              <a:r>
                <a:rPr b="1" lang="cs-CZ" sz="2200" spc="-1" strike="noStrike">
                  <a:solidFill>
                    <a:srgbClr val="292934"/>
                  </a:solidFill>
                  <a:latin typeface="Arial Narrow"/>
                  <a:ea typeface="Arial"/>
                </a:rPr>
                <a:t>ovací</a:t>
              </a:r>
              <a:r>
                <a:rPr b="1" lang="en-US" sz="2200" spc="-1" strike="noStrike">
                  <a:solidFill>
                    <a:srgbClr val="292934"/>
                  </a:solidFill>
                  <a:latin typeface="Arial Narrow"/>
                  <a:ea typeface="Arial"/>
                </a:rPr>
                <a:t> m</a:t>
              </a:r>
              <a:r>
                <a:rPr b="1" lang="cs-CZ" sz="2200" spc="-1" strike="noStrike">
                  <a:solidFill>
                    <a:srgbClr val="292934"/>
                  </a:solidFill>
                  <a:latin typeface="Arial Narrow"/>
                  <a:ea typeface="Arial"/>
                </a:rPr>
                <a:t>ód</a:t>
              </a:r>
              <a:endParaRPr b="0" lang="en-US" sz="22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Transportní mód IPSec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2378160" y="3700440"/>
            <a:ext cx="838080" cy="743040"/>
          </a:xfrm>
          <a:prstGeom prst="rect">
            <a:avLst/>
          </a:prstGeom>
          <a:gradFill rotWithShape="0">
            <a:gsLst>
              <a:gs pos="0">
                <a:srgbClr val="6e7b9e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3216240" y="3700440"/>
            <a:ext cx="838080" cy="7430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3362760" y="383868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Data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2" name="Text Box 7"/>
          <p:cNvSpPr/>
          <p:nvPr/>
        </p:nvSpPr>
        <p:spPr>
          <a:xfrm>
            <a:off x="2557800" y="3851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AH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3" name="Rectangle 8"/>
          <p:cNvSpPr/>
          <p:nvPr/>
        </p:nvSpPr>
        <p:spPr>
          <a:xfrm>
            <a:off x="1332000" y="3700440"/>
            <a:ext cx="1046160" cy="7430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4" name="Text Box 9"/>
          <p:cNvSpPr/>
          <p:nvPr/>
        </p:nvSpPr>
        <p:spPr>
          <a:xfrm>
            <a:off x="1258920" y="3718080"/>
            <a:ext cx="11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Původn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5" name="Rectangle 10"/>
          <p:cNvSpPr/>
          <p:nvPr/>
        </p:nvSpPr>
        <p:spPr>
          <a:xfrm>
            <a:off x="5959440" y="3699000"/>
            <a:ext cx="838080" cy="7444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6" name="Rectangle 11"/>
          <p:cNvSpPr/>
          <p:nvPr/>
        </p:nvSpPr>
        <p:spPr>
          <a:xfrm>
            <a:off x="6797520" y="3699000"/>
            <a:ext cx="838440" cy="74448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7" name="Text Box 12"/>
          <p:cNvSpPr/>
          <p:nvPr/>
        </p:nvSpPr>
        <p:spPr>
          <a:xfrm>
            <a:off x="6950520" y="386712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Data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8" name="Text Box 13"/>
          <p:cNvSpPr/>
          <p:nvPr/>
        </p:nvSpPr>
        <p:spPr>
          <a:xfrm>
            <a:off x="5977440" y="3693960"/>
            <a:ext cx="81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9" name="Rectangle 14"/>
          <p:cNvSpPr/>
          <p:nvPr/>
        </p:nvSpPr>
        <p:spPr>
          <a:xfrm>
            <a:off x="4716360" y="3699000"/>
            <a:ext cx="1243080" cy="74448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0" name="Text Box 15"/>
          <p:cNvSpPr/>
          <p:nvPr/>
        </p:nvSpPr>
        <p:spPr>
          <a:xfrm>
            <a:off x="4825080" y="376704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Původn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1" name="Rectangle 16"/>
          <p:cNvSpPr/>
          <p:nvPr/>
        </p:nvSpPr>
        <p:spPr>
          <a:xfrm>
            <a:off x="7635960" y="3699000"/>
            <a:ext cx="838080" cy="7444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2" name="Text Box 17"/>
          <p:cNvSpPr/>
          <p:nvPr/>
        </p:nvSpPr>
        <p:spPr>
          <a:xfrm>
            <a:off x="7679160" y="370044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zápat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3" name="Rectangle 19"/>
          <p:cNvSpPr/>
          <p:nvPr/>
        </p:nvSpPr>
        <p:spPr>
          <a:xfrm>
            <a:off x="3419640" y="2143080"/>
            <a:ext cx="1304640" cy="7160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4" name="Rectangle 20"/>
          <p:cNvSpPr/>
          <p:nvPr/>
        </p:nvSpPr>
        <p:spPr>
          <a:xfrm>
            <a:off x="4724280" y="2143080"/>
            <a:ext cx="838440" cy="7160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5" name="Text Box 21"/>
          <p:cNvSpPr/>
          <p:nvPr/>
        </p:nvSpPr>
        <p:spPr>
          <a:xfrm>
            <a:off x="4797360" y="231948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34"/>
                </a:solidFill>
                <a:latin typeface="Calibri"/>
                <a:ea typeface="Arial"/>
              </a:rPr>
              <a:t>Data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6" name="Text Box 22"/>
          <p:cNvSpPr/>
          <p:nvPr/>
        </p:nvSpPr>
        <p:spPr>
          <a:xfrm>
            <a:off x="3480120" y="2144880"/>
            <a:ext cx="114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34"/>
                </a:solidFill>
                <a:latin typeface="Calibri"/>
                <a:ea typeface="Arial"/>
              </a:rPr>
              <a:t>Původní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7" name="Text Box 23"/>
          <p:cNvSpPr/>
          <p:nvPr/>
        </p:nvSpPr>
        <p:spPr>
          <a:xfrm>
            <a:off x="3637080" y="177336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Arial"/>
                <a:ea typeface="Arial"/>
              </a:rPr>
              <a:t>Běžný IP paket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8" name="Text Box 24"/>
          <p:cNvSpPr/>
          <p:nvPr/>
        </p:nvSpPr>
        <p:spPr>
          <a:xfrm>
            <a:off x="1620720" y="327816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Arial"/>
                <a:ea typeface="Arial"/>
              </a:rPr>
              <a:t>Paket při použití AH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9" name="Text Box 25"/>
          <p:cNvSpPr/>
          <p:nvPr/>
        </p:nvSpPr>
        <p:spPr>
          <a:xfrm>
            <a:off x="5219640" y="328464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Arial"/>
                <a:ea typeface="Arial"/>
              </a:rPr>
              <a:t>Paket při použití 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0" name="Rectangle 26"/>
          <p:cNvSpPr/>
          <p:nvPr/>
        </p:nvSpPr>
        <p:spPr>
          <a:xfrm>
            <a:off x="3387600" y="5349960"/>
            <a:ext cx="838440" cy="743040"/>
          </a:xfrm>
          <a:prstGeom prst="rect">
            <a:avLst/>
          </a:prstGeom>
          <a:gradFill rotWithShape="0">
            <a:gsLst>
              <a:gs pos="0">
                <a:srgbClr val="6e7b9e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1" name="Text Box 29"/>
          <p:cNvSpPr/>
          <p:nvPr/>
        </p:nvSpPr>
        <p:spPr>
          <a:xfrm>
            <a:off x="3567240" y="55008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AH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2" name="Rectangle 30"/>
          <p:cNvSpPr/>
          <p:nvPr/>
        </p:nvSpPr>
        <p:spPr>
          <a:xfrm>
            <a:off x="2341440" y="5349960"/>
            <a:ext cx="1046160" cy="7430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3" name="Text Box 31"/>
          <p:cNvSpPr/>
          <p:nvPr/>
        </p:nvSpPr>
        <p:spPr>
          <a:xfrm>
            <a:off x="2268360" y="5367240"/>
            <a:ext cx="117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Původn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4" name="Rectangle 32"/>
          <p:cNvSpPr/>
          <p:nvPr/>
        </p:nvSpPr>
        <p:spPr>
          <a:xfrm>
            <a:off x="4213080" y="5348160"/>
            <a:ext cx="838440" cy="74484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5" name="Rectangle 33"/>
          <p:cNvSpPr/>
          <p:nvPr/>
        </p:nvSpPr>
        <p:spPr>
          <a:xfrm>
            <a:off x="5051520" y="5348160"/>
            <a:ext cx="838080" cy="7448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6" name="Text Box 34"/>
          <p:cNvSpPr/>
          <p:nvPr/>
        </p:nvSpPr>
        <p:spPr>
          <a:xfrm>
            <a:off x="5204160" y="551664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Data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7" name="Text Box 35"/>
          <p:cNvSpPr/>
          <p:nvPr/>
        </p:nvSpPr>
        <p:spPr>
          <a:xfrm>
            <a:off x="4231440" y="5343480"/>
            <a:ext cx="81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8" name="Rectangle 36"/>
          <p:cNvSpPr/>
          <p:nvPr/>
        </p:nvSpPr>
        <p:spPr>
          <a:xfrm>
            <a:off x="5889600" y="5348160"/>
            <a:ext cx="838080" cy="74484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9" name="Text Box 37"/>
          <p:cNvSpPr/>
          <p:nvPr/>
        </p:nvSpPr>
        <p:spPr>
          <a:xfrm>
            <a:off x="5933160" y="534996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zápat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0" name="Text Box 38"/>
          <p:cNvSpPr/>
          <p:nvPr/>
        </p:nvSpPr>
        <p:spPr>
          <a:xfrm>
            <a:off x="3132000" y="493380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Arial"/>
                <a:ea typeface="Arial"/>
              </a:rPr>
              <a:t>Paket při použití AH + 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Tunelovací mód IPSec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2281320" y="3062160"/>
            <a:ext cx="838080" cy="743040"/>
          </a:xfrm>
          <a:prstGeom prst="rect">
            <a:avLst/>
          </a:prstGeom>
          <a:gradFill rotWithShape="0">
            <a:gsLst>
              <a:gs pos="0">
                <a:srgbClr val="6e7b9e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4165560" y="3059280"/>
            <a:ext cx="838080" cy="74268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4312080" y="319716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Data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2486160" y="3219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AH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3121200" y="3059280"/>
            <a:ext cx="1046160" cy="74268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3048120" y="3076560"/>
            <a:ext cx="11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Původn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5122800" y="4052880"/>
            <a:ext cx="838440" cy="7444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7216920" y="4052880"/>
            <a:ext cx="838080" cy="74448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0" name="Text Box 11"/>
          <p:cNvSpPr/>
          <p:nvPr/>
        </p:nvSpPr>
        <p:spPr>
          <a:xfrm>
            <a:off x="7369560" y="422100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Data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1" name="Text Box 12"/>
          <p:cNvSpPr/>
          <p:nvPr/>
        </p:nvSpPr>
        <p:spPr>
          <a:xfrm>
            <a:off x="5140800" y="4048200"/>
            <a:ext cx="81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2" name="Rectangle 13"/>
          <p:cNvSpPr/>
          <p:nvPr/>
        </p:nvSpPr>
        <p:spPr>
          <a:xfrm>
            <a:off x="5973840" y="4052880"/>
            <a:ext cx="1243080" cy="74448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3" name="Text Box 14"/>
          <p:cNvSpPr/>
          <p:nvPr/>
        </p:nvSpPr>
        <p:spPr>
          <a:xfrm>
            <a:off x="6082200" y="412128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Původn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4" name="Rectangle 15"/>
          <p:cNvSpPr/>
          <p:nvPr/>
        </p:nvSpPr>
        <p:spPr>
          <a:xfrm>
            <a:off x="8055000" y="4052880"/>
            <a:ext cx="838080" cy="7444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8098560" y="405432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zápat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6" name="Rectangle 17"/>
          <p:cNvSpPr/>
          <p:nvPr/>
        </p:nvSpPr>
        <p:spPr>
          <a:xfrm>
            <a:off x="4013280" y="1849320"/>
            <a:ext cx="1305000" cy="7160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7" name="Rectangle 18"/>
          <p:cNvSpPr/>
          <p:nvPr/>
        </p:nvSpPr>
        <p:spPr>
          <a:xfrm>
            <a:off x="5318280" y="1849320"/>
            <a:ext cx="838080" cy="7160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5391000" y="202572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34"/>
                </a:solidFill>
                <a:latin typeface="Calibri"/>
                <a:ea typeface="Arial"/>
              </a:rPr>
              <a:t>Data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4073760" y="1851120"/>
            <a:ext cx="114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34"/>
                </a:solidFill>
                <a:latin typeface="Calibri"/>
                <a:ea typeface="Arial"/>
              </a:rPr>
              <a:t>Původní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0" name="Text Box 21"/>
          <p:cNvSpPr/>
          <p:nvPr/>
        </p:nvSpPr>
        <p:spPr>
          <a:xfrm>
            <a:off x="4230720" y="147960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Arial"/>
                <a:ea typeface="Arial"/>
              </a:rPr>
              <a:t>Běžný IP paket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1" name="Text Box 22"/>
          <p:cNvSpPr/>
          <p:nvPr/>
        </p:nvSpPr>
        <p:spPr>
          <a:xfrm>
            <a:off x="1765440" y="2637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Arial"/>
                <a:ea typeface="Arial"/>
              </a:rPr>
              <a:t>Paket při použití AH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2" name="Text Box 23"/>
          <p:cNvSpPr/>
          <p:nvPr/>
        </p:nvSpPr>
        <p:spPr>
          <a:xfrm>
            <a:off x="5711760" y="36385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Arial"/>
                <a:ea typeface="Arial"/>
              </a:rPr>
              <a:t>Paket při použití 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3" name="Rectangle 24"/>
          <p:cNvSpPr/>
          <p:nvPr/>
        </p:nvSpPr>
        <p:spPr>
          <a:xfrm>
            <a:off x="2340000" y="5565600"/>
            <a:ext cx="838080" cy="743040"/>
          </a:xfrm>
          <a:prstGeom prst="rect">
            <a:avLst/>
          </a:prstGeom>
          <a:gradFill rotWithShape="0">
            <a:gsLst>
              <a:gs pos="0">
                <a:srgbClr val="6e7b9e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4" name="Text Box 25"/>
          <p:cNvSpPr/>
          <p:nvPr/>
        </p:nvSpPr>
        <p:spPr>
          <a:xfrm>
            <a:off x="2519640" y="57164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AH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5" name="Text Box 34"/>
          <p:cNvSpPr/>
          <p:nvPr/>
        </p:nvSpPr>
        <p:spPr>
          <a:xfrm>
            <a:off x="2484360" y="507852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Arial"/>
                <a:ea typeface="Arial"/>
              </a:rPr>
              <a:t>Paket při použití AH + 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6" name="Rectangle 35"/>
          <p:cNvSpPr/>
          <p:nvPr/>
        </p:nvSpPr>
        <p:spPr>
          <a:xfrm>
            <a:off x="1239840" y="3065400"/>
            <a:ext cx="1046160" cy="7430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7" name="Text Box 36"/>
          <p:cNvSpPr/>
          <p:nvPr/>
        </p:nvSpPr>
        <p:spPr>
          <a:xfrm>
            <a:off x="1166760" y="3083040"/>
            <a:ext cx="11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Nové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8" name="Rectangle 37"/>
          <p:cNvSpPr/>
          <p:nvPr/>
        </p:nvSpPr>
        <p:spPr>
          <a:xfrm>
            <a:off x="4076640" y="4054320"/>
            <a:ext cx="1046160" cy="7430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9" name="Text Box 38"/>
          <p:cNvSpPr/>
          <p:nvPr/>
        </p:nvSpPr>
        <p:spPr>
          <a:xfrm>
            <a:off x="4003560" y="4071960"/>
            <a:ext cx="11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Nové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0" name="Rectangle 39"/>
          <p:cNvSpPr/>
          <p:nvPr/>
        </p:nvSpPr>
        <p:spPr>
          <a:xfrm>
            <a:off x="3170160" y="5564160"/>
            <a:ext cx="838440" cy="7444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1" name="Rectangle 40"/>
          <p:cNvSpPr/>
          <p:nvPr/>
        </p:nvSpPr>
        <p:spPr>
          <a:xfrm>
            <a:off x="5264280" y="5564160"/>
            <a:ext cx="838080" cy="74448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2" name="Text Box 41"/>
          <p:cNvSpPr/>
          <p:nvPr/>
        </p:nvSpPr>
        <p:spPr>
          <a:xfrm>
            <a:off x="5416920" y="573264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Data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3" name="Text Box 42"/>
          <p:cNvSpPr/>
          <p:nvPr/>
        </p:nvSpPr>
        <p:spPr>
          <a:xfrm>
            <a:off x="3188160" y="5559480"/>
            <a:ext cx="81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4" name="Rectangle 43"/>
          <p:cNvSpPr/>
          <p:nvPr/>
        </p:nvSpPr>
        <p:spPr>
          <a:xfrm>
            <a:off x="4021200" y="5564160"/>
            <a:ext cx="1243080" cy="74448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5" name="Text Box 44"/>
          <p:cNvSpPr/>
          <p:nvPr/>
        </p:nvSpPr>
        <p:spPr>
          <a:xfrm>
            <a:off x="4129560" y="563256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Původn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6" name="Rectangle 45"/>
          <p:cNvSpPr/>
          <p:nvPr/>
        </p:nvSpPr>
        <p:spPr>
          <a:xfrm>
            <a:off x="6102360" y="5564160"/>
            <a:ext cx="838080" cy="7444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7" name="Text Box 46"/>
          <p:cNvSpPr/>
          <p:nvPr/>
        </p:nvSpPr>
        <p:spPr>
          <a:xfrm>
            <a:off x="6145920" y="556560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zápat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8" name="Rectangle 47"/>
          <p:cNvSpPr/>
          <p:nvPr/>
        </p:nvSpPr>
        <p:spPr>
          <a:xfrm>
            <a:off x="1293840" y="5565600"/>
            <a:ext cx="1046160" cy="7430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9" name="Text Box 48"/>
          <p:cNvSpPr/>
          <p:nvPr/>
        </p:nvSpPr>
        <p:spPr>
          <a:xfrm>
            <a:off x="1220760" y="5583240"/>
            <a:ext cx="11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Nové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Transportní mód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grpSp>
        <p:nvGrpSpPr>
          <p:cNvPr id="391" name="Group 8"/>
          <p:cNvGrpSpPr/>
          <p:nvPr/>
        </p:nvGrpSpPr>
        <p:grpSpPr>
          <a:xfrm>
            <a:off x="1276200" y="3108240"/>
            <a:ext cx="4246200" cy="3195360"/>
            <a:chOff x="1276200" y="3108240"/>
            <a:chExt cx="4246200" cy="3195360"/>
          </a:xfrm>
        </p:grpSpPr>
        <p:pic>
          <p:nvPicPr>
            <p:cNvPr id="392" name="Picture 4" descr="endtoend"/>
            <p:cNvPicPr/>
            <p:nvPr/>
          </p:nvPicPr>
          <p:blipFill>
            <a:blip r:embed="rId1"/>
            <a:stretch/>
          </p:blipFill>
          <p:spPr>
            <a:xfrm>
              <a:off x="1276200" y="3108240"/>
              <a:ext cx="4246200" cy="312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AutoShape 6"/>
            <p:cNvSpPr/>
            <p:nvPr/>
          </p:nvSpPr>
          <p:spPr>
            <a:xfrm>
              <a:off x="1557720" y="5728680"/>
              <a:ext cx="1957320" cy="57492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273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2934"/>
                  </a:solidFill>
                  <a:latin typeface="Arial Narrow"/>
                  <a:ea typeface="Arial"/>
                </a:rPr>
                <a:t>End-to-End Host Security</a:t>
              </a:r>
              <a:endParaRPr b="0" lang="en-US" sz="16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394" name="Group 29"/>
          <p:cNvGrpSpPr/>
          <p:nvPr/>
        </p:nvGrpSpPr>
        <p:grpSpPr>
          <a:xfrm>
            <a:off x="3813120" y="1623960"/>
            <a:ext cx="4548240" cy="3637800"/>
            <a:chOff x="3813120" y="1623960"/>
            <a:chExt cx="4548240" cy="3637800"/>
          </a:xfrm>
        </p:grpSpPr>
        <p:sp>
          <p:nvSpPr>
            <p:cNvPr id="395" name="AutoShape 7"/>
            <p:cNvSpPr/>
            <p:nvPr/>
          </p:nvSpPr>
          <p:spPr>
            <a:xfrm>
              <a:off x="6435720" y="4935960"/>
              <a:ext cx="1390680" cy="32580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273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2934"/>
                  </a:solidFill>
                  <a:latin typeface="Arial Narrow"/>
                  <a:ea typeface="Arial"/>
                </a:rPr>
                <a:t>Server Isolation</a:t>
              </a:r>
              <a:endParaRPr b="0" lang="en-US" sz="1600" spc="-1" strike="noStrike">
                <a:solidFill>
                  <a:srgbClr val="292934"/>
                </a:solidFill>
                <a:latin typeface="Arial"/>
              </a:endParaRPr>
            </a:p>
          </p:txBody>
        </p:sp>
        <p:pic>
          <p:nvPicPr>
            <p:cNvPr id="396" name="Picture 28" descr="2804A_C02"/>
            <p:cNvPicPr/>
            <p:nvPr/>
          </p:nvPicPr>
          <p:blipFill>
            <a:blip r:embed="rId2"/>
            <a:stretch/>
          </p:blipFill>
          <p:spPr>
            <a:xfrm>
              <a:off x="3813120" y="1623960"/>
              <a:ext cx="4548240" cy="29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Picture 21" descr="Encryption01"/>
            <p:cNvPicPr/>
            <p:nvPr/>
          </p:nvPicPr>
          <p:blipFill>
            <a:blip r:embed="rId3"/>
            <a:stretch/>
          </p:blipFill>
          <p:spPr>
            <a:xfrm>
              <a:off x="4925880" y="2090880"/>
              <a:ext cx="176400" cy="2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Picture 22" descr="Encryption01"/>
            <p:cNvPicPr/>
            <p:nvPr/>
          </p:nvPicPr>
          <p:blipFill>
            <a:blip r:embed="rId4"/>
            <a:stretch/>
          </p:blipFill>
          <p:spPr>
            <a:xfrm>
              <a:off x="4721400" y="2389320"/>
              <a:ext cx="176040" cy="2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Picture 23" descr="Encryption01"/>
            <p:cNvPicPr/>
            <p:nvPr/>
          </p:nvPicPr>
          <p:blipFill>
            <a:blip r:embed="rId5"/>
            <a:stretch/>
          </p:blipFill>
          <p:spPr>
            <a:xfrm>
              <a:off x="4867200" y="2852640"/>
              <a:ext cx="176400" cy="2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24" descr="Encryption01"/>
            <p:cNvPicPr/>
            <p:nvPr/>
          </p:nvPicPr>
          <p:blipFill>
            <a:blip r:embed="rId6"/>
            <a:stretch/>
          </p:blipFill>
          <p:spPr>
            <a:xfrm>
              <a:off x="4843440" y="3263760"/>
              <a:ext cx="176400" cy="282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 Narrow"/>
              </a:rPr>
              <a:t>Tu</a:t>
            </a:r>
            <a:r>
              <a:rPr b="0" lang="cs-CZ" sz="4000" spc="-1" strike="noStrike">
                <a:solidFill>
                  <a:srgbClr val="d2533c"/>
                </a:solidFill>
                <a:latin typeface="Arial Narrow"/>
              </a:rPr>
              <a:t>n</a:t>
            </a:r>
            <a:r>
              <a:rPr b="0" lang="en-US" sz="4000" spc="-1" strike="noStrike">
                <a:solidFill>
                  <a:srgbClr val="d2533c"/>
                </a:solidFill>
                <a:latin typeface="Arial Narrow"/>
              </a:rPr>
              <a:t>el</a:t>
            </a:r>
            <a:r>
              <a:rPr b="0" lang="cs-CZ" sz="4000" spc="-1" strike="noStrike">
                <a:solidFill>
                  <a:srgbClr val="d2533c"/>
                </a:solidFill>
                <a:latin typeface="Arial Narrow"/>
              </a:rPr>
              <a:t>ovací</a:t>
            </a:r>
            <a:r>
              <a:rPr b="0" lang="en-US" sz="4000" spc="-1" strike="noStrike">
                <a:solidFill>
                  <a:srgbClr val="d2533c"/>
                </a:solidFill>
                <a:latin typeface="Arial Narrow"/>
              </a:rPr>
              <a:t> </a:t>
            </a:r>
            <a:r>
              <a:rPr b="0" lang="cs-CZ" sz="4000" spc="-1" strike="noStrike">
                <a:solidFill>
                  <a:srgbClr val="d2533c"/>
                </a:solidFill>
                <a:latin typeface="Arial Narrow"/>
              </a:rPr>
              <a:t>mó</a:t>
            </a:r>
            <a:r>
              <a:rPr b="0" lang="en-US" sz="4000" spc="-1" strike="noStrike">
                <a:solidFill>
                  <a:srgbClr val="d2533c"/>
                </a:solidFill>
                <a:latin typeface="Arial Narrow"/>
              </a:rPr>
              <a:t>d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02" name="AutoShape 48"/>
          <p:cNvSpPr/>
          <p:nvPr/>
        </p:nvSpPr>
        <p:spPr>
          <a:xfrm>
            <a:off x="5724360" y="2386080"/>
            <a:ext cx="2264040" cy="2311200"/>
          </a:xfrm>
          <a:custGeom>
            <a:avLst/>
            <a:gdLst>
              <a:gd name="textAreaLeft" fmla="*/ 26640 w 2264040"/>
              <a:gd name="textAreaRight" fmla="*/ 2237400 w 2264040"/>
              <a:gd name="textAreaTop" fmla="*/ 26640 h 2311200"/>
              <a:gd name="textAreaBottom" fmla="*/ 2284560 h 2311200"/>
            </a:gdLst>
            <a:ahLst/>
            <a:rect l="textAreaLeft" t="textAreaTop" r="textAreaRight" b="textAreaBottom"/>
            <a:pathLst>
              <a:path w="21600" h="22050">
                <a:moveTo>
                  <a:pt x="875" y="0"/>
                </a:moveTo>
                <a:arcTo wR="875" hR="875" stAng="16200000" swAng="-5400000"/>
                <a:lnTo>
                  <a:pt x="0" y="21175"/>
                </a:lnTo>
                <a:arcTo wR="875" hR="875" stAng="10800000" swAng="-5400000"/>
                <a:lnTo>
                  <a:pt x="20725" y="22050"/>
                </a:lnTo>
                <a:arcTo wR="875" hR="875" stAng="5400000" swAng="-5400000"/>
                <a:lnTo>
                  <a:pt x="21600" y="875"/>
                </a:lnTo>
                <a:arcTo wR="875" hR="875" stAng="0" swAng="-5400000"/>
                <a:close/>
              </a:path>
            </a:pathLst>
          </a:custGeom>
          <a:gradFill rotWithShape="0">
            <a:gsLst>
              <a:gs pos="0">
                <a:srgbClr val="8dacd0"/>
              </a:gs>
              <a:gs pos="100000">
                <a:srgbClr val="dee7f1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3" name="AutoShape 7"/>
          <p:cNvSpPr/>
          <p:nvPr/>
        </p:nvSpPr>
        <p:spPr>
          <a:xfrm>
            <a:off x="1270080" y="1618200"/>
            <a:ext cx="1877760" cy="325800"/>
          </a:xfrm>
          <a:prstGeom prst="roundRect">
            <a:avLst>
              <a:gd name="adj" fmla="val 4167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273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Arial Narrow"/>
                <a:ea typeface="Arial"/>
              </a:rPr>
              <a:t>Site-to-Site VPN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4" name="AutoShape 31"/>
          <p:cNvSpPr/>
          <p:nvPr/>
        </p:nvSpPr>
        <p:spPr>
          <a:xfrm>
            <a:off x="4052880" y="2216160"/>
            <a:ext cx="987480" cy="574920"/>
          </a:xfrm>
          <a:prstGeom prst="roundRect">
            <a:avLst>
              <a:gd name="adj" fmla="val 4167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273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Arial Narrow"/>
                <a:ea typeface="Arial"/>
              </a:rPr>
              <a:t>IPSec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Arial Narrow"/>
                <a:ea typeface="Arial"/>
              </a:rPr>
              <a:t>Tunnel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5" name="AutoShape 47"/>
          <p:cNvSpPr/>
          <p:nvPr/>
        </p:nvSpPr>
        <p:spPr>
          <a:xfrm>
            <a:off x="1106640" y="2386080"/>
            <a:ext cx="2263680" cy="2311200"/>
          </a:xfrm>
          <a:custGeom>
            <a:avLst/>
            <a:gdLst>
              <a:gd name="textAreaLeft" fmla="*/ 26640 w 2263680"/>
              <a:gd name="textAreaRight" fmla="*/ 2237040 w 2263680"/>
              <a:gd name="textAreaTop" fmla="*/ 26640 h 2311200"/>
              <a:gd name="textAreaBottom" fmla="*/ 2284560 h 2311200"/>
            </a:gdLst>
            <a:ahLst/>
            <a:rect l="textAreaLeft" t="textAreaTop" r="textAreaRight" b="textAreaBottom"/>
            <a:pathLst>
              <a:path w="21600" h="22053">
                <a:moveTo>
                  <a:pt x="875" y="0"/>
                </a:moveTo>
                <a:arcTo wR="875" hR="875" stAng="16200000" swAng="-5400000"/>
                <a:lnTo>
                  <a:pt x="0" y="21178"/>
                </a:lnTo>
                <a:arcTo wR="875" hR="875" stAng="10800000" swAng="-5400000"/>
                <a:lnTo>
                  <a:pt x="20725" y="22053"/>
                </a:lnTo>
                <a:arcTo wR="875" hR="875" stAng="5400000" swAng="-5400000"/>
                <a:lnTo>
                  <a:pt x="21600" y="875"/>
                </a:lnTo>
                <a:arcTo wR="875" hR="875" stAng="0" swAng="-5400000"/>
                <a:close/>
              </a:path>
            </a:pathLst>
          </a:custGeom>
          <a:gradFill rotWithShape="0">
            <a:gsLst>
              <a:gs pos="0">
                <a:srgbClr val="8dacd0"/>
              </a:gs>
              <a:gs pos="100000">
                <a:srgbClr val="dee7f1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6" name="AutoShape 33"/>
          <p:cNvSpPr/>
          <p:nvPr/>
        </p:nvSpPr>
        <p:spPr>
          <a:xfrm>
            <a:off x="2933640" y="4260600"/>
            <a:ext cx="882720" cy="574920"/>
          </a:xfrm>
          <a:prstGeom prst="roundRect">
            <a:avLst>
              <a:gd name="adj" fmla="val 4167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273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Arial Narrow"/>
                <a:ea typeface="Arial"/>
              </a:rPr>
              <a:t>IPSec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Arial Narrow"/>
                <a:ea typeface="Arial"/>
              </a:rPr>
              <a:t>Gateway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7" name="AutoShape 34"/>
          <p:cNvSpPr/>
          <p:nvPr/>
        </p:nvSpPr>
        <p:spPr>
          <a:xfrm>
            <a:off x="1233360" y="3998160"/>
            <a:ext cx="1455840" cy="294840"/>
          </a:xfrm>
          <a:prstGeom prst="roundRect">
            <a:avLst>
              <a:gd name="adj" fmla="val 4167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" rIns="9000" tIns="273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34"/>
                </a:solidFill>
                <a:latin typeface="Arial Narrow"/>
                <a:ea typeface="Arial"/>
              </a:rPr>
              <a:t>Windows XP Client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8" name="AutoShape 35"/>
          <p:cNvSpPr/>
          <p:nvPr/>
        </p:nvSpPr>
        <p:spPr>
          <a:xfrm>
            <a:off x="6767640" y="4255560"/>
            <a:ext cx="998280" cy="294840"/>
          </a:xfrm>
          <a:prstGeom prst="roundRect">
            <a:avLst>
              <a:gd name="adj" fmla="val 4167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" rIns="9000" tIns="273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34"/>
                </a:solidFill>
                <a:latin typeface="Arial Narrow"/>
                <a:ea typeface="Arial"/>
              </a:rPr>
              <a:t>FTP Server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9" name="AutoShape 36"/>
          <p:cNvSpPr/>
          <p:nvPr/>
        </p:nvSpPr>
        <p:spPr>
          <a:xfrm>
            <a:off x="6305400" y="2527920"/>
            <a:ext cx="981360" cy="325800"/>
          </a:xfrm>
          <a:prstGeom prst="roundRect">
            <a:avLst>
              <a:gd name="adj" fmla="val 4167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273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Arial Narrow"/>
                <a:ea typeface="Arial"/>
              </a:rPr>
              <a:t>Site B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0" name="AutoShape 37"/>
          <p:cNvSpPr/>
          <p:nvPr/>
        </p:nvSpPr>
        <p:spPr>
          <a:xfrm>
            <a:off x="1771560" y="2527920"/>
            <a:ext cx="981000" cy="325800"/>
          </a:xfrm>
          <a:prstGeom prst="roundRect">
            <a:avLst>
              <a:gd name="adj" fmla="val 4167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273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Arial Narrow"/>
                <a:ea typeface="Arial"/>
              </a:rPr>
              <a:t>Site A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411" name="Picture 38" descr="Server01"/>
          <p:cNvPicPr/>
          <p:nvPr/>
        </p:nvPicPr>
        <p:blipFill>
          <a:blip r:embed="rId1"/>
          <a:stretch/>
        </p:blipFill>
        <p:spPr>
          <a:xfrm>
            <a:off x="6856560" y="3365640"/>
            <a:ext cx="693720" cy="815760"/>
          </a:xfrm>
          <a:prstGeom prst="rect">
            <a:avLst/>
          </a:prstGeom>
          <a:ln w="0">
            <a:noFill/>
          </a:ln>
        </p:spPr>
      </p:pic>
      <p:sp>
        <p:nvSpPr>
          <p:cNvPr id="412" name="Line 50"/>
          <p:cNvSpPr/>
          <p:nvPr/>
        </p:nvSpPr>
        <p:spPr>
          <a:xfrm>
            <a:off x="2127240" y="3552840"/>
            <a:ext cx="21528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413" name="Picture 45" descr="VpnB01"/>
          <p:cNvPicPr/>
          <p:nvPr/>
        </p:nvPicPr>
        <p:blipFill>
          <a:blip r:embed="rId2"/>
          <a:stretch/>
        </p:blipFill>
        <p:spPr>
          <a:xfrm>
            <a:off x="3730680" y="3352680"/>
            <a:ext cx="1730160" cy="7606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6" descr="Internet01"/>
          <p:cNvPicPr/>
          <p:nvPr/>
        </p:nvPicPr>
        <p:blipFill>
          <a:blip r:embed="rId3"/>
          <a:stretch/>
        </p:blipFill>
        <p:spPr>
          <a:xfrm>
            <a:off x="3962520" y="3129120"/>
            <a:ext cx="1171440" cy="1168200"/>
          </a:xfrm>
          <a:prstGeom prst="rect">
            <a:avLst/>
          </a:prstGeom>
          <a:ln w="0">
            <a:noFill/>
          </a:ln>
        </p:spPr>
      </p:pic>
      <p:sp>
        <p:nvSpPr>
          <p:cNvPr id="415" name="Line 49"/>
          <p:cNvSpPr/>
          <p:nvPr/>
        </p:nvSpPr>
        <p:spPr>
          <a:xfrm>
            <a:off x="5192640" y="3914640"/>
            <a:ext cx="18288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416" name="Picture 40" descr="Server01"/>
          <p:cNvPicPr/>
          <p:nvPr/>
        </p:nvPicPr>
        <p:blipFill>
          <a:blip r:embed="rId4"/>
          <a:stretch/>
        </p:blipFill>
        <p:spPr>
          <a:xfrm>
            <a:off x="5608800" y="3451320"/>
            <a:ext cx="693720" cy="8157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1" descr="Server01"/>
          <p:cNvPicPr/>
          <p:nvPr/>
        </p:nvPicPr>
        <p:blipFill>
          <a:blip r:embed="rId5"/>
          <a:stretch/>
        </p:blipFill>
        <p:spPr>
          <a:xfrm>
            <a:off x="2916360" y="3241800"/>
            <a:ext cx="693720" cy="8157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3" descr="Computer_DesktopComputer01"/>
          <p:cNvPicPr/>
          <p:nvPr/>
        </p:nvPicPr>
        <p:blipFill>
          <a:blip r:embed="rId6"/>
          <a:stretch/>
        </p:blipFill>
        <p:spPr>
          <a:xfrm>
            <a:off x="1639800" y="3174840"/>
            <a:ext cx="758880" cy="852480"/>
          </a:xfrm>
          <a:prstGeom prst="rect">
            <a:avLst/>
          </a:prstGeom>
          <a:ln w="0">
            <a:noFill/>
          </a:ln>
        </p:spPr>
      </p:pic>
      <p:sp>
        <p:nvSpPr>
          <p:cNvPr id="419" name="AutoShape 51"/>
          <p:cNvSpPr/>
          <p:nvPr/>
        </p:nvSpPr>
        <p:spPr>
          <a:xfrm>
            <a:off x="5398920" y="4403520"/>
            <a:ext cx="882720" cy="574920"/>
          </a:xfrm>
          <a:prstGeom prst="roundRect">
            <a:avLst>
              <a:gd name="adj" fmla="val 4167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273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Arial Narrow"/>
                <a:ea typeface="Arial"/>
              </a:rPr>
              <a:t>IPSec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Arial Narrow"/>
                <a:ea typeface="Arial"/>
              </a:rPr>
              <a:t>Gateway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 Narrow"/>
              </a:rPr>
              <a:t>Implementa</a:t>
            </a:r>
            <a:r>
              <a:rPr b="0" lang="cs-CZ" sz="4000" spc="-1" strike="noStrike">
                <a:solidFill>
                  <a:srgbClr val="d2533c"/>
                </a:solidFill>
                <a:latin typeface="Arial Narrow"/>
              </a:rPr>
              <a:t>ce IPSec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73160" indent="-17316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Cambria"/>
              </a:rPr>
              <a:t>Časté síťové prvky a operační systémy: 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34160" indent="-1731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Zařízení 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Cisco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34160" indent="-1731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PC 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s 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MS Windows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73160" indent="-17316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Cambria"/>
              </a:rPr>
              <a:t>IPSec a MS Windows: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34160" indent="-1731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Podpora od 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Windows 2000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34160" indent="-1731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lexib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ilní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 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k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onfigura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ční možnosti  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(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místní politika nebo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 Active Directory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73160" indent="-17316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Cambria"/>
              </a:rPr>
              <a:t>MS Management Console (MMC):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34160" indent="-1731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nap-in modul 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 pro správu 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IP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 bezpečnosti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34160" indent="-1731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Nastavení obecných pravidel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 (IKE – 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doby platností, šifrovací algoritmy atd.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34160" indent="-1731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Nastavení pravid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820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Jak IPSec zabezpečuje datový provoz?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grpSp>
        <p:nvGrpSpPr>
          <p:cNvPr id="423" name="Group 3"/>
          <p:cNvGrpSpPr/>
          <p:nvPr/>
        </p:nvGrpSpPr>
        <p:grpSpPr>
          <a:xfrm>
            <a:off x="1476000" y="2817720"/>
            <a:ext cx="7394760" cy="2981160"/>
            <a:chOff x="1476000" y="2817720"/>
            <a:chExt cx="7394760" cy="2981160"/>
          </a:xfrm>
        </p:grpSpPr>
        <p:sp>
          <p:nvSpPr>
            <p:cNvPr id="424" name="Rectangle 4"/>
            <p:cNvSpPr/>
            <p:nvPr/>
          </p:nvSpPr>
          <p:spPr>
            <a:xfrm rot="10800000">
              <a:off x="1476000" y="5666760"/>
              <a:ext cx="7394760" cy="1317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25" name="AutoShape 5"/>
            <p:cNvSpPr/>
            <p:nvPr/>
          </p:nvSpPr>
          <p:spPr>
            <a:xfrm rot="5400000">
              <a:off x="1947600" y="4643280"/>
              <a:ext cx="2095560" cy="136440"/>
            </a:xfrm>
            <a:custGeom>
              <a:avLst/>
              <a:gdLst>
                <a:gd name="textAreaLeft" fmla="*/ 0 w 2095560"/>
                <a:gd name="textAreaRight" fmla="*/ 2095920 w 20955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732" y="0"/>
                  </a:lnTo>
                  <a:lnTo>
                    <a:pt x="21600" y="10800"/>
                  </a:lnTo>
                  <a:lnTo>
                    <a:pt x="20732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endParaRPr b="0" lang="en-US" sz="2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26" name="AutoShape 6"/>
            <p:cNvSpPr/>
            <p:nvPr/>
          </p:nvSpPr>
          <p:spPr>
            <a:xfrm rot="5400000">
              <a:off x="6348240" y="4643280"/>
              <a:ext cx="2095560" cy="136440"/>
            </a:xfrm>
            <a:custGeom>
              <a:avLst/>
              <a:gdLst>
                <a:gd name="textAreaLeft" fmla="*/ 0 w 2095560"/>
                <a:gd name="textAreaRight" fmla="*/ 2095920 w 20955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732" y="0"/>
                  </a:lnTo>
                  <a:lnTo>
                    <a:pt x="21600" y="10800"/>
                  </a:lnTo>
                  <a:lnTo>
                    <a:pt x="20732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endParaRPr b="0" lang="en-US" sz="2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pic>
          <p:nvPicPr>
            <p:cNvPr id="427" name="Picture 7" descr="Computer_DesktopComputerSansKeyboard01"/>
            <p:cNvPicPr/>
            <p:nvPr/>
          </p:nvPicPr>
          <p:blipFill>
            <a:blip r:embed="rId1"/>
            <a:stretch/>
          </p:blipFill>
          <p:spPr>
            <a:xfrm>
              <a:off x="2479680" y="2817720"/>
              <a:ext cx="1032120" cy="125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Picture 8" descr="Computer_DesktopComputerSansKeyboard01"/>
            <p:cNvPicPr/>
            <p:nvPr/>
          </p:nvPicPr>
          <p:blipFill>
            <a:blip r:embed="rId2"/>
            <a:stretch/>
          </p:blipFill>
          <p:spPr>
            <a:xfrm>
              <a:off x="6929640" y="2817720"/>
              <a:ext cx="1031760" cy="12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9" name="Group 9"/>
          <p:cNvGrpSpPr/>
          <p:nvPr/>
        </p:nvGrpSpPr>
        <p:grpSpPr>
          <a:xfrm>
            <a:off x="1793880" y="2238480"/>
            <a:ext cx="6822720" cy="2832120"/>
            <a:chOff x="1793880" y="2238480"/>
            <a:chExt cx="6822720" cy="2832120"/>
          </a:xfrm>
        </p:grpSpPr>
        <p:sp>
          <p:nvSpPr>
            <p:cNvPr id="430" name="Line 10"/>
            <p:cNvSpPr/>
            <p:nvPr/>
          </p:nvSpPr>
          <p:spPr>
            <a:xfrm flipH="1">
              <a:off x="3416400" y="3281760"/>
              <a:ext cx="642960" cy="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31" name="Line 11"/>
            <p:cNvSpPr/>
            <p:nvPr/>
          </p:nvSpPr>
          <p:spPr>
            <a:xfrm>
              <a:off x="6262920" y="3281760"/>
              <a:ext cx="642960" cy="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32" name="Freeform 12"/>
            <p:cNvSpPr/>
            <p:nvPr/>
          </p:nvSpPr>
          <p:spPr>
            <a:xfrm>
              <a:off x="1793880" y="2238480"/>
              <a:ext cx="1263960" cy="2610000"/>
            </a:xfrm>
            <a:custGeom>
              <a:avLst/>
              <a:gdLst/>
              <a:ahLst/>
              <a:rect l="l" t="t" r="r" b="b"/>
              <a:pathLst>
                <a:path w="576" h="1720">
                  <a:moveTo>
                    <a:pt x="576" y="0"/>
                  </a:moveTo>
                  <a:lnTo>
                    <a:pt x="0" y="0"/>
                  </a:lnTo>
                  <a:lnTo>
                    <a:pt x="0" y="1720"/>
                  </a:lnTo>
                  <a:lnTo>
                    <a:pt x="219" y="1720"/>
                  </a:lnTo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33" name="Freeform 13"/>
            <p:cNvSpPr/>
            <p:nvPr/>
          </p:nvSpPr>
          <p:spPr>
            <a:xfrm flipH="1">
              <a:off x="7419240" y="2238480"/>
              <a:ext cx="1197000" cy="2610000"/>
            </a:xfrm>
            <a:custGeom>
              <a:avLst/>
              <a:gdLst/>
              <a:ahLst/>
              <a:rect l="l" t="t" r="r" b="b"/>
              <a:pathLst>
                <a:path w="576" h="1720">
                  <a:moveTo>
                    <a:pt x="576" y="0"/>
                  </a:moveTo>
                  <a:lnTo>
                    <a:pt x="0" y="0"/>
                  </a:lnTo>
                  <a:lnTo>
                    <a:pt x="0" y="1720"/>
                  </a:lnTo>
                  <a:lnTo>
                    <a:pt x="219" y="1720"/>
                  </a:lnTo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34" name="AutoShape 14"/>
            <p:cNvSpPr/>
            <p:nvPr/>
          </p:nvSpPr>
          <p:spPr>
            <a:xfrm>
              <a:off x="6774120" y="4239000"/>
              <a:ext cx="1317600" cy="38088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TCP </a:t>
              </a:r>
              <a:r>
                <a:rPr b="1" lang="cs-CZ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vrstva</a:t>
              </a: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35" name="AutoShape 15"/>
            <p:cNvSpPr/>
            <p:nvPr/>
          </p:nvSpPr>
          <p:spPr>
            <a:xfrm>
              <a:off x="6774120" y="4689720"/>
              <a:ext cx="1317600" cy="38088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IPSec Driver</a:t>
              </a: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36" name="AutoShape 16"/>
            <p:cNvSpPr/>
            <p:nvPr/>
          </p:nvSpPr>
          <p:spPr>
            <a:xfrm>
              <a:off x="2179800" y="4239000"/>
              <a:ext cx="1317600" cy="38088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TCP </a:t>
              </a:r>
              <a:r>
                <a:rPr b="1" lang="cs-CZ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vrstva</a:t>
              </a: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37" name="AutoShape 17"/>
            <p:cNvSpPr/>
            <p:nvPr/>
          </p:nvSpPr>
          <p:spPr>
            <a:xfrm>
              <a:off x="2179800" y="4689720"/>
              <a:ext cx="1317600" cy="38088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IPSec Driver</a:t>
              </a: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438" name="Group 18"/>
          <p:cNvGrpSpPr/>
          <p:nvPr/>
        </p:nvGrpSpPr>
        <p:grpSpPr>
          <a:xfrm>
            <a:off x="3170160" y="5060880"/>
            <a:ext cx="4019040" cy="1463760"/>
            <a:chOff x="3170160" y="5060880"/>
            <a:chExt cx="4019040" cy="1463760"/>
          </a:xfrm>
        </p:grpSpPr>
        <p:sp>
          <p:nvSpPr>
            <p:cNvPr id="439" name="Freeform 19"/>
            <p:cNvSpPr/>
            <p:nvPr/>
          </p:nvSpPr>
          <p:spPr>
            <a:xfrm>
              <a:off x="3170160" y="5108400"/>
              <a:ext cx="1260360" cy="439920"/>
            </a:xfrm>
            <a:custGeom>
              <a:avLst/>
              <a:gdLst/>
              <a:ahLst/>
              <a:rect l="l" t="t" r="r" b="b"/>
              <a:pathLst>
                <a:path w="746" h="414">
                  <a:moveTo>
                    <a:pt x="0" y="0"/>
                  </a:moveTo>
                  <a:lnTo>
                    <a:pt x="0" y="414"/>
                  </a:lnTo>
                  <a:lnTo>
                    <a:pt x="746" y="414"/>
                  </a:lnTo>
                </a:path>
              </a:pathLst>
            </a:custGeom>
            <a:noFill/>
            <a:ln w="57240">
              <a:solidFill>
                <a:srgbClr val="cc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40" name="AutoShape 20"/>
            <p:cNvSpPr/>
            <p:nvPr/>
          </p:nvSpPr>
          <p:spPr>
            <a:xfrm>
              <a:off x="3887640" y="6143400"/>
              <a:ext cx="2333520" cy="38124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Zabezpečené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 IP </a:t>
              </a:r>
              <a:r>
                <a:rPr b="1" lang="cs-CZ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akety</a:t>
              </a: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grpSp>
          <p:nvGrpSpPr>
            <p:cNvPr id="441" name="Group 21"/>
            <p:cNvGrpSpPr/>
            <p:nvPr/>
          </p:nvGrpSpPr>
          <p:grpSpPr>
            <a:xfrm>
              <a:off x="4395600" y="5060880"/>
              <a:ext cx="730080" cy="1003320"/>
              <a:chOff x="4395600" y="5060880"/>
              <a:chExt cx="730080" cy="1003320"/>
            </a:xfrm>
          </p:grpSpPr>
          <p:pic>
            <p:nvPicPr>
              <p:cNvPr id="442" name="Picture 22" descr="ArbitraryElement01"/>
              <p:cNvPicPr/>
              <p:nvPr/>
            </p:nvPicPr>
            <p:blipFill>
              <a:blip r:embed="rId3"/>
              <a:stretch/>
            </p:blipFill>
            <p:spPr>
              <a:xfrm>
                <a:off x="4395600" y="5599080"/>
                <a:ext cx="730080" cy="46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3" name="Picture 23" descr="Security_Secured01"/>
              <p:cNvPicPr/>
              <p:nvPr/>
            </p:nvPicPr>
            <p:blipFill>
              <a:blip r:embed="rId4"/>
              <a:stretch/>
            </p:blipFill>
            <p:spPr>
              <a:xfrm>
                <a:off x="4524120" y="5060880"/>
                <a:ext cx="449280" cy="722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44" name="Group 24"/>
            <p:cNvGrpSpPr/>
            <p:nvPr/>
          </p:nvGrpSpPr>
          <p:grpSpPr>
            <a:xfrm>
              <a:off x="5208480" y="5060880"/>
              <a:ext cx="730080" cy="1003320"/>
              <a:chOff x="5208480" y="5060880"/>
              <a:chExt cx="730080" cy="1003320"/>
            </a:xfrm>
          </p:grpSpPr>
          <p:pic>
            <p:nvPicPr>
              <p:cNvPr id="445" name="Picture 25" descr="ArbitraryElement01"/>
              <p:cNvPicPr/>
              <p:nvPr/>
            </p:nvPicPr>
            <p:blipFill>
              <a:blip r:embed="rId5"/>
              <a:stretch/>
            </p:blipFill>
            <p:spPr>
              <a:xfrm>
                <a:off x="5208480" y="5599080"/>
                <a:ext cx="730080" cy="46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6" name="Picture 26" descr="Security_Secured01"/>
              <p:cNvPicPr/>
              <p:nvPr/>
            </p:nvPicPr>
            <p:blipFill>
              <a:blip r:embed="rId6"/>
              <a:stretch/>
            </p:blipFill>
            <p:spPr>
              <a:xfrm>
                <a:off x="5337000" y="5060880"/>
                <a:ext cx="448920" cy="722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47" name="Freeform 27"/>
            <p:cNvSpPr/>
            <p:nvPr/>
          </p:nvSpPr>
          <p:spPr>
            <a:xfrm flipH="1">
              <a:off x="5928480" y="5108400"/>
              <a:ext cx="1260360" cy="439920"/>
            </a:xfrm>
            <a:custGeom>
              <a:avLst/>
              <a:gdLst/>
              <a:ahLst/>
              <a:rect l="l" t="t" r="r" b="b"/>
              <a:pathLst>
                <a:path w="746" h="414">
                  <a:moveTo>
                    <a:pt x="0" y="0"/>
                  </a:moveTo>
                  <a:lnTo>
                    <a:pt x="0" y="414"/>
                  </a:lnTo>
                  <a:lnTo>
                    <a:pt x="746" y="414"/>
                  </a:lnTo>
                </a:path>
              </a:pathLst>
            </a:custGeom>
            <a:noFill/>
            <a:ln w="57240">
              <a:solidFill>
                <a:srgbClr val="cc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sp>
        <p:nvSpPr>
          <p:cNvPr id="448" name="AutoShape 28"/>
          <p:cNvSpPr/>
          <p:nvPr/>
        </p:nvSpPr>
        <p:spPr>
          <a:xfrm>
            <a:off x="3408480" y="5946840"/>
            <a:ext cx="338040" cy="393480"/>
          </a:xfrm>
          <a:custGeom>
            <a:avLst/>
            <a:gdLst>
              <a:gd name="textAreaLeft" fmla="*/ 0 w 338040"/>
              <a:gd name="textAreaRight" fmla="*/ 338400 w 33804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w="21600" h="25139">
                <a:moveTo>
                  <a:pt x="0" y="0"/>
                </a:moveTo>
                <a:arcTo wR="0" hR="0" stAng="16200000" swAng="-5400000"/>
                <a:lnTo>
                  <a:pt x="0" y="25139"/>
                </a:lnTo>
                <a:arcTo wR="0" hR="0" stAng="10800000" swAng="-5400000"/>
                <a:lnTo>
                  <a:pt x="21600" y="2513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800080"/>
              </a:gs>
              <a:gs pos="50000">
                <a:srgbClr val="f0f0f0"/>
              </a:gs>
              <a:gs pos="100000">
                <a:srgbClr val="800080"/>
              </a:gs>
            </a:gsLst>
            <a:lin ang="5400000"/>
          </a:gradFill>
          <a:ln w="9360">
            <a:solidFill>
              <a:srgbClr val="292934"/>
            </a:solidFill>
            <a:miter/>
          </a:ln>
          <a:effectLst>
            <a:outerShdw dist="17819" dir="2700000" blurRad="0" rotWithShape="0">
              <a:srgbClr val="29293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 Narrow"/>
              </a:rPr>
              <a:t>3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449" name="Group 29"/>
          <p:cNvGrpSpPr/>
          <p:nvPr/>
        </p:nvGrpSpPr>
        <p:grpSpPr>
          <a:xfrm>
            <a:off x="3979800" y="2227320"/>
            <a:ext cx="2374560" cy="2288520"/>
            <a:chOff x="3979800" y="2227320"/>
            <a:chExt cx="2374560" cy="2288520"/>
          </a:xfrm>
        </p:grpSpPr>
        <p:sp>
          <p:nvSpPr>
            <p:cNvPr id="450" name="Freeform 30"/>
            <p:cNvSpPr/>
            <p:nvPr/>
          </p:nvSpPr>
          <p:spPr>
            <a:xfrm>
              <a:off x="3979800" y="2227320"/>
              <a:ext cx="488880" cy="718920"/>
            </a:xfrm>
            <a:custGeom>
              <a:avLst/>
              <a:gdLst/>
              <a:ahLst/>
              <a:rect l="l" t="t" r="r" b="b"/>
              <a:pathLst>
                <a:path w="308" h="316">
                  <a:moveTo>
                    <a:pt x="0" y="0"/>
                  </a:moveTo>
                  <a:lnTo>
                    <a:pt x="308" y="0"/>
                  </a:lnTo>
                  <a:lnTo>
                    <a:pt x="308" y="316"/>
                  </a:lnTo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51" name="Freeform 31"/>
            <p:cNvSpPr/>
            <p:nvPr/>
          </p:nvSpPr>
          <p:spPr>
            <a:xfrm flipH="1">
              <a:off x="5861520" y="2227320"/>
              <a:ext cx="489240" cy="718920"/>
            </a:xfrm>
            <a:custGeom>
              <a:avLst/>
              <a:gdLst/>
              <a:ahLst/>
              <a:rect l="l" t="t" r="r" b="b"/>
              <a:pathLst>
                <a:path w="308" h="316">
                  <a:moveTo>
                    <a:pt x="0" y="0"/>
                  </a:moveTo>
                  <a:lnTo>
                    <a:pt x="308" y="0"/>
                  </a:lnTo>
                  <a:lnTo>
                    <a:pt x="308" y="316"/>
                  </a:lnTo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grpSp>
          <p:nvGrpSpPr>
            <p:cNvPr id="452" name="Group 32"/>
            <p:cNvGrpSpPr/>
            <p:nvPr/>
          </p:nvGrpSpPr>
          <p:grpSpPr>
            <a:xfrm>
              <a:off x="4020840" y="2948040"/>
              <a:ext cx="2333520" cy="1567800"/>
              <a:chOff x="4020840" y="2948040"/>
              <a:chExt cx="2333520" cy="1567800"/>
            </a:xfrm>
          </p:grpSpPr>
          <p:pic>
            <p:nvPicPr>
              <p:cNvPr id="453" name="Picture 33" descr="Security_Permissions01"/>
              <p:cNvPicPr/>
              <p:nvPr/>
            </p:nvPicPr>
            <p:blipFill>
              <a:blip r:embed="rId7"/>
              <a:stretch/>
            </p:blipFill>
            <p:spPr>
              <a:xfrm>
                <a:off x="4860720" y="3595320"/>
                <a:ext cx="652320" cy="92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4" name="AutoShape 34"/>
              <p:cNvSpPr/>
              <p:nvPr/>
            </p:nvSpPr>
            <p:spPr>
              <a:xfrm>
                <a:off x="4020840" y="2948040"/>
                <a:ext cx="2333520" cy="631440"/>
              </a:xfrm>
              <a:prstGeom prst="roundRect">
                <a:avLst>
                  <a:gd name="adj" fmla="val 4167"/>
                </a:avLst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  <a:effectLst>
                <a:outerShdw dist="17819" dir="2700000" blurRad="0" rotWithShape="0">
                  <a:srgbClr val="afafa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8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  <a:ea typeface="Arial"/>
                  </a:rPr>
                  <a:t>Internet Key Exchange (IKE) </a:t>
                </a:r>
                <a:r>
                  <a:rPr b="1" lang="cs-CZ" sz="1800" spc="-1" strike="noStrike">
                    <a:solidFill>
                      <a:srgbClr val="000000"/>
                    </a:solidFill>
                    <a:latin typeface="Arial Narrow"/>
                    <a:ea typeface="Arial"/>
                  </a:rPr>
                  <a:t>vyjednávání</a:t>
                </a: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sp>
          <p:nvSpPr>
            <p:cNvPr id="455" name="AutoShape 35"/>
            <p:cNvSpPr/>
            <p:nvPr/>
          </p:nvSpPr>
          <p:spPr>
            <a:xfrm>
              <a:off x="4466880" y="3705120"/>
              <a:ext cx="338400" cy="393840"/>
            </a:xfrm>
            <a:custGeom>
              <a:avLst/>
              <a:gdLst>
                <a:gd name="textAreaLeft" fmla="*/ 0 w 338400"/>
                <a:gd name="textAreaRight" fmla="*/ 338760 w 33840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21600" h="25135">
                  <a:moveTo>
                    <a:pt x="0" y="0"/>
                  </a:moveTo>
                  <a:arcTo wR="0" hR="0" stAng="16200000" swAng="-5400000"/>
                  <a:lnTo>
                    <a:pt x="0" y="25135"/>
                  </a:lnTo>
                  <a:arcTo wR="0" hR="0" stAng="10800000" swAng="-5400000"/>
                  <a:lnTo>
                    <a:pt x="21600" y="2513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800080"/>
                </a:gs>
                <a:gs pos="50000">
                  <a:srgbClr val="f0f0f0"/>
                </a:gs>
                <a:gs pos="100000">
                  <a:srgbClr val="800080"/>
                </a:gs>
              </a:gsLst>
              <a:lin ang="5400000"/>
            </a:gradFill>
            <a:ln w="9360">
              <a:solidFill>
                <a:srgbClr val="292934"/>
              </a:solidFill>
              <a:miter/>
            </a:ln>
            <a:effectLst>
              <a:outerShdw dist="17819" dir="2700000" blurRad="0" rotWithShape="0">
                <a:srgbClr val="29293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33"/>
                  </a:solidFill>
                  <a:latin typeface="Arial Narrow"/>
                </a:rPr>
                <a:t>2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456" name="Group 61"/>
          <p:cNvGrpSpPr/>
          <p:nvPr/>
        </p:nvGrpSpPr>
        <p:grpSpPr>
          <a:xfrm>
            <a:off x="2313000" y="1434960"/>
            <a:ext cx="5766840" cy="1418400"/>
            <a:chOff x="2313000" y="1434960"/>
            <a:chExt cx="5766840" cy="1418400"/>
          </a:xfrm>
        </p:grpSpPr>
        <p:grpSp>
          <p:nvGrpSpPr>
            <p:cNvPr id="457" name="Group 60"/>
            <p:cNvGrpSpPr/>
            <p:nvPr/>
          </p:nvGrpSpPr>
          <p:grpSpPr>
            <a:xfrm>
              <a:off x="2313000" y="1434960"/>
              <a:ext cx="5766840" cy="1418400"/>
              <a:chOff x="2313000" y="1434960"/>
              <a:chExt cx="5766840" cy="1418400"/>
            </a:xfrm>
          </p:grpSpPr>
          <p:grpSp>
            <p:nvGrpSpPr>
              <p:cNvPr id="458" name="Group 59"/>
              <p:cNvGrpSpPr/>
              <p:nvPr/>
            </p:nvGrpSpPr>
            <p:grpSpPr>
              <a:xfrm>
                <a:off x="2313000" y="1834920"/>
                <a:ext cx="5766840" cy="1018440"/>
                <a:chOff x="2313000" y="1834920"/>
                <a:chExt cx="5766840" cy="1018440"/>
              </a:xfrm>
            </p:grpSpPr>
            <p:pic>
              <p:nvPicPr>
                <p:cNvPr id="459" name="Picture 38" descr="Policy_Writing01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352680" y="1834920"/>
                  <a:ext cx="703440" cy="990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0" name="Picture 39" descr="Policy_Writing01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268680" y="1863000"/>
                  <a:ext cx="703440" cy="990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1" name="AutoShape 40"/>
                <p:cNvSpPr/>
                <p:nvPr/>
              </p:nvSpPr>
              <p:spPr>
                <a:xfrm>
                  <a:off x="6752160" y="2194200"/>
                  <a:ext cx="1327680" cy="396360"/>
                </a:xfrm>
                <a:prstGeom prst="roundRect">
                  <a:avLst>
                    <a:gd name="adj" fmla="val 4167"/>
                  </a:avLst>
                </a:prstGeom>
                <a:solidFill>
                  <a:srgbClr val="ffffff"/>
                </a:solidFill>
                <a:ln w="9360">
                  <a:solidFill>
                    <a:srgbClr val="4d4d4d"/>
                  </a:solidFill>
                  <a:miter/>
                </a:ln>
                <a:effectLst>
                  <a:outerShdw dist="17819" dir="2700000" blurRad="0" rotWithShape="0">
                    <a:srgbClr val="afafa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Narrow"/>
                      <a:ea typeface="Arial"/>
                    </a:rPr>
                    <a:t>IPSec Policy</a:t>
                  </a: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462" name="AutoShape 41"/>
                <p:cNvSpPr/>
                <p:nvPr/>
              </p:nvSpPr>
              <p:spPr>
                <a:xfrm>
                  <a:off x="2313000" y="2194200"/>
                  <a:ext cx="1328040" cy="396360"/>
                </a:xfrm>
                <a:prstGeom prst="roundRect">
                  <a:avLst>
                    <a:gd name="adj" fmla="val 4167"/>
                  </a:avLst>
                </a:prstGeom>
                <a:solidFill>
                  <a:srgbClr val="ffffff"/>
                </a:solidFill>
                <a:ln w="9360">
                  <a:solidFill>
                    <a:srgbClr val="4d4d4d"/>
                  </a:solidFill>
                  <a:miter/>
                </a:ln>
                <a:effectLst>
                  <a:outerShdw dist="17819" dir="2700000" blurRad="0" rotWithShape="0">
                    <a:srgbClr val="afafa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Narrow"/>
                      <a:ea typeface="Arial"/>
                    </a:rPr>
                    <a:t>IPSec Policy</a:t>
                  </a: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3" name="Group 58"/>
              <p:cNvGrpSpPr/>
              <p:nvPr/>
            </p:nvGrpSpPr>
            <p:grpSpPr>
              <a:xfrm>
                <a:off x="2398680" y="1434960"/>
                <a:ext cx="5012280" cy="717120"/>
                <a:chOff x="2398680" y="1434960"/>
                <a:chExt cx="5012280" cy="717120"/>
              </a:xfrm>
            </p:grpSpPr>
            <p:sp>
              <p:nvSpPr>
                <p:cNvPr id="464" name="AutoShape 43"/>
                <p:cNvSpPr/>
                <p:nvPr/>
              </p:nvSpPr>
              <p:spPr>
                <a:xfrm>
                  <a:off x="2398680" y="1563120"/>
                  <a:ext cx="337320" cy="412920"/>
                </a:xfrm>
                <a:custGeom>
                  <a:avLst/>
                  <a:gdLst>
                    <a:gd name="textAreaLeft" fmla="*/ 0 w 337320"/>
                    <a:gd name="textAreaRight" fmla="*/ 337680 w 337320"/>
                    <a:gd name="textAreaTop" fmla="*/ 0 h 412920"/>
                    <a:gd name="textAreaBottom" fmla="*/ 413280 h 412920"/>
                  </a:gdLst>
                  <a:ahLst/>
                  <a:rect l="textAreaLeft" t="textAreaTop" r="textAreaRight" b="textAreaBottom"/>
                  <a:pathLst>
                    <a:path w="21600" h="26436">
                      <a:moveTo>
                        <a:pt x="0" y="0"/>
                      </a:moveTo>
                      <a:arcTo wR="0" hR="0" stAng="16200000" swAng="-5400000"/>
                      <a:lnTo>
                        <a:pt x="0" y="26436"/>
                      </a:lnTo>
                      <a:arcTo wR="0" hR="0" stAng="10800000" swAng="-5400000"/>
                      <a:lnTo>
                        <a:pt x="21600" y="26436"/>
                      </a:lnTo>
                      <a:arcTo wR="0" hR="0" stAng="16200000" swAng="-5400000"/>
                      <a:lnTo>
                        <a:pt x="21600" y="0"/>
                      </a:lnTo>
                      <a:arcTo wR="0" hR="0" stAng="1080000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800080"/>
                    </a:gs>
                    <a:gs pos="50000">
                      <a:srgbClr val="f0f0f0"/>
                    </a:gs>
                    <a:gs pos="100000">
                      <a:srgbClr val="800080"/>
                    </a:gs>
                  </a:gsLst>
                  <a:lin ang="5400000"/>
                </a:gradFill>
                <a:ln w="9360">
                  <a:solidFill>
                    <a:srgbClr val="292934"/>
                  </a:solidFill>
                  <a:miter/>
                </a:ln>
                <a:effectLst>
                  <a:outerShdw dist="17819" dir="2700000" blurRad="0" rotWithShape="0">
                    <a:srgbClr val="292934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990033"/>
                      </a:solidFill>
                      <a:latin typeface="Arial Narrow"/>
                    </a:rPr>
                    <a:t>1</a:t>
                  </a:r>
                  <a:endParaRPr b="0" lang="en-US" sz="24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grpSp>
              <p:nvGrpSpPr>
                <p:cNvPr id="465" name="Group 57"/>
                <p:cNvGrpSpPr/>
                <p:nvPr/>
              </p:nvGrpSpPr>
              <p:grpSpPr>
                <a:xfrm>
                  <a:off x="2922840" y="1434960"/>
                  <a:ext cx="4488120" cy="717120"/>
                  <a:chOff x="2922840" y="1434960"/>
                  <a:chExt cx="4488120" cy="717120"/>
                </a:xfrm>
              </p:grpSpPr>
              <p:sp>
                <p:nvSpPr>
                  <p:cNvPr id="466" name="Freeform 45"/>
                  <p:cNvSpPr/>
                  <p:nvPr/>
                </p:nvSpPr>
                <p:spPr>
                  <a:xfrm>
                    <a:off x="2922840" y="1596240"/>
                    <a:ext cx="4488120" cy="55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32" h="432">
                        <a:moveTo>
                          <a:pt x="0" y="432"/>
                        </a:moveTo>
                        <a:lnTo>
                          <a:pt x="0" y="0"/>
                        </a:lnTo>
                        <a:lnTo>
                          <a:pt x="2832" y="0"/>
                        </a:lnTo>
                        <a:lnTo>
                          <a:pt x="2832" y="432"/>
                        </a:lnTo>
                      </a:path>
                    </a:pathLst>
                  </a:custGeom>
                  <a:noFill/>
                  <a:ln w="57240">
                    <a:solidFill>
                      <a:srgbClr val="cc0000"/>
                    </a:solidFill>
                    <a:round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AutoShape 46"/>
                  <p:cNvSpPr/>
                  <p:nvPr/>
                </p:nvSpPr>
                <p:spPr>
                  <a:xfrm>
                    <a:off x="4330800" y="1434960"/>
                    <a:ext cx="1705320" cy="399600"/>
                  </a:xfrm>
                  <a:prstGeom prst="roundRect">
                    <a:avLst>
                      <a:gd name="adj" fmla="val 4167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afafaf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 Narrow"/>
                        <a:ea typeface="Arial"/>
                      </a:rPr>
                      <a:t>MMC</a:t>
                    </a: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</p:grpSp>
        </p:grpSp>
        <p:pic>
          <p:nvPicPr>
            <p:cNvPr id="468" name="Picture 56" descr="2DomainWithOus01"/>
            <p:cNvPicPr/>
            <p:nvPr/>
          </p:nvPicPr>
          <p:blipFill>
            <a:blip r:embed="rId10"/>
            <a:stretch/>
          </p:blipFill>
          <p:spPr>
            <a:xfrm>
              <a:off x="4664520" y="1881360"/>
              <a:ext cx="1077120" cy="93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Arial Narrow"/>
              </a:rPr>
              <a:t>Konfigurace IPSec u MS Windows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53000" indent="-15300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Filtr – definice parametrů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383760" indent="-1530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IP adresa 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383760" indent="-1530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IP protoko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383760" indent="-1530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Zdrojový a cílový TCP a UDP por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53000" indent="-15300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Akce filtru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383760" indent="-1530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Povolit přenos i nezabezpečených paketů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383760" indent="-1530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Nezabezpečené pakety blokovat (zahazovat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383760" indent="-1530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Aktivovat zabezpečený režim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53000" indent="-15300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Autentizace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383760" indent="-1530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Kerberos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383760" indent="-1530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Předsdílený key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383760" indent="-1530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Certifikáty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Možnosti autentizace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Kerberos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Integrován do Active directory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Předsdílený key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Textový řetězec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Neexistuje spolehlivý a jednoduchý mechanismus zneplatnění 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Použití pouze pro testovací účely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Certifikáty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Nutná přítomnost c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ertifi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kační a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utority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Kompromitované údaje lze zneplatnit (r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evocation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Testování konfigurace IPSec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Konfigurace: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Host to Host 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AH, ESP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Autentizace: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Předsdílený klíč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Certifikát (vlastní CA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Nástroje: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IPSec monitor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Network monitor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Wireshark apod.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Přehled vlastností protokolu IPSec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80360" indent="-18036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IPSec – rámec otevřených standardů pro zajištění bezpečné komunikace přes sítě IP prostřednictvím využívání kryptografických bezpečnostních služeb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0360" indent="-18036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Pracuje na síťové vrstvě referenčního modelu síťové architektury ISO/OSI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0360" indent="-18036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Vyvinut primárně pro IPv6, kde bývala jeho podpora povinná každým uzlem – už není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0360" indent="-18036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Implementován i pro IPv4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0360" indent="-18036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Nelze použít pro přenos dat utajovaných dle zákona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0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Konfigurace IPSec u směrovačů Cisco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Konfigurace ISAKMP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Internet Security Association and Key Management Protocol 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(zabývá se všemi aspekty SA a zajišťuje výměnu kryptografických klíčů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Konfigurace transformační sady IPSec 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Konfigurace krypto ACL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Access Control List – rozhoduje o použití IPSEc pro každý pake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Konfigurace krypto mapy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Aplikace krypto mapy na rozhraní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Konfigurace ISAKMP 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224000" y="2536560"/>
            <a:ext cx="79200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crypto isakmp policy 10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 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encr aes 256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 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authentication pre-share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 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group 5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 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lifetime 3600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crypto isakmp key cisco address</a:t>
            </a:r>
            <a:r>
              <a:rPr b="1" lang="cs-CZ" sz="2400" spc="-1" strike="noStrike">
                <a:solidFill>
                  <a:srgbClr val="292934"/>
                </a:solidFill>
                <a:latin typeface="Courier New"/>
              </a:rPr>
              <a:t> 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192.1.1.20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Konfigurace transformační sady IPSec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607760" y="3257640"/>
            <a:ext cx="7427880" cy="16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151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crypto ipsec transform-set</a:t>
            </a:r>
            <a:r>
              <a:rPr b="1" lang="cs-CZ" sz="2400" spc="-1" strike="noStrike">
                <a:solidFill>
                  <a:srgbClr val="292934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33cccc"/>
                </a:solidFill>
                <a:latin typeface="Courier New"/>
              </a:rPr>
              <a:t>MUJTRANS</a:t>
            </a:r>
            <a:br>
              <a:rPr sz="2400"/>
            </a:b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ah-sha-hmac esp-aes 256 esp-sha-hmac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51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51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(jeden dlouhý řádek, nově se někdy výstižněji označuje „IPSec Proposals“)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Konfigurace krypto ACL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617840" y="3255840"/>
            <a:ext cx="66261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1494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access-list </a:t>
            </a:r>
            <a:r>
              <a:rPr b="1" lang="af-ZA" sz="2400" spc="-1" strike="noStrike">
                <a:solidFill>
                  <a:srgbClr val="993366"/>
                </a:solidFill>
                <a:latin typeface="Courier New"/>
              </a:rPr>
              <a:t>101</a:t>
            </a:r>
            <a:r>
              <a:rPr b="0" lang="cs-CZ" sz="2400" spc="-1" strike="noStrike">
                <a:solidFill>
                  <a:srgbClr val="292934"/>
                </a:solidFill>
                <a:latin typeface="Courier New"/>
              </a:rPr>
              <a:t> 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permit gre host </a:t>
            </a:r>
            <a:r>
              <a:rPr b="1" lang="cs-CZ" sz="2400" spc="-1" strike="noStrike">
                <a:solidFill>
                  <a:srgbClr val="292934"/>
                </a:solidFill>
                <a:latin typeface="Courier New"/>
              </a:rPr>
              <a:t>	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192.1.1.40 host 192.1.1.20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494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49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(jeden dlouhý řádek, protokol dle potřeby – zde GRE, ale třeba IP, ...)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Konfigurace krypto mapy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607760" y="3284280"/>
            <a:ext cx="742788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crypto map </a:t>
            </a:r>
            <a:r>
              <a:rPr b="1" lang="cs-CZ" sz="2400" spc="-1" strike="noStrike">
                <a:solidFill>
                  <a:srgbClr val="0000ff"/>
                </a:solidFill>
                <a:latin typeface="Courier New"/>
              </a:rPr>
              <a:t>MYMAP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 10 ipsec-isakmp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 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set peer 192.1.1.20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 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set transform-set </a:t>
            </a:r>
            <a:r>
              <a:rPr b="1" lang="cs-CZ" sz="2400" spc="-1" strike="noStrike">
                <a:solidFill>
                  <a:srgbClr val="33cccc"/>
                </a:solidFill>
                <a:latin typeface="Courier New"/>
              </a:rPr>
              <a:t>MUJTRANS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 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match address </a:t>
            </a:r>
            <a:r>
              <a:rPr b="1" lang="af-ZA" sz="2400" spc="-1" strike="noStrike">
                <a:solidFill>
                  <a:srgbClr val="993366"/>
                </a:solidFill>
                <a:latin typeface="Courier New"/>
              </a:rPr>
              <a:t>101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d2533c"/>
                </a:solidFill>
                <a:latin typeface="Cambria"/>
              </a:rPr>
              <a:t>Aplikace krypto mapy na rozhraní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547640" y="3327120"/>
            <a:ext cx="7428240" cy="17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34"/>
                </a:solidFill>
                <a:latin typeface="Courier New"/>
              </a:rPr>
              <a:t>interface serial0/0/1 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34"/>
                </a:solidFill>
                <a:latin typeface="Courier New"/>
              </a:rPr>
              <a:t>R3(config-if)# crypto map </a:t>
            </a:r>
            <a:r>
              <a:rPr b="1" lang="cs-CZ" sz="2400" spc="-1" strike="noStrike">
                <a:solidFill>
                  <a:srgbClr val="0000ff"/>
                </a:solidFill>
                <a:latin typeface="Courier New"/>
              </a:rPr>
              <a:t>MYMAP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86992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Děkuji za pozornost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Služby a složení protokolu IPSec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IPSec poskytuje následující služby: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Integrita v prostředí nespojované komunikace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Ověřování původu d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Ochrana proti opakovaným vysíláním téhož paketu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Důvěrnost (šifrování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Protokoly tvořící základ IPSec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Authentication Header (AH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Encapsulated  Security Payload (ESP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Internet Key Exchange (IKE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Historie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První popis v RFC 1825, rok 1995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První implementace v BSDI, rok 1995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Současný stav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RFC 2401 – přehled architektury (1998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RFC 2402 – popis protokolu AH (Authentication Header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RFC 2406 – popis protokolu ESP (Encapsulation Security Payload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RFC 2408 – popis protokolu IKE (Internet Key Exchange) – správa klíčů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Výhody a nevýhody IPSec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58560" y="1600200"/>
            <a:ext cx="78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Výhody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Transparentnost (netřeba modifikovat protokoly vyšších vrstev)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Škálovatelnost (od jednotlivých PC po velké sítě)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Aplikační nezávislost, lze zabezpečit libovolný protokol využívající protokol IP (telnet, ftp)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Široká podpora mezi výrobci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Nevýhody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Složitost – citlivost na některé útoky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Větší režie, vadící u krátkých paketů (např. zvuk)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Protokol AH (Authentication Header)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76760" indent="-17676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Protokol AH zajišťuje tyto funkce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43160" indent="-1767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Integritu d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43160" indent="-1767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Autentizaci každého IP paketu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43160" indent="-1767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Ochranu před opakovaným vyslání téhož paketu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76760" indent="-17676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Vlastnosti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43160" indent="-1767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Nešifruje data, ale nelze je změni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43160" indent="-1767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IP záhlaví i data jsou podepsány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43160" indent="-1767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Zabraňuje útoku typu podvržení adresy sledováním pořadových čís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43160" indent="-1767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Používá algoritmy HMAC (Hash Message Authentication Code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43160" indent="-1767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Komunikující strany musí sdílet tajný klíč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d2533c"/>
                </a:solidFill>
                <a:latin typeface="Cambria"/>
              </a:rPr>
              <a:t>Protokol ESP (</a:t>
            </a:r>
            <a:r>
              <a:rPr b="0" lang="en-US" sz="3600" spc="-1" strike="noStrike">
                <a:solidFill>
                  <a:srgbClr val="d2533c"/>
                </a:solidFill>
                <a:latin typeface="Cambria"/>
              </a:rPr>
              <a:t>Encapsulated  Security Payload </a:t>
            </a:r>
            <a:r>
              <a:rPr b="0" lang="cs-CZ" sz="3600" spc="-1" strike="noStrike">
                <a:solidFill>
                  <a:srgbClr val="d2533c"/>
                </a:solidFill>
                <a:latin typeface="Cambria"/>
              </a:rPr>
              <a:t>) </a:t>
            </a:r>
            <a:endParaRPr b="0" lang="en-US" sz="3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Protokol ESP poskytuje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Důvěrnost d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Určitá důvěrnost toku dat (maskování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Volitelně podporu autentizace - AH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Vlastnosti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Lze použít souběžně s AH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Podporuje řadu šifrovacích algoritmů, módů, atd.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2" marL="730080" indent="-18252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34"/>
                </a:solidFill>
                <a:latin typeface="Cambria"/>
              </a:rPr>
              <a:t>DES, 3DES, RC5, IDEA, CAST a další </a:t>
            </a:r>
            <a:endParaRPr b="0" lang="en-US" sz="20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Protokol IKE (</a:t>
            </a:r>
            <a:r>
              <a:rPr b="0" lang="en-US" sz="4000" spc="-1" strike="noStrike">
                <a:solidFill>
                  <a:srgbClr val="d2533c"/>
                </a:solidFill>
                <a:latin typeface="Cambria"/>
              </a:rPr>
              <a:t>Internet Key Exchange </a:t>
            </a: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)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Protokol IKE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Kryptografická infrastruktura zajišťující vyjednávání o výměně klíčů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Ustaví Security Associations (SAs) mezi IPSec partnery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Autentizuje IPSec partnery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Security Associations (SA) - </a:t>
            </a:r>
            <a:r>
              <a:rPr b="0" i="1" lang="cs-CZ" sz="2800" spc="-1" strike="noStrike">
                <a:solidFill>
                  <a:srgbClr val="800080"/>
                </a:solidFill>
                <a:latin typeface="Cambria"/>
              </a:rPr>
              <a:t>jednosměrný</a:t>
            </a:r>
            <a:r>
              <a:rPr b="0" i="1" lang="cs-CZ" sz="2800" spc="-1" strike="noStrike">
                <a:solidFill>
                  <a:srgbClr val="292934"/>
                </a:solidFill>
                <a:latin typeface="Cambria"/>
              </a:rPr>
              <a:t> </a:t>
            </a: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vztah mezi odesílající a přijímající stranou; parametry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Security Parameters Index (metoda autentizace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Cílová IP adresa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Identifikátor bezpečnostního protokolu (AH či ESP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Použití protokolů IPSec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156960" indent="-15696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Cambria"/>
              </a:rPr>
              <a:t>Authentication Header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393120" indent="-15696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Požaduje se připojení k zaručenému adresátovi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393120" indent="-15696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Musí být ověřován zdroj d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393120" indent="-15696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Data sama o sobě nejsou citlivá, riziko zachycení paketů a potenciální kompromitace je nízké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56960" indent="-15696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Cambria"/>
              </a:rPr>
              <a:t>Encapsulation Security Payload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393120" indent="-15696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Utajení p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řenášen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ých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 informac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í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393120" indent="-15696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Pouze požaduje-li se ochrana d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56960" indent="-15696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P</a:t>
            </a:r>
            <a:r>
              <a:rPr b="0" lang="en-US" sz="2800" spc="-1" strike="noStrike">
                <a:solidFill>
                  <a:srgbClr val="292934"/>
                </a:solidFill>
                <a:latin typeface="Cambria"/>
              </a:rPr>
              <a:t>rotokoly AH a ESP</a:t>
            </a: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 současně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393120" indent="-15696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Musí-li být data chráněna a je nutná autentizace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393120" indent="-15696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Pokud zvýšená bezpečnost kompenzuje pokles výkonnosti vyplývající z další režie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5T09:15:07Z</dcterms:created>
  <dc:creator/>
  <dc:description/>
  <dc:language>en-US</dc:language>
  <cp:lastModifiedBy/>
  <dcterms:modified xsi:type="dcterms:W3CDTF">2022-04-03T19:24:49Z</dcterms:modified>
  <cp:revision>2</cp:revision>
  <dc:subject/>
  <dc:title>NADPIS</dc:title>
</cp:coreProperties>
</file>