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0B8-4575-443B-9188-41F8D119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A34-5655-4AD3-BBF5-0928F8CC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E88C-522D-4DE4-BEF8-6BA7080C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67E-FEF4-43DB-9938-A7B26DC3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896E-58AB-45AD-8988-F4A89E9D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79B0-3AC4-4DE5-B838-8A30ED87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5936-1CE0-4E07-BD2F-D1CAC361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9BFF-206A-466C-BA55-FA582EB1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4CC0-CFB0-41A8-AEEF-12106D67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0AAB-F3C5-452E-9E90-97D2EE6E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9A46-CDA4-4739-9F60-4561EA77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9186-5A32-437E-941B-CA1E863B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1CB1-C265-4636-BE14-BF966078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D076-0A18-4554-95E8-AD181978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7551-6B15-481F-A291-1F94FF24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1815-F427-49BD-B1DD-538DE1CA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85EB-7CE7-43DF-BFB1-1C27AAE1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CF5E0-73FA-4C8E-AD8E-C34AECF8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64059-457B-4EA4-8BFD-B4303880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DCA0A-BC62-4841-BCE8-8C80D06E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55E09-2965-4564-BBA0-4D6FCF91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82C4F-CF9D-44F6-A196-0D10DA29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8FD-D838-4410-BBEC-99D657F6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C45B5-EDAC-4627-87FC-231F15CE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09A1B-8D85-49AF-9941-E94E5548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FBD27-ABD2-4796-9591-9D91E6A2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BD8F6-21CE-43DF-911A-571B8036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112C3-E628-4861-A9B5-88BB0EC6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7303F-B236-4799-A220-7F28C302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6FC07-039F-4D56-86AD-4FB69AB7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5B0CF-1122-452E-915A-55DBA23C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5E862-FD7E-4CB6-A1B2-692F9E6E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3B383-DEC8-4390-A449-3D8B01EF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8CF2-09E3-4C67-B60F-381F565F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B452A-081B-4D02-874B-4D0B083F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98EB8-1A85-4BE4-BEAC-908F39CC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78525-35C0-42D1-8DB4-A9A5DF6E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6F9EE-D77E-44D8-9183-7B4A6507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EDCA2-3CBA-4BD7-AF01-29E2D65B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FB1EB-C25F-4761-8AB7-843893B5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3F5AB-5327-40B9-82DE-CAF40DCD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27583-C292-4BDE-8A4A-19BD438F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CC3FB-764C-4E57-A8BB-41337746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BA6A1-A606-4AA5-A868-0CE80FBB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4A8A-5D83-4E2F-A375-A5CF15DB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0A76B-14C4-4517-BBB3-1F0FCA56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BA570-7AF9-48FB-AA4E-FF7507B9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70761-D28E-4ED0-AE0C-279EB82B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62808-4B2D-4EB6-B9EE-60EF90D1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609E4-3E37-4389-A918-6A5FEAD4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11585-B764-4657-99B2-CBE9DD07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D49A5-6C5E-41FC-8083-BFAAADB8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AA86C-DF52-4EBE-A5A5-88731EAC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EC11B-7172-4EDC-9950-453342F1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A03E0-5406-4E54-B029-D06AB469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ACC-55A7-4FF0-9C7B-EE787A70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F8DE8-049C-4DDE-8BB9-266FD379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E8288-1991-4A9F-AD52-454EFEDC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DFA85-2A43-4460-A262-D67E6B93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7B36B-8A76-4B0B-AAB6-9F10267C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2A79F-6F66-4252-8C48-FDAF1655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30B64-B220-4934-B580-CD06F4F5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F7D96-8131-4317-86F5-8337AE53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BD241-6828-43DF-8A84-69407907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30E98-90C1-4044-9FE1-BF6C79B5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80402-0E33-4ADE-9DDA-352B20EF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67A5-F1C0-4567-B8FD-F61AA6BC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7ACA7-1BA3-4964-B7F6-5B5A7923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13C16-082D-48FA-9203-58DA63F2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EC877-292E-438C-A3A3-0AB23F40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BFE86-17A7-481F-816F-476BC73D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F32BD-8BE3-45D1-B78B-2E01EFFF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C306A-9AF9-42E4-98D1-8BC2D501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3A17A-3BC5-44AA-931C-7CD71423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B2430-7980-4D13-9074-A1DA3574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7E0CC-2658-4EB3-89F7-347FD595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82F0B-2847-43FC-96CE-A1222A06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F320-6B04-476B-AC1E-D7B50483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DA162-AC3B-4A41-A75C-69A753B2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EED37-2EED-474D-85C6-C43775FA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97F83-2DD1-4AB4-AF21-C5C18477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D6C2F-28A2-4964-AD5D-1C15AE35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89B62-84CD-4DE6-B644-185A5F04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1B5F-FD20-4544-9AD9-ED598D44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E72A-7F0A-45DE-99D0-998BF89B8102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Obrázek 2" descr=""/>
          <p:cNvPicPr/>
          <p:nvPr/>
        </p:nvPicPr>
        <p:blipFill>
          <a:blip r:embed="rId2"/>
          <a:stretch/>
        </p:blipFill>
        <p:spPr>
          <a:xfrm>
            <a:off x="1962000" y="6021360"/>
            <a:ext cx="5220000" cy="8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DB5D-F981-4201-BD93-A17FA6BA2056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1A2E-EDC5-4D29-A0D6-F942C9CAA8E1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9CE7-9F6A-444D-8444-346202F07E23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85B4-A686-4773-B8AE-37BCCD5B7CE5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4D63-4106-48A9-95BC-C6422154C71A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C91F-1058-4D77-B1AB-A654E69FE1F3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d2533c"/>
                </a:solidFill>
                <a:latin typeface="Cambria"/>
              </a:rPr>
              <a:t>PROTOKOL IPSEC</a:t>
            </a:r>
            <a:endParaRPr b="0" lang="en-US" sz="54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400" spc="-1" strike="noStrike">
              <a:solidFill>
                <a:srgbClr val="57576e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Scénáře nasazení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4960" indent="-1749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PSec může být nasazen takto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-1749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Tři základní varianty konfigurac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8840" indent="-1749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Host to Hos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8840" indent="-1749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Gateway to Gateway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 (propojení sítí - tunel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8840" indent="-1749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Host to Gatewa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grpSp>
        <p:nvGrpSpPr>
          <p:cNvPr id="312" name="Group 372"/>
          <p:cNvGrpSpPr/>
          <p:nvPr/>
        </p:nvGrpSpPr>
        <p:grpSpPr>
          <a:xfrm>
            <a:off x="1476360" y="2133720"/>
            <a:ext cx="7500600" cy="718920"/>
            <a:chOff x="1476360" y="2133720"/>
            <a:chExt cx="7500600" cy="718920"/>
          </a:xfrm>
        </p:grpSpPr>
        <p:sp>
          <p:nvSpPr>
            <p:cNvPr id="313" name="AutoShape 367"/>
            <p:cNvSpPr/>
            <p:nvPr/>
          </p:nvSpPr>
          <p:spPr>
            <a:xfrm>
              <a:off x="1497240" y="2133720"/>
              <a:ext cx="7479720" cy="7171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eefd7"/>
                </a:gs>
                <a:gs pos="100000">
                  <a:srgbClr val="d5d69c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63040" rIns="90000" tIns="46800" bIns="46800" anchor="ctr">
              <a:normAutofit/>
            </a:bodyPr>
            <a:p>
              <a:pPr marL="260280" indent="4680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Ochrana komunikace mezi dvěma koncovými počítači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14" name="AutoShape 368"/>
            <p:cNvSpPr/>
            <p:nvPr/>
          </p:nvSpPr>
          <p:spPr>
            <a:xfrm>
              <a:off x="1476360" y="2133720"/>
              <a:ext cx="1636560" cy="7189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aaba0"/>
                </a:gs>
                <a:gs pos="100000">
                  <a:srgbClr val="f6d9d4"/>
                </a:gs>
              </a:gsLst>
              <a:lin ang="2700000"/>
            </a:gra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Transport</a:t>
              </a:r>
              <a:r>
                <a:rPr b="1" lang="cs-CZ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ní</a:t>
              </a:r>
              <a:r>
                <a:rPr b="1" lang="en-US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 m</a:t>
              </a:r>
              <a:r>
                <a:rPr b="1" lang="cs-CZ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ód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15" name="Group 373"/>
          <p:cNvGrpSpPr/>
          <p:nvPr/>
        </p:nvGrpSpPr>
        <p:grpSpPr>
          <a:xfrm>
            <a:off x="1476360" y="3068640"/>
            <a:ext cx="7524360" cy="720720"/>
            <a:chOff x="1476360" y="3068640"/>
            <a:chExt cx="7524360" cy="720720"/>
          </a:xfrm>
        </p:grpSpPr>
        <p:sp>
          <p:nvSpPr>
            <p:cNvPr id="316" name="AutoShape 374"/>
            <p:cNvSpPr/>
            <p:nvPr/>
          </p:nvSpPr>
          <p:spPr>
            <a:xfrm>
              <a:off x="1497240" y="3068640"/>
              <a:ext cx="7503480" cy="7189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eefd7"/>
                </a:gs>
                <a:gs pos="100000">
                  <a:srgbClr val="d5d69c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63040" rIns="90000" tIns="46800" bIns="46800" anchor="ctr">
              <a:normAutofit/>
            </a:bodyPr>
            <a:p>
              <a:pPr marL="264960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Ochrana komunikace mezi koncovým počítačem a sítí nebo mezi dvěma sítěmi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17" name="AutoShape 375"/>
            <p:cNvSpPr/>
            <p:nvPr/>
          </p:nvSpPr>
          <p:spPr>
            <a:xfrm>
              <a:off x="1476360" y="3068640"/>
              <a:ext cx="1641600" cy="7207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aaba0"/>
                </a:gs>
                <a:gs pos="100000">
                  <a:srgbClr val="f6d9d4"/>
                </a:gs>
              </a:gsLst>
              <a:lin ang="2700000"/>
            </a:gra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Tunel</a:t>
              </a:r>
              <a:r>
                <a:rPr b="1" lang="cs-CZ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ovací</a:t>
              </a:r>
              <a:r>
                <a:rPr b="1" lang="en-US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 m</a:t>
              </a:r>
              <a:r>
                <a:rPr b="1" lang="cs-CZ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ód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ransportní mód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2378160" y="3700440"/>
            <a:ext cx="83808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3216240" y="3700440"/>
            <a:ext cx="83808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3362760" y="383868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2557800" y="385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1332000" y="370044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1258920" y="371808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5959440" y="369900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6797520" y="3699000"/>
            <a:ext cx="83844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7" name="Text Box 12"/>
          <p:cNvSpPr/>
          <p:nvPr/>
        </p:nvSpPr>
        <p:spPr>
          <a:xfrm>
            <a:off x="6950520" y="38671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5977440" y="369396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4716360" y="3699000"/>
            <a:ext cx="1243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0" name="Text Box 15"/>
          <p:cNvSpPr/>
          <p:nvPr/>
        </p:nvSpPr>
        <p:spPr>
          <a:xfrm>
            <a:off x="4825080" y="376704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1" name="Rectangle 16"/>
          <p:cNvSpPr/>
          <p:nvPr/>
        </p:nvSpPr>
        <p:spPr>
          <a:xfrm>
            <a:off x="7635960" y="369900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2" name="Text Box 17"/>
          <p:cNvSpPr/>
          <p:nvPr/>
        </p:nvSpPr>
        <p:spPr>
          <a:xfrm>
            <a:off x="7679160" y="37004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3" name="Rectangle 19"/>
          <p:cNvSpPr/>
          <p:nvPr/>
        </p:nvSpPr>
        <p:spPr>
          <a:xfrm>
            <a:off x="3419640" y="2143080"/>
            <a:ext cx="130464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4" name="Rectangle 20"/>
          <p:cNvSpPr/>
          <p:nvPr/>
        </p:nvSpPr>
        <p:spPr>
          <a:xfrm>
            <a:off x="4724280" y="2143080"/>
            <a:ext cx="83844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5" name="Text Box 21"/>
          <p:cNvSpPr/>
          <p:nvPr/>
        </p:nvSpPr>
        <p:spPr>
          <a:xfrm>
            <a:off x="4797360" y="231948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6" name="Text Box 22"/>
          <p:cNvSpPr/>
          <p:nvPr/>
        </p:nvSpPr>
        <p:spPr>
          <a:xfrm>
            <a:off x="3480120" y="214488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7" name="Text Box 23"/>
          <p:cNvSpPr/>
          <p:nvPr/>
        </p:nvSpPr>
        <p:spPr>
          <a:xfrm>
            <a:off x="3637080" y="177336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Běžný IP pake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8" name="Text Box 24"/>
          <p:cNvSpPr/>
          <p:nvPr/>
        </p:nvSpPr>
        <p:spPr>
          <a:xfrm>
            <a:off x="1620720" y="327816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9" name="Text Box 25"/>
          <p:cNvSpPr/>
          <p:nvPr/>
        </p:nvSpPr>
        <p:spPr>
          <a:xfrm>
            <a:off x="5219640" y="3284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0" name="Rectangle 26"/>
          <p:cNvSpPr/>
          <p:nvPr/>
        </p:nvSpPr>
        <p:spPr>
          <a:xfrm>
            <a:off x="3387600" y="5349960"/>
            <a:ext cx="83844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1" name="Text Box 29"/>
          <p:cNvSpPr/>
          <p:nvPr/>
        </p:nvSpPr>
        <p:spPr>
          <a:xfrm>
            <a:off x="3567240" y="5500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2" name="Rectangle 30"/>
          <p:cNvSpPr/>
          <p:nvPr/>
        </p:nvSpPr>
        <p:spPr>
          <a:xfrm>
            <a:off x="2341440" y="534996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3" name="Text Box 31"/>
          <p:cNvSpPr/>
          <p:nvPr/>
        </p:nvSpPr>
        <p:spPr>
          <a:xfrm>
            <a:off x="2268360" y="5367240"/>
            <a:ext cx="11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4" name="Rectangle 32"/>
          <p:cNvSpPr/>
          <p:nvPr/>
        </p:nvSpPr>
        <p:spPr>
          <a:xfrm>
            <a:off x="4213080" y="5348160"/>
            <a:ext cx="838440" cy="7448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5" name="Rectangle 33"/>
          <p:cNvSpPr/>
          <p:nvPr/>
        </p:nvSpPr>
        <p:spPr>
          <a:xfrm>
            <a:off x="5051520" y="5348160"/>
            <a:ext cx="838080" cy="7448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6" name="Text Box 34"/>
          <p:cNvSpPr/>
          <p:nvPr/>
        </p:nvSpPr>
        <p:spPr>
          <a:xfrm>
            <a:off x="5204160" y="551664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7" name="Text Box 35"/>
          <p:cNvSpPr/>
          <p:nvPr/>
        </p:nvSpPr>
        <p:spPr>
          <a:xfrm>
            <a:off x="4231440" y="534348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8" name="Rectangle 36"/>
          <p:cNvSpPr/>
          <p:nvPr/>
        </p:nvSpPr>
        <p:spPr>
          <a:xfrm>
            <a:off x="5889600" y="5348160"/>
            <a:ext cx="838080" cy="7448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9" name="Text Box 37"/>
          <p:cNvSpPr/>
          <p:nvPr/>
        </p:nvSpPr>
        <p:spPr>
          <a:xfrm>
            <a:off x="5933160" y="534996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0" name="Text Box 38"/>
          <p:cNvSpPr/>
          <p:nvPr/>
        </p:nvSpPr>
        <p:spPr>
          <a:xfrm>
            <a:off x="3132000" y="493380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 +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unelovací mód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281320" y="3062160"/>
            <a:ext cx="83808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4165560" y="3059280"/>
            <a:ext cx="838080" cy="7426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312080" y="319716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2486160" y="3219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121200" y="3059280"/>
            <a:ext cx="1046160" cy="7426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3048120" y="307656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5122800" y="4052880"/>
            <a:ext cx="83844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7216920" y="4052880"/>
            <a:ext cx="838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7369560" y="422100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5140800" y="404820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2" name="Rectangle 13"/>
          <p:cNvSpPr/>
          <p:nvPr/>
        </p:nvSpPr>
        <p:spPr>
          <a:xfrm>
            <a:off x="5973840" y="4052880"/>
            <a:ext cx="1243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6082200" y="41212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4" name="Rectangle 15"/>
          <p:cNvSpPr/>
          <p:nvPr/>
        </p:nvSpPr>
        <p:spPr>
          <a:xfrm>
            <a:off x="8055000" y="405288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8098560" y="405432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6" name="Rectangle 17"/>
          <p:cNvSpPr/>
          <p:nvPr/>
        </p:nvSpPr>
        <p:spPr>
          <a:xfrm>
            <a:off x="4013280" y="1849320"/>
            <a:ext cx="130500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7" name="Rectangle 18"/>
          <p:cNvSpPr/>
          <p:nvPr/>
        </p:nvSpPr>
        <p:spPr>
          <a:xfrm>
            <a:off x="5318280" y="1849320"/>
            <a:ext cx="83808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5391000" y="20257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4073760" y="185112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0" name="Text Box 21"/>
          <p:cNvSpPr/>
          <p:nvPr/>
        </p:nvSpPr>
        <p:spPr>
          <a:xfrm>
            <a:off x="4230720" y="14796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Běžný IP pake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1" name="Text Box 22"/>
          <p:cNvSpPr/>
          <p:nvPr/>
        </p:nvSpPr>
        <p:spPr>
          <a:xfrm>
            <a:off x="1765440" y="2637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5711760" y="36385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3" name="Rectangle 24"/>
          <p:cNvSpPr/>
          <p:nvPr/>
        </p:nvSpPr>
        <p:spPr>
          <a:xfrm>
            <a:off x="2340000" y="5565600"/>
            <a:ext cx="83808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2519640" y="5716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2484360" y="50785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 +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6" name="Rectangle 35"/>
          <p:cNvSpPr/>
          <p:nvPr/>
        </p:nvSpPr>
        <p:spPr>
          <a:xfrm>
            <a:off x="1239840" y="306540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1166760" y="308304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Nové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8" name="Rectangle 37"/>
          <p:cNvSpPr/>
          <p:nvPr/>
        </p:nvSpPr>
        <p:spPr>
          <a:xfrm>
            <a:off x="4076640" y="405432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4003560" y="407196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Nové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0" name="Rectangle 39"/>
          <p:cNvSpPr/>
          <p:nvPr/>
        </p:nvSpPr>
        <p:spPr>
          <a:xfrm>
            <a:off x="3170160" y="5564160"/>
            <a:ext cx="83844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1" name="Rectangle 40"/>
          <p:cNvSpPr/>
          <p:nvPr/>
        </p:nvSpPr>
        <p:spPr>
          <a:xfrm>
            <a:off x="5264280" y="5564160"/>
            <a:ext cx="838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5416920" y="573264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3188160" y="555948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4" name="Rectangle 43"/>
          <p:cNvSpPr/>
          <p:nvPr/>
        </p:nvSpPr>
        <p:spPr>
          <a:xfrm>
            <a:off x="4021200" y="5564160"/>
            <a:ext cx="1243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5" name="Text Box 44"/>
          <p:cNvSpPr/>
          <p:nvPr/>
        </p:nvSpPr>
        <p:spPr>
          <a:xfrm>
            <a:off x="4129560" y="56325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6" name="Rectangle 45"/>
          <p:cNvSpPr/>
          <p:nvPr/>
        </p:nvSpPr>
        <p:spPr>
          <a:xfrm>
            <a:off x="6102360" y="556416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6145920" y="556560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8" name="Rectangle 47"/>
          <p:cNvSpPr/>
          <p:nvPr/>
        </p:nvSpPr>
        <p:spPr>
          <a:xfrm>
            <a:off x="1293840" y="556560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1220760" y="558324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Nové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ransportní mód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grpSp>
        <p:nvGrpSpPr>
          <p:cNvPr id="391" name="Group 8"/>
          <p:cNvGrpSpPr/>
          <p:nvPr/>
        </p:nvGrpSpPr>
        <p:grpSpPr>
          <a:xfrm>
            <a:off x="1276200" y="3108240"/>
            <a:ext cx="4246200" cy="3195360"/>
            <a:chOff x="1276200" y="3108240"/>
            <a:chExt cx="4246200" cy="3195360"/>
          </a:xfrm>
        </p:grpSpPr>
        <p:pic>
          <p:nvPicPr>
            <p:cNvPr id="392" name="Picture 4" descr="endtoend"/>
            <p:cNvPicPr/>
            <p:nvPr/>
          </p:nvPicPr>
          <p:blipFill>
            <a:blip r:embed="rId1"/>
            <a:stretch/>
          </p:blipFill>
          <p:spPr>
            <a:xfrm>
              <a:off x="1276200" y="3108240"/>
              <a:ext cx="4246200" cy="31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AutoShape 6"/>
            <p:cNvSpPr/>
            <p:nvPr/>
          </p:nvSpPr>
          <p:spPr>
            <a:xfrm>
              <a:off x="1557720" y="5728680"/>
              <a:ext cx="1957320" cy="57492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End-to-End Host Security</a:t>
              </a:r>
              <a:endParaRPr b="0" lang="en-US" sz="16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94" name="Group 29"/>
          <p:cNvGrpSpPr/>
          <p:nvPr/>
        </p:nvGrpSpPr>
        <p:grpSpPr>
          <a:xfrm>
            <a:off x="3813120" y="1623960"/>
            <a:ext cx="4548240" cy="3637800"/>
            <a:chOff x="3813120" y="1623960"/>
            <a:chExt cx="4548240" cy="3637800"/>
          </a:xfrm>
        </p:grpSpPr>
        <p:sp>
          <p:nvSpPr>
            <p:cNvPr id="395" name="AutoShape 7"/>
            <p:cNvSpPr/>
            <p:nvPr/>
          </p:nvSpPr>
          <p:spPr>
            <a:xfrm>
              <a:off x="6435720" y="4935960"/>
              <a:ext cx="1390680" cy="32580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Server Isolation</a:t>
              </a:r>
              <a:endParaRPr b="0" lang="en-US" sz="1600" spc="-1" strike="noStrike">
                <a:solidFill>
                  <a:srgbClr val="292934"/>
                </a:solidFill>
                <a:latin typeface="Arial"/>
              </a:endParaRPr>
            </a:p>
          </p:txBody>
        </p:sp>
        <p:pic>
          <p:nvPicPr>
            <p:cNvPr id="396" name="Picture 28" descr="2804A_C02"/>
            <p:cNvPicPr/>
            <p:nvPr/>
          </p:nvPicPr>
          <p:blipFill>
            <a:blip r:embed="rId2"/>
            <a:stretch/>
          </p:blipFill>
          <p:spPr>
            <a:xfrm>
              <a:off x="3813120" y="1623960"/>
              <a:ext cx="4548240" cy="29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21" descr="Encryption01"/>
            <p:cNvPicPr/>
            <p:nvPr/>
          </p:nvPicPr>
          <p:blipFill>
            <a:blip r:embed="rId3"/>
            <a:stretch/>
          </p:blipFill>
          <p:spPr>
            <a:xfrm>
              <a:off x="4925880" y="2090880"/>
              <a:ext cx="17640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22" descr="Encryption01"/>
            <p:cNvPicPr/>
            <p:nvPr/>
          </p:nvPicPr>
          <p:blipFill>
            <a:blip r:embed="rId4"/>
            <a:stretch/>
          </p:blipFill>
          <p:spPr>
            <a:xfrm>
              <a:off x="4721400" y="2389320"/>
              <a:ext cx="17604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23" descr="Encryption01"/>
            <p:cNvPicPr/>
            <p:nvPr/>
          </p:nvPicPr>
          <p:blipFill>
            <a:blip r:embed="rId5"/>
            <a:stretch/>
          </p:blipFill>
          <p:spPr>
            <a:xfrm>
              <a:off x="4867200" y="2852640"/>
              <a:ext cx="17640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24" descr="Encryption01"/>
            <p:cNvPicPr/>
            <p:nvPr/>
          </p:nvPicPr>
          <p:blipFill>
            <a:blip r:embed="rId6"/>
            <a:stretch/>
          </p:blipFill>
          <p:spPr>
            <a:xfrm>
              <a:off x="4843440" y="3263760"/>
              <a:ext cx="176400" cy="282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Tu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n</a:t>
            </a: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el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ovací</a:t>
            </a: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 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mó</a:t>
            </a: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d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02" name="AutoShape 48"/>
          <p:cNvSpPr/>
          <p:nvPr/>
        </p:nvSpPr>
        <p:spPr>
          <a:xfrm>
            <a:off x="5724360" y="2386080"/>
            <a:ext cx="2264040" cy="2311200"/>
          </a:xfrm>
          <a:custGeom>
            <a:avLst/>
            <a:gdLst>
              <a:gd name="textAreaLeft" fmla="*/ 26640 w 2264040"/>
              <a:gd name="textAreaRight" fmla="*/ 2237400 w 2264040"/>
              <a:gd name="textAreaTop" fmla="*/ 26640 h 2311200"/>
              <a:gd name="textAreaBottom" fmla="*/ 2284560 h 2311200"/>
            </a:gdLst>
            <a:ahLst/>
            <a:rect l="textAreaLeft" t="textAreaTop" r="textAreaRight" b="textAreaBottom"/>
            <a:pathLst>
              <a:path w="21600" h="22050">
                <a:moveTo>
                  <a:pt x="875" y="0"/>
                </a:moveTo>
                <a:arcTo wR="875" hR="875" stAng="16200000" swAng="-5400000"/>
                <a:lnTo>
                  <a:pt x="0" y="21175"/>
                </a:lnTo>
                <a:arcTo wR="875" hR="875" stAng="10800000" swAng="-5400000"/>
                <a:lnTo>
                  <a:pt x="20725" y="22050"/>
                </a:lnTo>
                <a:arcTo wR="875" hR="875" stAng="5400000" swAng="-5400000"/>
                <a:lnTo>
                  <a:pt x="21600" y="875"/>
                </a:lnTo>
                <a:arcTo wR="875" hR="875" stAng="0" swAng="-5400000"/>
                <a:close/>
              </a:path>
            </a:pathLst>
          </a:custGeom>
          <a:gradFill rotWithShape="0">
            <a:gsLst>
              <a:gs pos="0">
                <a:srgbClr val="8dacd0"/>
              </a:gs>
              <a:gs pos="100000">
                <a:srgbClr val="dee7f1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1270080" y="1618200"/>
            <a:ext cx="1877760" cy="32580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Site-to-Site VPN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4" name="AutoShape 31"/>
          <p:cNvSpPr/>
          <p:nvPr/>
        </p:nvSpPr>
        <p:spPr>
          <a:xfrm>
            <a:off x="4052880" y="2216160"/>
            <a:ext cx="987480" cy="57492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IPSec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Tunnel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5" name="AutoShape 47"/>
          <p:cNvSpPr/>
          <p:nvPr/>
        </p:nvSpPr>
        <p:spPr>
          <a:xfrm>
            <a:off x="1106640" y="2386080"/>
            <a:ext cx="2263680" cy="2311200"/>
          </a:xfrm>
          <a:custGeom>
            <a:avLst/>
            <a:gdLst>
              <a:gd name="textAreaLeft" fmla="*/ 26640 w 2263680"/>
              <a:gd name="textAreaRight" fmla="*/ 2237040 w 2263680"/>
              <a:gd name="textAreaTop" fmla="*/ 26640 h 2311200"/>
              <a:gd name="textAreaBottom" fmla="*/ 2284560 h 2311200"/>
            </a:gdLst>
            <a:ahLst/>
            <a:rect l="textAreaLeft" t="textAreaTop" r="textAreaRight" b="textAreaBottom"/>
            <a:pathLst>
              <a:path w="21600" h="22053">
                <a:moveTo>
                  <a:pt x="875" y="0"/>
                </a:moveTo>
                <a:arcTo wR="875" hR="875" stAng="16200000" swAng="-5400000"/>
                <a:lnTo>
                  <a:pt x="0" y="21178"/>
                </a:lnTo>
                <a:arcTo wR="875" hR="875" stAng="10800000" swAng="-5400000"/>
                <a:lnTo>
                  <a:pt x="20725" y="22053"/>
                </a:lnTo>
                <a:arcTo wR="875" hR="875" stAng="5400000" swAng="-5400000"/>
                <a:lnTo>
                  <a:pt x="21600" y="875"/>
                </a:lnTo>
                <a:arcTo wR="875" hR="875" stAng="0" swAng="-5400000"/>
                <a:close/>
              </a:path>
            </a:pathLst>
          </a:custGeom>
          <a:gradFill rotWithShape="0">
            <a:gsLst>
              <a:gs pos="0">
                <a:srgbClr val="8dacd0"/>
              </a:gs>
              <a:gs pos="100000">
                <a:srgbClr val="dee7f1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6" name="AutoShape 33"/>
          <p:cNvSpPr/>
          <p:nvPr/>
        </p:nvSpPr>
        <p:spPr>
          <a:xfrm>
            <a:off x="2933640" y="4260600"/>
            <a:ext cx="882720" cy="57492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IPSec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Gateway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7" name="AutoShape 34"/>
          <p:cNvSpPr/>
          <p:nvPr/>
        </p:nvSpPr>
        <p:spPr>
          <a:xfrm>
            <a:off x="1233360" y="3998160"/>
            <a:ext cx="1455840" cy="29484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34"/>
                </a:solidFill>
                <a:latin typeface="Arial Narrow"/>
                <a:ea typeface="Arial"/>
              </a:rPr>
              <a:t>Windows XP Client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8" name="AutoShape 35"/>
          <p:cNvSpPr/>
          <p:nvPr/>
        </p:nvSpPr>
        <p:spPr>
          <a:xfrm>
            <a:off x="6767640" y="4255560"/>
            <a:ext cx="998280" cy="29484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34"/>
                </a:solidFill>
                <a:latin typeface="Arial Narrow"/>
                <a:ea typeface="Arial"/>
              </a:rPr>
              <a:t>FTP Server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9" name="AutoShape 36"/>
          <p:cNvSpPr/>
          <p:nvPr/>
        </p:nvSpPr>
        <p:spPr>
          <a:xfrm>
            <a:off x="6305400" y="2527920"/>
            <a:ext cx="981360" cy="32580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Site B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0" name="AutoShape 37"/>
          <p:cNvSpPr/>
          <p:nvPr/>
        </p:nvSpPr>
        <p:spPr>
          <a:xfrm>
            <a:off x="1771560" y="2527920"/>
            <a:ext cx="981000" cy="32580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Site A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1" name="Picture 38" descr="Server01"/>
          <p:cNvPicPr/>
          <p:nvPr/>
        </p:nvPicPr>
        <p:blipFill>
          <a:blip r:embed="rId1"/>
          <a:stretch/>
        </p:blipFill>
        <p:spPr>
          <a:xfrm>
            <a:off x="6856560" y="3365640"/>
            <a:ext cx="693720" cy="815760"/>
          </a:xfrm>
          <a:prstGeom prst="rect">
            <a:avLst/>
          </a:prstGeom>
          <a:ln w="0">
            <a:noFill/>
          </a:ln>
        </p:spPr>
      </p:pic>
      <p:sp>
        <p:nvSpPr>
          <p:cNvPr id="412" name="Line 50"/>
          <p:cNvSpPr/>
          <p:nvPr/>
        </p:nvSpPr>
        <p:spPr>
          <a:xfrm>
            <a:off x="2127240" y="3552840"/>
            <a:ext cx="21528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3" name="Picture 45" descr="VpnB01"/>
          <p:cNvPicPr/>
          <p:nvPr/>
        </p:nvPicPr>
        <p:blipFill>
          <a:blip r:embed="rId2"/>
          <a:stretch/>
        </p:blipFill>
        <p:spPr>
          <a:xfrm>
            <a:off x="3730680" y="3352680"/>
            <a:ext cx="1730160" cy="760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6" descr="Internet01"/>
          <p:cNvPicPr/>
          <p:nvPr/>
        </p:nvPicPr>
        <p:blipFill>
          <a:blip r:embed="rId3"/>
          <a:stretch/>
        </p:blipFill>
        <p:spPr>
          <a:xfrm>
            <a:off x="3962520" y="3129120"/>
            <a:ext cx="1171440" cy="1168200"/>
          </a:xfrm>
          <a:prstGeom prst="rect">
            <a:avLst/>
          </a:prstGeom>
          <a:ln w="0">
            <a:noFill/>
          </a:ln>
        </p:spPr>
      </p:pic>
      <p:sp>
        <p:nvSpPr>
          <p:cNvPr id="415" name="Line 49"/>
          <p:cNvSpPr/>
          <p:nvPr/>
        </p:nvSpPr>
        <p:spPr>
          <a:xfrm>
            <a:off x="5192640" y="3914640"/>
            <a:ext cx="18288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6" name="Picture 40" descr="Server01"/>
          <p:cNvPicPr/>
          <p:nvPr/>
        </p:nvPicPr>
        <p:blipFill>
          <a:blip r:embed="rId4"/>
          <a:stretch/>
        </p:blipFill>
        <p:spPr>
          <a:xfrm>
            <a:off x="5608800" y="3451320"/>
            <a:ext cx="693720" cy="815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1" descr="Server01"/>
          <p:cNvPicPr/>
          <p:nvPr/>
        </p:nvPicPr>
        <p:blipFill>
          <a:blip r:embed="rId5"/>
          <a:stretch/>
        </p:blipFill>
        <p:spPr>
          <a:xfrm>
            <a:off x="2916360" y="3241800"/>
            <a:ext cx="693720" cy="815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3" descr="Computer_DesktopComputer01"/>
          <p:cNvPicPr/>
          <p:nvPr/>
        </p:nvPicPr>
        <p:blipFill>
          <a:blip r:embed="rId6"/>
          <a:stretch/>
        </p:blipFill>
        <p:spPr>
          <a:xfrm>
            <a:off x="1639800" y="3174840"/>
            <a:ext cx="758880" cy="85248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51"/>
          <p:cNvSpPr/>
          <p:nvPr/>
        </p:nvSpPr>
        <p:spPr>
          <a:xfrm>
            <a:off x="5398920" y="4403520"/>
            <a:ext cx="882720" cy="57492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IPSec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Gateway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Implementa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ce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-1731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Časté síťové prvky a operační systémy: 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Zařízení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isco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C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s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MS Windows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3160" indent="-1731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IPSec a MS Windows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dpora od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Windows 200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lexib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lní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onfigura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ční možnosti 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(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místní politika nebo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Active Directory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3160" indent="-1731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MS Management Console (MMC)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nap-in modul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 pro správu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IP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 bezpečnosti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astavení obecných pravidel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(IKE –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doby platností, šifrovací algoritmy atd.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astavení pravid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8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Jak IPSec zabezpečuje datový provoz?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grpSp>
        <p:nvGrpSpPr>
          <p:cNvPr id="423" name="Group 3"/>
          <p:cNvGrpSpPr/>
          <p:nvPr/>
        </p:nvGrpSpPr>
        <p:grpSpPr>
          <a:xfrm>
            <a:off x="1476000" y="2817720"/>
            <a:ext cx="7394760" cy="2981160"/>
            <a:chOff x="1476000" y="2817720"/>
            <a:chExt cx="7394760" cy="2981160"/>
          </a:xfrm>
        </p:grpSpPr>
        <p:sp>
          <p:nvSpPr>
            <p:cNvPr id="424" name="Rectangle 4"/>
            <p:cNvSpPr/>
            <p:nvPr/>
          </p:nvSpPr>
          <p:spPr>
            <a:xfrm rot="10800000">
              <a:off x="1476000" y="5666760"/>
              <a:ext cx="7394760" cy="1317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25" name="AutoShape 5"/>
            <p:cNvSpPr/>
            <p:nvPr/>
          </p:nvSpPr>
          <p:spPr>
            <a:xfrm rot="5400000">
              <a:off x="1947600" y="4643280"/>
              <a:ext cx="2095560" cy="136440"/>
            </a:xfrm>
            <a:custGeom>
              <a:avLst/>
              <a:gdLst>
                <a:gd name="textAreaLeft" fmla="*/ 0 w 2095560"/>
                <a:gd name="textAreaRight" fmla="*/ 2095920 w 2095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732" y="0"/>
                  </a:lnTo>
                  <a:lnTo>
                    <a:pt x="21600" y="10800"/>
                  </a:lnTo>
                  <a:lnTo>
                    <a:pt x="2073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endParaRPr b="0" lang="en-US" sz="2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26" name="AutoShape 6"/>
            <p:cNvSpPr/>
            <p:nvPr/>
          </p:nvSpPr>
          <p:spPr>
            <a:xfrm rot="5400000">
              <a:off x="6348240" y="4643280"/>
              <a:ext cx="2095560" cy="136440"/>
            </a:xfrm>
            <a:custGeom>
              <a:avLst/>
              <a:gdLst>
                <a:gd name="textAreaLeft" fmla="*/ 0 w 2095560"/>
                <a:gd name="textAreaRight" fmla="*/ 2095920 w 2095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732" y="0"/>
                  </a:lnTo>
                  <a:lnTo>
                    <a:pt x="21600" y="10800"/>
                  </a:lnTo>
                  <a:lnTo>
                    <a:pt x="2073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endParaRPr b="0" lang="en-US" sz="2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pic>
          <p:nvPicPr>
            <p:cNvPr id="427" name="Picture 7" descr="Computer_DesktopComputerSansKeyboard01"/>
            <p:cNvPicPr/>
            <p:nvPr/>
          </p:nvPicPr>
          <p:blipFill>
            <a:blip r:embed="rId1"/>
            <a:stretch/>
          </p:blipFill>
          <p:spPr>
            <a:xfrm>
              <a:off x="2479680" y="2817720"/>
              <a:ext cx="1032120" cy="12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8" descr="Computer_DesktopComputerSansKeyboard01"/>
            <p:cNvPicPr/>
            <p:nvPr/>
          </p:nvPicPr>
          <p:blipFill>
            <a:blip r:embed="rId2"/>
            <a:stretch/>
          </p:blipFill>
          <p:spPr>
            <a:xfrm>
              <a:off x="6929640" y="2817720"/>
              <a:ext cx="1031760" cy="12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9" name="Group 9"/>
          <p:cNvGrpSpPr/>
          <p:nvPr/>
        </p:nvGrpSpPr>
        <p:grpSpPr>
          <a:xfrm>
            <a:off x="1793880" y="2238480"/>
            <a:ext cx="6822720" cy="2832120"/>
            <a:chOff x="1793880" y="2238480"/>
            <a:chExt cx="6822720" cy="2832120"/>
          </a:xfrm>
        </p:grpSpPr>
        <p:sp>
          <p:nvSpPr>
            <p:cNvPr id="430" name="Line 10"/>
            <p:cNvSpPr/>
            <p:nvPr/>
          </p:nvSpPr>
          <p:spPr>
            <a:xfrm flipH="1">
              <a:off x="3416400" y="3281760"/>
              <a:ext cx="64296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1" name="Line 11"/>
            <p:cNvSpPr/>
            <p:nvPr/>
          </p:nvSpPr>
          <p:spPr>
            <a:xfrm>
              <a:off x="6262920" y="3281760"/>
              <a:ext cx="64296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2" name="Freeform 12"/>
            <p:cNvSpPr/>
            <p:nvPr/>
          </p:nvSpPr>
          <p:spPr>
            <a:xfrm>
              <a:off x="1793880" y="2238480"/>
              <a:ext cx="1263960" cy="2610000"/>
            </a:xfrm>
            <a:custGeom>
              <a:avLst/>
              <a:gdLst/>
              <a:ahLst/>
              <a:rect l="l" t="t" r="r" b="b"/>
              <a:pathLst>
                <a:path w="576" h="1720">
                  <a:moveTo>
                    <a:pt x="576" y="0"/>
                  </a:moveTo>
                  <a:lnTo>
                    <a:pt x="0" y="0"/>
                  </a:lnTo>
                  <a:lnTo>
                    <a:pt x="0" y="1720"/>
                  </a:lnTo>
                  <a:lnTo>
                    <a:pt x="219" y="1720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3" name="Freeform 13"/>
            <p:cNvSpPr/>
            <p:nvPr/>
          </p:nvSpPr>
          <p:spPr>
            <a:xfrm flipH="1">
              <a:off x="7419240" y="2238480"/>
              <a:ext cx="1197000" cy="2610000"/>
            </a:xfrm>
            <a:custGeom>
              <a:avLst/>
              <a:gdLst/>
              <a:ahLst/>
              <a:rect l="l" t="t" r="r" b="b"/>
              <a:pathLst>
                <a:path w="576" h="1720">
                  <a:moveTo>
                    <a:pt x="576" y="0"/>
                  </a:moveTo>
                  <a:lnTo>
                    <a:pt x="0" y="0"/>
                  </a:lnTo>
                  <a:lnTo>
                    <a:pt x="0" y="1720"/>
                  </a:lnTo>
                  <a:lnTo>
                    <a:pt x="219" y="1720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4" name="AutoShape 14"/>
            <p:cNvSpPr/>
            <p:nvPr/>
          </p:nvSpPr>
          <p:spPr>
            <a:xfrm>
              <a:off x="6774120" y="423900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CP </a:t>
              </a: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vrstva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5" name="AutoShape 15"/>
            <p:cNvSpPr/>
            <p:nvPr/>
          </p:nvSpPr>
          <p:spPr>
            <a:xfrm>
              <a:off x="6774120" y="468972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IPSec Driver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6" name="AutoShape 16"/>
            <p:cNvSpPr/>
            <p:nvPr/>
          </p:nvSpPr>
          <p:spPr>
            <a:xfrm>
              <a:off x="2179800" y="423900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CP </a:t>
              </a: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vrstva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7" name="AutoShape 17"/>
            <p:cNvSpPr/>
            <p:nvPr/>
          </p:nvSpPr>
          <p:spPr>
            <a:xfrm>
              <a:off x="2179800" y="468972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IPSec Driver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38" name="Group 18"/>
          <p:cNvGrpSpPr/>
          <p:nvPr/>
        </p:nvGrpSpPr>
        <p:grpSpPr>
          <a:xfrm>
            <a:off x="3170160" y="5060880"/>
            <a:ext cx="4019040" cy="1463760"/>
            <a:chOff x="3170160" y="5060880"/>
            <a:chExt cx="4019040" cy="1463760"/>
          </a:xfrm>
        </p:grpSpPr>
        <p:sp>
          <p:nvSpPr>
            <p:cNvPr id="439" name="Freeform 19"/>
            <p:cNvSpPr/>
            <p:nvPr/>
          </p:nvSpPr>
          <p:spPr>
            <a:xfrm>
              <a:off x="3170160" y="5108400"/>
              <a:ext cx="1260360" cy="439920"/>
            </a:xfrm>
            <a:custGeom>
              <a:avLst/>
              <a:gdLst/>
              <a:ahLst/>
              <a:rect l="l" t="t" r="r" b="b"/>
              <a:pathLst>
                <a:path w="746" h="414">
                  <a:moveTo>
                    <a:pt x="0" y="0"/>
                  </a:moveTo>
                  <a:lnTo>
                    <a:pt x="0" y="414"/>
                  </a:lnTo>
                  <a:lnTo>
                    <a:pt x="746" y="414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40" name="AutoShape 20"/>
            <p:cNvSpPr/>
            <p:nvPr/>
          </p:nvSpPr>
          <p:spPr>
            <a:xfrm>
              <a:off x="3887640" y="6143400"/>
              <a:ext cx="2333520" cy="38124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Zabezpečené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IP </a:t>
              </a: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akety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441" name="Group 21"/>
            <p:cNvGrpSpPr/>
            <p:nvPr/>
          </p:nvGrpSpPr>
          <p:grpSpPr>
            <a:xfrm>
              <a:off x="4395600" y="5060880"/>
              <a:ext cx="730080" cy="1003320"/>
              <a:chOff x="4395600" y="5060880"/>
              <a:chExt cx="730080" cy="1003320"/>
            </a:xfrm>
          </p:grpSpPr>
          <p:pic>
            <p:nvPicPr>
              <p:cNvPr id="442" name="Picture 22" descr="ArbitraryElement01"/>
              <p:cNvPicPr/>
              <p:nvPr/>
            </p:nvPicPr>
            <p:blipFill>
              <a:blip r:embed="rId3"/>
              <a:stretch/>
            </p:blipFill>
            <p:spPr>
              <a:xfrm>
                <a:off x="4395600" y="5599080"/>
                <a:ext cx="730080" cy="46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3" name="Picture 23" descr="Security_Secured01"/>
              <p:cNvPicPr/>
              <p:nvPr/>
            </p:nvPicPr>
            <p:blipFill>
              <a:blip r:embed="rId4"/>
              <a:stretch/>
            </p:blipFill>
            <p:spPr>
              <a:xfrm>
                <a:off x="4524120" y="5060880"/>
                <a:ext cx="449280" cy="722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4" name="Group 24"/>
            <p:cNvGrpSpPr/>
            <p:nvPr/>
          </p:nvGrpSpPr>
          <p:grpSpPr>
            <a:xfrm>
              <a:off x="5208480" y="5060880"/>
              <a:ext cx="730080" cy="1003320"/>
              <a:chOff x="5208480" y="5060880"/>
              <a:chExt cx="730080" cy="1003320"/>
            </a:xfrm>
          </p:grpSpPr>
          <p:pic>
            <p:nvPicPr>
              <p:cNvPr id="445" name="Picture 25" descr="ArbitraryElement01"/>
              <p:cNvPicPr/>
              <p:nvPr/>
            </p:nvPicPr>
            <p:blipFill>
              <a:blip r:embed="rId5"/>
              <a:stretch/>
            </p:blipFill>
            <p:spPr>
              <a:xfrm>
                <a:off x="5208480" y="5599080"/>
                <a:ext cx="730080" cy="46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6" name="Picture 26" descr="Security_Secured01"/>
              <p:cNvPicPr/>
              <p:nvPr/>
            </p:nvPicPr>
            <p:blipFill>
              <a:blip r:embed="rId6"/>
              <a:stretch/>
            </p:blipFill>
            <p:spPr>
              <a:xfrm>
                <a:off x="5337000" y="5060880"/>
                <a:ext cx="448920" cy="72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7" name="Freeform 27"/>
            <p:cNvSpPr/>
            <p:nvPr/>
          </p:nvSpPr>
          <p:spPr>
            <a:xfrm flipH="1">
              <a:off x="5928480" y="5108400"/>
              <a:ext cx="1260360" cy="439920"/>
            </a:xfrm>
            <a:custGeom>
              <a:avLst/>
              <a:gdLst/>
              <a:ahLst/>
              <a:rect l="l" t="t" r="r" b="b"/>
              <a:pathLst>
                <a:path w="746" h="414">
                  <a:moveTo>
                    <a:pt x="0" y="0"/>
                  </a:moveTo>
                  <a:lnTo>
                    <a:pt x="0" y="414"/>
                  </a:lnTo>
                  <a:lnTo>
                    <a:pt x="746" y="414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448" name="AutoShape 28"/>
          <p:cNvSpPr/>
          <p:nvPr/>
        </p:nvSpPr>
        <p:spPr>
          <a:xfrm>
            <a:off x="3408480" y="5946840"/>
            <a:ext cx="338040" cy="393480"/>
          </a:xfrm>
          <a:custGeom>
            <a:avLst/>
            <a:gdLst>
              <a:gd name="textAreaLeft" fmla="*/ 0 w 338040"/>
              <a:gd name="textAreaRight" fmla="*/ 338400 w 33804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1600" h="25139">
                <a:moveTo>
                  <a:pt x="0" y="0"/>
                </a:moveTo>
                <a:arcTo wR="0" hR="0" stAng="16200000" swAng="-5400000"/>
                <a:lnTo>
                  <a:pt x="0" y="25139"/>
                </a:lnTo>
                <a:arcTo wR="0" hR="0" stAng="10800000" swAng="-5400000"/>
                <a:lnTo>
                  <a:pt x="21600" y="2513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50000">
                <a:srgbClr val="f0f0f0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292934"/>
            </a:solidFill>
            <a:miter/>
          </a:ln>
          <a:effectLst>
            <a:outerShdw dist="17819" dir="2700000" blurRad="0" rotWithShape="0">
              <a:srgbClr val="29293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449" name="Group 29"/>
          <p:cNvGrpSpPr/>
          <p:nvPr/>
        </p:nvGrpSpPr>
        <p:grpSpPr>
          <a:xfrm>
            <a:off x="3979800" y="2227320"/>
            <a:ext cx="2374560" cy="2288520"/>
            <a:chOff x="3979800" y="2227320"/>
            <a:chExt cx="2374560" cy="2288520"/>
          </a:xfrm>
        </p:grpSpPr>
        <p:sp>
          <p:nvSpPr>
            <p:cNvPr id="450" name="Freeform 30"/>
            <p:cNvSpPr/>
            <p:nvPr/>
          </p:nvSpPr>
          <p:spPr>
            <a:xfrm>
              <a:off x="3979800" y="2227320"/>
              <a:ext cx="488880" cy="718920"/>
            </a:xfrm>
            <a:custGeom>
              <a:avLst/>
              <a:gdLst/>
              <a:ahLst/>
              <a:rect l="l" t="t" r="r" b="b"/>
              <a:pathLst>
                <a:path w="308" h="316">
                  <a:moveTo>
                    <a:pt x="0" y="0"/>
                  </a:moveTo>
                  <a:lnTo>
                    <a:pt x="308" y="0"/>
                  </a:lnTo>
                  <a:lnTo>
                    <a:pt x="308" y="316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51" name="Freeform 31"/>
            <p:cNvSpPr/>
            <p:nvPr/>
          </p:nvSpPr>
          <p:spPr>
            <a:xfrm flipH="1">
              <a:off x="5861520" y="2227320"/>
              <a:ext cx="489240" cy="718920"/>
            </a:xfrm>
            <a:custGeom>
              <a:avLst/>
              <a:gdLst/>
              <a:ahLst/>
              <a:rect l="l" t="t" r="r" b="b"/>
              <a:pathLst>
                <a:path w="308" h="316">
                  <a:moveTo>
                    <a:pt x="0" y="0"/>
                  </a:moveTo>
                  <a:lnTo>
                    <a:pt x="308" y="0"/>
                  </a:lnTo>
                  <a:lnTo>
                    <a:pt x="308" y="316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452" name="Group 32"/>
            <p:cNvGrpSpPr/>
            <p:nvPr/>
          </p:nvGrpSpPr>
          <p:grpSpPr>
            <a:xfrm>
              <a:off x="4020840" y="2948040"/>
              <a:ext cx="2333520" cy="1567800"/>
              <a:chOff x="4020840" y="2948040"/>
              <a:chExt cx="2333520" cy="1567800"/>
            </a:xfrm>
          </p:grpSpPr>
          <p:pic>
            <p:nvPicPr>
              <p:cNvPr id="453" name="Picture 33" descr="Security_Permissions01"/>
              <p:cNvPicPr/>
              <p:nvPr/>
            </p:nvPicPr>
            <p:blipFill>
              <a:blip r:embed="rId7"/>
              <a:stretch/>
            </p:blipFill>
            <p:spPr>
              <a:xfrm>
                <a:off x="4860720" y="3595320"/>
                <a:ext cx="652320" cy="92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AutoShape 34"/>
              <p:cNvSpPr/>
              <p:nvPr/>
            </p:nvSpPr>
            <p:spPr>
              <a:xfrm>
                <a:off x="4020840" y="2948040"/>
                <a:ext cx="2333520" cy="6314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Internet Key Exchange (IKE) </a:t>
                </a:r>
                <a:r>
                  <a:rPr b="1" lang="cs-CZ" sz="18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vyjednávání</a:t>
                </a: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sp>
          <p:nvSpPr>
            <p:cNvPr id="455" name="AutoShape 35"/>
            <p:cNvSpPr/>
            <p:nvPr/>
          </p:nvSpPr>
          <p:spPr>
            <a:xfrm>
              <a:off x="4466880" y="3705120"/>
              <a:ext cx="338400" cy="39384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1600" h="25135">
                  <a:moveTo>
                    <a:pt x="0" y="0"/>
                  </a:moveTo>
                  <a:arcTo wR="0" hR="0" stAng="16200000" swAng="-5400000"/>
                  <a:lnTo>
                    <a:pt x="0" y="25135"/>
                  </a:lnTo>
                  <a:arcTo wR="0" hR="0" stAng="10800000" swAng="-5400000"/>
                  <a:lnTo>
                    <a:pt x="21600" y="2513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800080"/>
                </a:gs>
                <a:gs pos="50000">
                  <a:srgbClr val="f0f0f0"/>
                </a:gs>
                <a:gs pos="100000">
                  <a:srgbClr val="800080"/>
                </a:gs>
              </a:gsLst>
              <a:lin ang="5400000"/>
            </a:gradFill>
            <a:ln w="9360">
              <a:solidFill>
                <a:srgbClr val="292934"/>
              </a:solidFill>
              <a:miter/>
            </a:ln>
            <a:effectLst>
              <a:outerShdw dist="17819" dir="2700000" blurRad="0" rotWithShape="0">
                <a:srgbClr val="29293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Arial Narrow"/>
                </a:rPr>
                <a:t>2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56" name="Group 61"/>
          <p:cNvGrpSpPr/>
          <p:nvPr/>
        </p:nvGrpSpPr>
        <p:grpSpPr>
          <a:xfrm>
            <a:off x="2313000" y="1434960"/>
            <a:ext cx="5766840" cy="1418400"/>
            <a:chOff x="2313000" y="1434960"/>
            <a:chExt cx="5766840" cy="1418400"/>
          </a:xfrm>
        </p:grpSpPr>
        <p:grpSp>
          <p:nvGrpSpPr>
            <p:cNvPr id="457" name="Group 60"/>
            <p:cNvGrpSpPr/>
            <p:nvPr/>
          </p:nvGrpSpPr>
          <p:grpSpPr>
            <a:xfrm>
              <a:off x="2313000" y="1434960"/>
              <a:ext cx="5766840" cy="1418400"/>
              <a:chOff x="2313000" y="1434960"/>
              <a:chExt cx="5766840" cy="1418400"/>
            </a:xfrm>
          </p:grpSpPr>
          <p:grpSp>
            <p:nvGrpSpPr>
              <p:cNvPr id="458" name="Group 59"/>
              <p:cNvGrpSpPr/>
              <p:nvPr/>
            </p:nvGrpSpPr>
            <p:grpSpPr>
              <a:xfrm>
                <a:off x="2313000" y="1834920"/>
                <a:ext cx="5766840" cy="1018440"/>
                <a:chOff x="2313000" y="1834920"/>
                <a:chExt cx="5766840" cy="1018440"/>
              </a:xfrm>
            </p:grpSpPr>
            <p:pic>
              <p:nvPicPr>
                <p:cNvPr id="459" name="Picture 38" descr="Policy_Writing01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352680" y="1834920"/>
                  <a:ext cx="703440" cy="990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0" name="Picture 39" descr="Policy_Writing0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268680" y="1863000"/>
                  <a:ext cx="703440" cy="99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1" name="AutoShape 40"/>
                <p:cNvSpPr/>
                <p:nvPr/>
              </p:nvSpPr>
              <p:spPr>
                <a:xfrm>
                  <a:off x="6752160" y="2194200"/>
                  <a:ext cx="1327680" cy="396360"/>
                </a:xfrm>
                <a:prstGeom prst="roundRect">
                  <a:avLst>
                    <a:gd name="adj" fmla="val 4167"/>
                  </a:avLst>
                </a:prstGeom>
                <a:solidFill>
                  <a:srgbClr val="ffffff"/>
                </a:solidFill>
                <a:ln w="93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afafa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  <a:ea typeface="Arial"/>
                    </a:rPr>
                    <a:t>IPSec Policy</a:t>
                  </a: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462" name="AutoShape 41"/>
                <p:cNvSpPr/>
                <p:nvPr/>
              </p:nvSpPr>
              <p:spPr>
                <a:xfrm>
                  <a:off x="2313000" y="2194200"/>
                  <a:ext cx="1328040" cy="396360"/>
                </a:xfrm>
                <a:prstGeom prst="roundRect">
                  <a:avLst>
                    <a:gd name="adj" fmla="val 4167"/>
                  </a:avLst>
                </a:prstGeom>
                <a:solidFill>
                  <a:srgbClr val="ffffff"/>
                </a:solidFill>
                <a:ln w="93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afafa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  <a:ea typeface="Arial"/>
                    </a:rPr>
                    <a:t>IPSec Policy</a:t>
                  </a: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58"/>
              <p:cNvGrpSpPr/>
              <p:nvPr/>
            </p:nvGrpSpPr>
            <p:grpSpPr>
              <a:xfrm>
                <a:off x="2398680" y="1434960"/>
                <a:ext cx="5012280" cy="717120"/>
                <a:chOff x="2398680" y="1434960"/>
                <a:chExt cx="5012280" cy="717120"/>
              </a:xfrm>
            </p:grpSpPr>
            <p:sp>
              <p:nvSpPr>
                <p:cNvPr id="464" name="AutoShape 43"/>
                <p:cNvSpPr/>
                <p:nvPr/>
              </p:nvSpPr>
              <p:spPr>
                <a:xfrm>
                  <a:off x="2398680" y="1563120"/>
                  <a:ext cx="337320" cy="412920"/>
                </a:xfrm>
                <a:custGeom>
                  <a:avLst/>
                  <a:gdLst>
                    <a:gd name="textAreaLeft" fmla="*/ 0 w 337320"/>
                    <a:gd name="textAreaRight" fmla="*/ 337680 w 337320"/>
                    <a:gd name="textAreaTop" fmla="*/ 0 h 412920"/>
                    <a:gd name="textAreaBottom" fmla="*/ 413280 h 412920"/>
                  </a:gdLst>
                  <a:ahLst/>
                  <a:rect l="textAreaLeft" t="textAreaTop" r="textAreaRight" b="textAreaBottom"/>
                  <a:pathLst>
                    <a:path w="21600" h="26436">
                      <a:moveTo>
                        <a:pt x="0" y="0"/>
                      </a:moveTo>
                      <a:arcTo wR="0" hR="0" stAng="16200000" swAng="-5400000"/>
                      <a:lnTo>
                        <a:pt x="0" y="26436"/>
                      </a:lnTo>
                      <a:arcTo wR="0" hR="0" stAng="10800000" swAng="-5400000"/>
                      <a:lnTo>
                        <a:pt x="21600" y="26436"/>
                      </a:lnTo>
                      <a:arcTo wR="0" hR="0" stAng="16200000" swAng="-5400000"/>
                      <a:lnTo>
                        <a:pt x="21600" y="0"/>
                      </a:lnTo>
                      <a:arcTo wR="0" hR="0" stAng="1080000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0080"/>
                    </a:gs>
                    <a:gs pos="50000">
                      <a:srgbClr val="f0f0f0"/>
                    </a:gs>
                    <a:gs pos="100000">
                      <a:srgbClr val="800080"/>
                    </a:gs>
                  </a:gsLst>
                  <a:lin ang="5400000"/>
                </a:gradFill>
                <a:ln w="9360">
                  <a:solidFill>
                    <a:srgbClr val="292934"/>
                  </a:solidFill>
                  <a:miter/>
                </a:ln>
                <a:effectLst>
                  <a:outerShdw dist="17819" dir="2700000" blurRad="0" rotWithShape="0">
                    <a:srgbClr val="292934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0033"/>
                      </a:solidFill>
                      <a:latin typeface="Arial Narrow"/>
                    </a:rPr>
                    <a:t>1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Group 57"/>
                <p:cNvGrpSpPr/>
                <p:nvPr/>
              </p:nvGrpSpPr>
              <p:grpSpPr>
                <a:xfrm>
                  <a:off x="2922840" y="1434960"/>
                  <a:ext cx="4488120" cy="717120"/>
                  <a:chOff x="2922840" y="1434960"/>
                  <a:chExt cx="4488120" cy="717120"/>
                </a:xfrm>
              </p:grpSpPr>
              <p:sp>
                <p:nvSpPr>
                  <p:cNvPr id="466" name="Freeform 45"/>
                  <p:cNvSpPr/>
                  <p:nvPr/>
                </p:nvSpPr>
                <p:spPr>
                  <a:xfrm>
                    <a:off x="2922840" y="1596240"/>
                    <a:ext cx="4488120" cy="55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32" h="432">
                        <a:moveTo>
                          <a:pt x="0" y="432"/>
                        </a:moveTo>
                        <a:lnTo>
                          <a:pt x="0" y="0"/>
                        </a:lnTo>
                        <a:lnTo>
                          <a:pt x="2832" y="0"/>
                        </a:lnTo>
                        <a:lnTo>
                          <a:pt x="2832" y="432"/>
                        </a:lnTo>
                      </a:path>
                    </a:pathLst>
                  </a:custGeom>
                  <a:noFill/>
                  <a:ln w="57240">
                    <a:solidFill>
                      <a:srgbClr val="cc0000"/>
                    </a:solidFill>
                    <a:round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AutoShape 46"/>
                  <p:cNvSpPr/>
                  <p:nvPr/>
                </p:nvSpPr>
                <p:spPr>
                  <a:xfrm>
                    <a:off x="4330800" y="1434960"/>
                    <a:ext cx="1705320" cy="399600"/>
                  </a:xfrm>
                  <a:prstGeom prst="roundRect">
                    <a:avLst>
                      <a:gd name="adj" fmla="val 41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afafaf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Narrow"/>
                        <a:ea typeface="Arial"/>
                      </a:rPr>
                      <a:t>MMC</a:t>
                    </a: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468" name="Picture 56" descr="2DomainWithOus01"/>
            <p:cNvPicPr/>
            <p:nvPr/>
          </p:nvPicPr>
          <p:blipFill>
            <a:blip r:embed="rId10"/>
            <a:stretch/>
          </p:blipFill>
          <p:spPr>
            <a:xfrm>
              <a:off x="4664520" y="1881360"/>
              <a:ext cx="1077120" cy="93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Konfigurace IPSec u MS Window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53000" indent="-1530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Filtr – definice parametrů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 adresa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 protoko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Zdrojový a cílový TCP a UDP por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3000" indent="-1530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kce filtru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volit přenos i nezabezpečených paketů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zabezpečené pakety blokovat (zahazovat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ktivovat zabezpečený režim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3000" indent="-1530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utentizac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erberos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ředsdílený ke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Certifikát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Možnosti autentizace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erberos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ntegrován do Active director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ředsdílený ke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Textový řetězec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existuje spolehlivý a jednoduchý mechanismus zneplatnění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užití pouze pro testovací účel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Certifikát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utná přítomnost c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ertifi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ační a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utorit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ompromitované údaje lze zneplatnit (r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evocation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estování konfigurace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Host to Host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AH, ESP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utentizace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ředsdílený klíč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Certifikát (vlastní CA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Nástroje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Sec monitor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twork monitor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Wireshark apod.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řehled vlastností protokolu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PSec – rámec otevřených standardů pro zajištění bezpečné komunikace přes sítě IP prostřednictvím využívání kryptografických bezpečnostních služeb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acuje na síťové vrstvě referenčního modelu síťové architektury ISO/OS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yvinut primárně pro IPv6, kde bývala jeho podpora povinná každým uzlem – už není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mplementován i pro IPv4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Nelze použít pro přenos dat utajovaných dle zákona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IPSec u směrovačů Cisco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ISAKMP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Internet Security Association and Key Management Protocol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(zabývá se všemi aspekty SA a zajišťuje výměnu kryptografických klíčů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transformační sady IPSec 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krypto ACL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ccess Control List – rozhoduje o použití IPSEc pro každý pake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krypto map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plikace krypto mapy na rozhraní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ISAKMP 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24000" y="2536560"/>
            <a:ext cx="79200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isakmp policy 1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encr aes 256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authentication pre-shar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group 5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lifetime 360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isakmp key cisco address</a:t>
            </a: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192.1.1.2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transformační sady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607760" y="3257640"/>
            <a:ext cx="742788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5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ipsec transform-set</a:t>
            </a: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cccc"/>
                </a:solidFill>
                <a:latin typeface="Courier New"/>
              </a:rPr>
              <a:t>MUJTRANS</a:t>
            </a:r>
            <a:br>
              <a:rPr sz="2400"/>
            </a:b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ah-sha-hmac esp-aes 256 esp-sha-hmac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1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(jeden dlouhý řádek, nově se někdy výstižněji označuje „IPSec Proposals“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krypto ACL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617840" y="3255840"/>
            <a:ext cx="6626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49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access-list </a:t>
            </a:r>
            <a:r>
              <a:rPr b="1" lang="af-ZA" sz="2400" spc="-1" strike="noStrike">
                <a:solidFill>
                  <a:srgbClr val="993366"/>
                </a:solidFill>
                <a:latin typeface="Courier New"/>
              </a:rPr>
              <a:t>101</a:t>
            </a:r>
            <a:r>
              <a:rPr b="0" lang="cs-CZ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permit gre host </a:t>
            </a: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	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192.1.1.40 host 192.1.1.2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49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49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(jeden dlouhý řádek, protokol dle potřeby – zde GRE, ale třeba IP, ...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krypto mapy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607760" y="3284280"/>
            <a:ext cx="742788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map </a:t>
            </a:r>
            <a:r>
              <a:rPr b="1" lang="cs-CZ" sz="2400" spc="-1" strike="noStrike">
                <a:solidFill>
                  <a:srgbClr val="0000ff"/>
                </a:solidFill>
                <a:latin typeface="Courier New"/>
              </a:rPr>
              <a:t>MYMAP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10 ipsec-isakmp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set peer 192.1.1.2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set transform-set </a:t>
            </a:r>
            <a:r>
              <a:rPr b="1" lang="cs-CZ" sz="2400" spc="-1" strike="noStrike">
                <a:solidFill>
                  <a:srgbClr val="33cccc"/>
                </a:solidFill>
                <a:latin typeface="Courier New"/>
              </a:rPr>
              <a:t>MUJTRANS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match address </a:t>
            </a:r>
            <a:r>
              <a:rPr b="1" lang="af-ZA" sz="2400" spc="-1" strike="noStrike">
                <a:solidFill>
                  <a:srgbClr val="993366"/>
                </a:solidFill>
                <a:latin typeface="Courier New"/>
              </a:rPr>
              <a:t>101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d2533c"/>
                </a:solidFill>
                <a:latin typeface="Cambria"/>
              </a:rPr>
              <a:t>Aplikace krypto mapy na rozhraní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47640" y="3327120"/>
            <a:ext cx="742824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interface serial0/0/1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R3(config-if)# crypto map </a:t>
            </a:r>
            <a:r>
              <a:rPr b="1" lang="cs-CZ" sz="2400" spc="-1" strike="noStrike">
                <a:solidFill>
                  <a:srgbClr val="0000ff"/>
                </a:solidFill>
                <a:latin typeface="Courier New"/>
              </a:rPr>
              <a:t>MYMAP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86992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Děkuji za pozornos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Služby a složení protokolu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PSec poskytuje následující služby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ntegrita v prostředí nespojované komunikac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Ověřování původu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Ochrana proti opakovaným vysíláním téhož paketu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Důvěrnost (šifrování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y tvořící základ IPSec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Authentication Header (AH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Encapsulated  Security Payload (ESP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Internet Key Exchange (IKE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Historie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vní popis v RFC 1825, rok 1995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vní implementace v BSDI, rok 1995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Současný stav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1 – přehled architektury (1998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2 – popis protokolu AH (Authentication Header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6 – popis protokolu ESP (Encapsulation Security Payload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8 – popis protokolu IKE (Internet Key Exchange) – správa klíčů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Výhody a nevýhody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58560" y="160020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ýhod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Transparentnost (netřeba modifikovat protokoly vyšších vrstev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Škálovatelnost (od jednotlivých PC po velké sítě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plikační nezávislost, lze zabezpečit libovolný protokol využívající protokol IP (telnet, ftp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Široká podpora mezi výrobc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Nevýhod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Složitost – citlivost na některé útok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ětší režie, vadící u krátkých paketů (např. zvuk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rotokol AH (Authentication Header)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6760" indent="-1767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 AH zajišťuje tyto funkc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ntegritu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utentizaci každého IP paketu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Ochranu před opakovaným vyslání téhož paketu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6760" indent="-1767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lastnost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šifruje data, ale nelze je změni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 záhlaví i data jsou podepsán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Zabraňuje útoku typu podvržení adresy sledováním pořadových čís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užívá algoritmy HMAC (Hash Message Authentication Code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omunikující strany musí sdílet tajný klíč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2533c"/>
                </a:solidFill>
                <a:latin typeface="Cambria"/>
              </a:rPr>
              <a:t>Protokol ESP (</a:t>
            </a:r>
            <a:r>
              <a:rPr b="0" lang="en-US" sz="3600" spc="-1" strike="noStrike">
                <a:solidFill>
                  <a:srgbClr val="d2533c"/>
                </a:solidFill>
                <a:latin typeface="Cambria"/>
              </a:rPr>
              <a:t>Encapsulated  Security Payload </a:t>
            </a:r>
            <a:r>
              <a:rPr b="0" lang="cs-CZ" sz="3600" spc="-1" strike="noStrike">
                <a:solidFill>
                  <a:srgbClr val="d2533c"/>
                </a:solidFill>
                <a:latin typeface="Cambria"/>
              </a:rPr>
              <a:t>) </a:t>
            </a:r>
            <a:endParaRPr b="0" lang="en-US" sz="3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 ESP poskytuj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Důvěrnost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Určitá důvěrnost toku dat (maskování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Volitelně podporu autentizace - AH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lastnost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Lze použít souběžně s AH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dporuje řadu šifrovacích algoritmů, módů, atd.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mbria"/>
              </a:rPr>
              <a:t>DES, 3DES, RC5, IDEA, CAST a další </a:t>
            </a:r>
            <a:endParaRPr b="0" lang="en-US" sz="20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rotokol IKE (</a:t>
            </a: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Internet Key Exchange </a:t>
            </a: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)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 IK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ryptografická infrastruktura zajišťující vyjednávání o výměně klíčů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Ustaví Security Associations (SAs) mezi IPSec partner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utentizuje IPSec partner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Security Associations (SA) - </a:t>
            </a:r>
            <a:r>
              <a:rPr b="0" i="1" lang="cs-CZ" sz="2800" spc="-1" strike="noStrike">
                <a:solidFill>
                  <a:srgbClr val="800080"/>
                </a:solidFill>
                <a:latin typeface="Cambria"/>
              </a:rPr>
              <a:t>jednosměrný</a:t>
            </a:r>
            <a:r>
              <a:rPr b="0" i="1" lang="cs-CZ" sz="2800" spc="-1" strike="noStrike">
                <a:solidFill>
                  <a:srgbClr val="292934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ztah mezi odesílající a přijímající stranou; parametr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Security Parameters Index (metoda autentizace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Cílová IP adresa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dentifikátor bezpečnostního protokolu (AH či ESP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oužití protokolů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56960" indent="-15696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Authentication Header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ožaduje se připojení k zaručenému adresátovi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Musí být ověřován zdroj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Data sama o sobě nejsou citlivá, riziko zachycení paketů a potenciální kompromitace je nízké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6960" indent="-15696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Encapsulation Security Payload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Utajení p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řenášen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ých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informac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í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ouze požaduje-li se ochrana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6960" indent="-15696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</a:t>
            </a: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rotokoly AH a ESP</a:t>
            </a: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 současně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Musí-li být data chráněna a je nutná autentizac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okud zvýšená bezpečnost kompenzuje pokles výkonnosti vyplývající z další reži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09:15:07Z</dcterms:created>
  <dc:creator/>
  <dc:description/>
  <dc:language>en-US</dc:language>
  <cp:lastModifiedBy/>
  <dcterms:modified xsi:type="dcterms:W3CDTF">2022-04-03T19:24:49Z</dcterms:modified>
  <cp:revision>2</cp:revision>
  <dc:subject/>
  <dc:title>NADPIS</dc:title>
</cp:coreProperties>
</file>