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787-DCC0-4991-8ADE-8BC80268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050-63DC-4A6C-AEAB-C19AC5E9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0E85-6518-4605-B12E-3E2A9A3B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257-5433-41D3-BD39-01425347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06D4-CB57-492C-8A74-7333D604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DB3D-6E34-453B-8692-6F656D72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BF1B-CF8E-4983-8787-36842507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07BA-5B7D-4236-AA76-00056E10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6FE6-930C-4F5B-AD20-F6D5E9B8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9667-22AA-4572-81BE-7841197B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B118-E8DE-4D7E-82DF-B50634AF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E9B-3589-47F2-95B7-CA2AAE9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633A-C86F-42BC-8720-2E074E09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0B3F-A990-4A46-90B9-E7681D9A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6C37-7B09-4815-BE4A-3AB109B1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8351-786A-4FEB-BDD0-C591BDCD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6C74-EC1D-465B-B2CD-413B12DC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5EF3-1865-4B12-98B4-B788EDA3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7555-9DDB-45B5-9C9C-2853076F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4263-FE5E-40BF-A8C5-19B4499A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5966A-B61D-419E-8978-0165221C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F4A6-08B1-492E-8068-DBD2FE6D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6B2-170C-4FB9-B651-95FCE048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5167-8A47-4656-A510-AD71DD66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6697-C4FF-4F7A-BB2B-F77C1E96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829C0-9B8A-4DCE-979F-130BA9C9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1A66-529D-4617-B375-CD4566D2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4658-95AB-4A95-A0F5-56511058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C5C7-842E-4466-ABD3-F6E90620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9A10-F75E-442A-A907-978C6C4C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3B6C5-88EB-436A-877E-C67981EF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85528-F444-4D92-A274-FA925923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76466-7531-44E6-921A-0C2FFD87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E8F-A069-40DB-9A90-796DCB1C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4377-1403-48ED-AD21-AF732B10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22C8-AA60-467E-B41C-543EB639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2413-3C64-4A5C-BB5A-4258973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5A32-EDBC-4759-A1D6-DE41EAF3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B85B-166A-4DA5-968B-84933E38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96A3B-AC4E-415F-965B-621547A2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64445-40D1-41B7-9C00-55B119A4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1ACDD-BB26-4534-A065-3B66E0B6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9FF1F-3961-46D2-81CC-90A88FA5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1C35-3222-42AC-B93A-3AE689DC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358-73B3-4C66-B466-E8F9728C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A5771-A6C2-4E5C-B4F3-184899FF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D54F0-31B3-4CE0-AB21-42CA22E6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5205F-45B6-4153-AAB3-DC5D3684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D92D0-6490-4AB8-87FE-E0DA2EBA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3304E-6D8C-4147-BF53-2DD0B38A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C51E-F822-4CDD-A811-70AAD47D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ADB9-996C-45A5-ACF0-7A27D688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655B7-DF47-47E4-BAC5-325E7B68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7F285-5821-487C-8DCC-407A7EA9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3081A-BAE9-4E92-95AB-1CB82D8A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EF8-0C4E-499A-A61F-9605DAF6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14E9-DA69-453A-858E-61009A71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98C14-F385-448F-AC88-E4D8A643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CD08-E879-467A-BCB5-D6811D06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F54CA-F244-4E83-8D8C-22BE6198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D32D6-CA02-478D-8FA6-2DA980A8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3E29A-5171-484E-8E0F-45F915D1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FDEC0-0443-424C-9CF0-42DC45A5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01202-058D-4DD7-A26B-28A9552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17143-D3E4-4F10-A16A-8D518A67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A91E2-1F37-4A79-B6E4-03A42578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1B6-1EF2-4B42-A6E4-EBA4432A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CF5BC-6A1C-4FD5-B605-E78C4E6F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F253A-0980-4ECB-B211-266A9B58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B6CB8-C1DD-4A88-BFF1-6CE44B49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7F0FC-52CB-401A-BD15-684932C1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E307A-6888-43C0-B395-AB4A96B9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86623-451F-4C6D-87C6-6F4E1DE3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CA2A5-1026-4E74-9591-B28DA53B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86348-A762-4084-9FE2-5E1848F6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52AB3-60EE-47E5-B1B3-F1A27B03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4F2E5-CCC4-4F1D-A710-8210E6EE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D57-A774-4502-A7A3-F278E39C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3F4AD-FA4B-46C9-AC37-0698E8C7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839BD-5DC1-4F8A-A95C-7A1EF56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2FC0-1365-4813-BBC5-AA887E53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41ECB-27C7-4DF7-894D-48D8BBD6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A4F94-4DA1-4471-AE3B-8D11BB04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90C-0B79-4FD9-998D-F0E72BE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CB1B-6237-475B-B94F-21DB879547DF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Obrázek 2" descr=""/>
          <p:cNvPicPr/>
          <p:nvPr/>
        </p:nvPicPr>
        <p:blipFill>
          <a:blip r:embed="rId2"/>
          <a:stretch/>
        </p:blipFill>
        <p:spPr>
          <a:xfrm>
            <a:off x="1962000" y="6021360"/>
            <a:ext cx="522000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A669-2D92-4BF8-9DED-78F8EB02F736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02AF-AB9B-48F8-9091-8BF5F38BEAAA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FA15-8859-4C1C-9F4E-981E1603ACA0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D648-3B11-42DE-8C18-1DBCA9350F6B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EC17-111D-49C3-A996-5EC5FCFC506B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D08C-7101-45BC-8FDC-845E5243AAE7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d2533c"/>
                </a:solidFill>
                <a:latin typeface="Cambria"/>
              </a:rPr>
              <a:t>PROTOKOL IPSEC</a:t>
            </a:r>
            <a:endParaRPr b="0" lang="en-US" sz="5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57576e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cénáře nasazení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může být nasazen takto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ři základní varianty konfigur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Gateway to Gateway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(propojení sítí - tunel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Gatewa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grpSp>
        <p:nvGrpSpPr>
          <p:cNvPr id="312" name="Group 372"/>
          <p:cNvGrpSpPr/>
          <p:nvPr/>
        </p:nvGrpSpPr>
        <p:grpSpPr>
          <a:xfrm>
            <a:off x="1476360" y="2133720"/>
            <a:ext cx="7500600" cy="718920"/>
            <a:chOff x="1476360" y="2133720"/>
            <a:chExt cx="7500600" cy="718920"/>
          </a:xfrm>
        </p:grpSpPr>
        <p:sp>
          <p:nvSpPr>
            <p:cNvPr id="313" name="AutoShape 367"/>
            <p:cNvSpPr/>
            <p:nvPr/>
          </p:nvSpPr>
          <p:spPr>
            <a:xfrm>
              <a:off x="1497240" y="2133720"/>
              <a:ext cx="7479720" cy="7171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0280" indent="468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Ochrana komunikace mezi dvěma koncovými počítač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4" name="AutoShape 368"/>
            <p:cNvSpPr/>
            <p:nvPr/>
          </p:nvSpPr>
          <p:spPr>
            <a:xfrm>
              <a:off x="1476360" y="2133720"/>
              <a:ext cx="163656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Transport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ní</a:t>
              </a: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15" name="Group 373"/>
          <p:cNvGrpSpPr/>
          <p:nvPr/>
        </p:nvGrpSpPr>
        <p:grpSpPr>
          <a:xfrm>
            <a:off x="1476360" y="3068640"/>
            <a:ext cx="7524360" cy="720720"/>
            <a:chOff x="1476360" y="3068640"/>
            <a:chExt cx="7524360" cy="720720"/>
          </a:xfrm>
        </p:grpSpPr>
        <p:sp>
          <p:nvSpPr>
            <p:cNvPr id="316" name="AutoShape 374"/>
            <p:cNvSpPr/>
            <p:nvPr/>
          </p:nvSpPr>
          <p:spPr>
            <a:xfrm>
              <a:off x="1497240" y="3068640"/>
              <a:ext cx="750348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496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chrana komunikace mezi koncovým počítačem a sítí nebo mezi dvěma sítěm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7" name="AutoShape 375"/>
            <p:cNvSpPr/>
            <p:nvPr/>
          </p:nvSpPr>
          <p:spPr>
            <a:xfrm>
              <a:off x="1476360" y="3068640"/>
              <a:ext cx="1641600" cy="7207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Tunel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vací</a:t>
              </a: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2378160" y="370044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216240" y="3700440"/>
            <a:ext cx="83808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3362760" y="383868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557800" y="385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1332000" y="370044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1258920" y="371808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595944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6797520" y="3699000"/>
            <a:ext cx="83844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6950520" y="38671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5977440" y="369396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4716360" y="369900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4825080" y="37670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763596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7679160" y="37004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3419640" y="2143080"/>
            <a:ext cx="13046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4724280" y="2143080"/>
            <a:ext cx="8384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4797360" y="2319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3480120" y="214488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7" name="Text Box 23"/>
          <p:cNvSpPr/>
          <p:nvPr/>
        </p:nvSpPr>
        <p:spPr>
          <a:xfrm>
            <a:off x="3637080" y="1773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Text Box 24"/>
          <p:cNvSpPr/>
          <p:nvPr/>
        </p:nvSpPr>
        <p:spPr>
          <a:xfrm>
            <a:off x="1620720" y="32781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Text Box 25"/>
          <p:cNvSpPr/>
          <p:nvPr/>
        </p:nvSpPr>
        <p:spPr>
          <a:xfrm>
            <a:off x="5219640" y="3284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3387600" y="5349960"/>
            <a:ext cx="83844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3567240" y="5500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2" name="Rectangle 30"/>
          <p:cNvSpPr/>
          <p:nvPr/>
        </p:nvSpPr>
        <p:spPr>
          <a:xfrm>
            <a:off x="2341440" y="534996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268360" y="5367240"/>
            <a:ext cx="11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4213080" y="5348160"/>
            <a:ext cx="83844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5051520" y="5348160"/>
            <a:ext cx="838080" cy="7448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5204160" y="5516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Text Box 35"/>
          <p:cNvSpPr/>
          <p:nvPr/>
        </p:nvSpPr>
        <p:spPr>
          <a:xfrm>
            <a:off x="4231440" y="5343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5889600" y="5348160"/>
            <a:ext cx="83808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5933160" y="53499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3132000" y="49338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unelovac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281320" y="306216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4165560" y="3059280"/>
            <a:ext cx="83808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312080" y="319716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48616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121200" y="3059280"/>
            <a:ext cx="104616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3048120" y="30765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5122800" y="405288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7216920" y="405288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7369560" y="42210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5140800" y="404820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5973840" y="405288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6082200" y="4121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8055000" y="405288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8098560" y="40543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6" name="Rectangle 17"/>
          <p:cNvSpPr/>
          <p:nvPr/>
        </p:nvSpPr>
        <p:spPr>
          <a:xfrm>
            <a:off x="4013280" y="1849320"/>
            <a:ext cx="130500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7" name="Rectangle 18"/>
          <p:cNvSpPr/>
          <p:nvPr/>
        </p:nvSpPr>
        <p:spPr>
          <a:xfrm>
            <a:off x="5318280" y="1849320"/>
            <a:ext cx="83808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5391000" y="2025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4073760" y="1851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4230720" y="14796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1765440" y="26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5711760" y="363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2340000" y="556560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2519640" y="5716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2484360" y="50785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6" name="Rectangle 35"/>
          <p:cNvSpPr/>
          <p:nvPr/>
        </p:nvSpPr>
        <p:spPr>
          <a:xfrm>
            <a:off x="1239840" y="30654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1166760" y="30830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Rectangle 37"/>
          <p:cNvSpPr/>
          <p:nvPr/>
        </p:nvSpPr>
        <p:spPr>
          <a:xfrm>
            <a:off x="4076640" y="405432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4003560" y="40719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0" name="Rectangle 39"/>
          <p:cNvSpPr/>
          <p:nvPr/>
        </p:nvSpPr>
        <p:spPr>
          <a:xfrm>
            <a:off x="3170160" y="556416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Rectangle 40"/>
          <p:cNvSpPr/>
          <p:nvPr/>
        </p:nvSpPr>
        <p:spPr>
          <a:xfrm>
            <a:off x="5264280" y="556416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5416920" y="5732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3188160" y="5559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4" name="Rectangle 43"/>
          <p:cNvSpPr/>
          <p:nvPr/>
        </p:nvSpPr>
        <p:spPr>
          <a:xfrm>
            <a:off x="4021200" y="556416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4129560" y="56325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6102360" y="556416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6145920" y="556560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Rectangle 47"/>
          <p:cNvSpPr/>
          <p:nvPr/>
        </p:nvSpPr>
        <p:spPr>
          <a:xfrm>
            <a:off x="1293840" y="55656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1220760" y="55832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276200" y="3108240"/>
            <a:ext cx="4246200" cy="3195360"/>
            <a:chOff x="1276200" y="3108240"/>
            <a:chExt cx="4246200" cy="3195360"/>
          </a:xfrm>
        </p:grpSpPr>
        <p:pic>
          <p:nvPicPr>
            <p:cNvPr id="392" name="Picture 4" descr="endtoend"/>
            <p:cNvPicPr/>
            <p:nvPr/>
          </p:nvPicPr>
          <p:blipFill>
            <a:blip r:embed="rId1"/>
            <a:stretch/>
          </p:blipFill>
          <p:spPr>
            <a:xfrm>
              <a:off x="1276200" y="3108240"/>
              <a:ext cx="4246200" cy="31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AutoShape 6"/>
            <p:cNvSpPr/>
            <p:nvPr/>
          </p:nvSpPr>
          <p:spPr>
            <a:xfrm>
              <a:off x="1557720" y="5728680"/>
              <a:ext cx="1957320" cy="5749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End-to-End Host Security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94" name="Group 29"/>
          <p:cNvGrpSpPr/>
          <p:nvPr/>
        </p:nvGrpSpPr>
        <p:grpSpPr>
          <a:xfrm>
            <a:off x="3813120" y="1623960"/>
            <a:ext cx="4548240" cy="3637800"/>
            <a:chOff x="3813120" y="1623960"/>
            <a:chExt cx="4548240" cy="3637800"/>
          </a:xfrm>
        </p:grpSpPr>
        <p:sp>
          <p:nvSpPr>
            <p:cNvPr id="395" name="AutoShape 7"/>
            <p:cNvSpPr/>
            <p:nvPr/>
          </p:nvSpPr>
          <p:spPr>
            <a:xfrm>
              <a:off x="6435720" y="4935960"/>
              <a:ext cx="1390680" cy="32580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Server Isolation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396" name="Picture 28" descr="2804A_C02"/>
            <p:cNvPicPr/>
            <p:nvPr/>
          </p:nvPicPr>
          <p:blipFill>
            <a:blip r:embed="rId2"/>
            <a:stretch/>
          </p:blipFill>
          <p:spPr>
            <a:xfrm>
              <a:off x="3813120" y="1623960"/>
              <a:ext cx="4548240" cy="29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21" descr="Encryption01"/>
            <p:cNvPicPr/>
            <p:nvPr/>
          </p:nvPicPr>
          <p:blipFill>
            <a:blip r:embed="rId3"/>
            <a:stretch/>
          </p:blipFill>
          <p:spPr>
            <a:xfrm>
              <a:off x="4925880" y="209088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22" descr="Encryption01"/>
            <p:cNvPicPr/>
            <p:nvPr/>
          </p:nvPicPr>
          <p:blipFill>
            <a:blip r:embed="rId4"/>
            <a:stretch/>
          </p:blipFill>
          <p:spPr>
            <a:xfrm>
              <a:off x="4721400" y="2389320"/>
              <a:ext cx="1760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3" descr="Encryption01"/>
            <p:cNvPicPr/>
            <p:nvPr/>
          </p:nvPicPr>
          <p:blipFill>
            <a:blip r:embed="rId5"/>
            <a:stretch/>
          </p:blipFill>
          <p:spPr>
            <a:xfrm>
              <a:off x="4867200" y="285264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24" descr="Encryption01"/>
            <p:cNvPicPr/>
            <p:nvPr/>
          </p:nvPicPr>
          <p:blipFill>
            <a:blip r:embed="rId6"/>
            <a:stretch/>
          </p:blipFill>
          <p:spPr>
            <a:xfrm>
              <a:off x="4843440" y="3263760"/>
              <a:ext cx="176400" cy="28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Tu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n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el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ovací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 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mó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02" name="AutoShape 48"/>
          <p:cNvSpPr/>
          <p:nvPr/>
        </p:nvSpPr>
        <p:spPr>
          <a:xfrm>
            <a:off x="5724360" y="2386080"/>
            <a:ext cx="2264040" cy="2311200"/>
          </a:xfrm>
          <a:custGeom>
            <a:avLst/>
            <a:gdLst>
              <a:gd name="textAreaLeft" fmla="*/ 26640 w 2264040"/>
              <a:gd name="textAreaRight" fmla="*/ 2237400 w 226404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0">
                <a:moveTo>
                  <a:pt x="875" y="0"/>
                </a:moveTo>
                <a:arcTo wR="875" hR="875" stAng="16200000" swAng="-5400000"/>
                <a:lnTo>
                  <a:pt x="0" y="21175"/>
                </a:lnTo>
                <a:arcTo wR="875" hR="875" stAng="10800000" swAng="-5400000"/>
                <a:lnTo>
                  <a:pt x="20725" y="22050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1270080" y="1618200"/>
            <a:ext cx="18777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-to-Site VP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4" name="AutoShape 31"/>
          <p:cNvSpPr/>
          <p:nvPr/>
        </p:nvSpPr>
        <p:spPr>
          <a:xfrm>
            <a:off x="4052880" y="2216160"/>
            <a:ext cx="98748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Tunn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5" name="AutoShape 47"/>
          <p:cNvSpPr/>
          <p:nvPr/>
        </p:nvSpPr>
        <p:spPr>
          <a:xfrm>
            <a:off x="1106640" y="2386080"/>
            <a:ext cx="2263680" cy="2311200"/>
          </a:xfrm>
          <a:custGeom>
            <a:avLst/>
            <a:gdLst>
              <a:gd name="textAreaLeft" fmla="*/ 26640 w 2263680"/>
              <a:gd name="textAreaRight" fmla="*/ 2237040 w 226368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3">
                <a:moveTo>
                  <a:pt x="875" y="0"/>
                </a:moveTo>
                <a:arcTo wR="875" hR="875" stAng="16200000" swAng="-5400000"/>
                <a:lnTo>
                  <a:pt x="0" y="21178"/>
                </a:lnTo>
                <a:arcTo wR="875" hR="875" stAng="10800000" swAng="-5400000"/>
                <a:lnTo>
                  <a:pt x="20725" y="22053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6" name="AutoShape 33"/>
          <p:cNvSpPr/>
          <p:nvPr/>
        </p:nvSpPr>
        <p:spPr>
          <a:xfrm>
            <a:off x="2933640" y="426060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7" name="AutoShape 34"/>
          <p:cNvSpPr/>
          <p:nvPr/>
        </p:nvSpPr>
        <p:spPr>
          <a:xfrm>
            <a:off x="1233360" y="3998160"/>
            <a:ext cx="145584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Windows XP Client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8" name="AutoShape 35"/>
          <p:cNvSpPr/>
          <p:nvPr/>
        </p:nvSpPr>
        <p:spPr>
          <a:xfrm>
            <a:off x="6767640" y="4255560"/>
            <a:ext cx="99828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FTP Server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AutoShape 36"/>
          <p:cNvSpPr/>
          <p:nvPr/>
        </p:nvSpPr>
        <p:spPr>
          <a:xfrm>
            <a:off x="6305400" y="2527920"/>
            <a:ext cx="9813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B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AutoShape 37"/>
          <p:cNvSpPr/>
          <p:nvPr/>
        </p:nvSpPr>
        <p:spPr>
          <a:xfrm>
            <a:off x="1771560" y="2527920"/>
            <a:ext cx="98100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A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1" name="Picture 38" descr="Server01"/>
          <p:cNvPicPr/>
          <p:nvPr/>
        </p:nvPicPr>
        <p:blipFill>
          <a:blip r:embed="rId1"/>
          <a:stretch/>
        </p:blipFill>
        <p:spPr>
          <a:xfrm>
            <a:off x="6856560" y="3365640"/>
            <a:ext cx="693720" cy="815760"/>
          </a:xfrm>
          <a:prstGeom prst="rect">
            <a:avLst/>
          </a:prstGeom>
          <a:ln w="0">
            <a:noFill/>
          </a:ln>
        </p:spPr>
      </p:pic>
      <p:sp>
        <p:nvSpPr>
          <p:cNvPr id="412" name="Line 50"/>
          <p:cNvSpPr/>
          <p:nvPr/>
        </p:nvSpPr>
        <p:spPr>
          <a:xfrm>
            <a:off x="2127240" y="3552840"/>
            <a:ext cx="2152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3" name="Picture 45" descr="VpnB01"/>
          <p:cNvPicPr/>
          <p:nvPr/>
        </p:nvPicPr>
        <p:blipFill>
          <a:blip r:embed="rId2"/>
          <a:stretch/>
        </p:blipFill>
        <p:spPr>
          <a:xfrm>
            <a:off x="3730680" y="3352680"/>
            <a:ext cx="1730160" cy="760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6" descr="Internet01"/>
          <p:cNvPicPr/>
          <p:nvPr/>
        </p:nvPicPr>
        <p:blipFill>
          <a:blip r:embed="rId3"/>
          <a:stretch/>
        </p:blipFill>
        <p:spPr>
          <a:xfrm>
            <a:off x="3962520" y="3129120"/>
            <a:ext cx="1171440" cy="1168200"/>
          </a:xfrm>
          <a:prstGeom prst="rect">
            <a:avLst/>
          </a:prstGeom>
          <a:ln w="0">
            <a:noFill/>
          </a:ln>
        </p:spPr>
      </p:pic>
      <p:sp>
        <p:nvSpPr>
          <p:cNvPr id="415" name="Line 49"/>
          <p:cNvSpPr/>
          <p:nvPr/>
        </p:nvSpPr>
        <p:spPr>
          <a:xfrm>
            <a:off x="5192640" y="3914640"/>
            <a:ext cx="1828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6" name="Picture 40" descr="Server01"/>
          <p:cNvPicPr/>
          <p:nvPr/>
        </p:nvPicPr>
        <p:blipFill>
          <a:blip r:embed="rId4"/>
          <a:stretch/>
        </p:blipFill>
        <p:spPr>
          <a:xfrm>
            <a:off x="5608800" y="345132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1" descr="Server01"/>
          <p:cNvPicPr/>
          <p:nvPr/>
        </p:nvPicPr>
        <p:blipFill>
          <a:blip r:embed="rId5"/>
          <a:stretch/>
        </p:blipFill>
        <p:spPr>
          <a:xfrm>
            <a:off x="2916360" y="324180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3" descr="Computer_DesktopComputer01"/>
          <p:cNvPicPr/>
          <p:nvPr/>
        </p:nvPicPr>
        <p:blipFill>
          <a:blip r:embed="rId6"/>
          <a:stretch/>
        </p:blipFill>
        <p:spPr>
          <a:xfrm>
            <a:off x="1639800" y="3174840"/>
            <a:ext cx="758880" cy="85248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51"/>
          <p:cNvSpPr/>
          <p:nvPr/>
        </p:nvSpPr>
        <p:spPr>
          <a:xfrm>
            <a:off x="5398920" y="440352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Implementa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Časté síťové prvky a operační systémy: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řízení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isco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C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S Window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IPSec a MS Windows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a od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Windows 20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lexib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lní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onfigura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ční možnosti 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(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místní politika nebo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Active Directory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MS Management Console (MMC)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nap-in modu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pro správu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P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bezpečnost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obecných pravidel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(IKE –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oby platností, šifrovací algoritmy atd.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pravid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Jak IPSec zabezpečuje datový provoz?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1476000" y="2817720"/>
            <a:ext cx="7394760" cy="2981160"/>
            <a:chOff x="1476000" y="2817720"/>
            <a:chExt cx="7394760" cy="2981160"/>
          </a:xfrm>
        </p:grpSpPr>
        <p:sp>
          <p:nvSpPr>
            <p:cNvPr id="424" name="Rectangle 4"/>
            <p:cNvSpPr/>
            <p:nvPr/>
          </p:nvSpPr>
          <p:spPr>
            <a:xfrm rot="10800000">
              <a:off x="1476000" y="5666760"/>
              <a:ext cx="7394760" cy="1317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5" name="AutoShape 5"/>
            <p:cNvSpPr/>
            <p:nvPr/>
          </p:nvSpPr>
          <p:spPr>
            <a:xfrm rot="5400000">
              <a:off x="194760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6" name="AutoShape 6"/>
            <p:cNvSpPr/>
            <p:nvPr/>
          </p:nvSpPr>
          <p:spPr>
            <a:xfrm rot="5400000">
              <a:off x="634824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427" name="Picture 7" descr="Computer_DesktopComputerSansKeyboard01"/>
            <p:cNvPicPr/>
            <p:nvPr/>
          </p:nvPicPr>
          <p:blipFill>
            <a:blip r:embed="rId1"/>
            <a:stretch/>
          </p:blipFill>
          <p:spPr>
            <a:xfrm>
              <a:off x="2479680" y="2817720"/>
              <a:ext cx="103212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8" descr="Computer_DesktopComputerSansKeyboard01"/>
            <p:cNvPicPr/>
            <p:nvPr/>
          </p:nvPicPr>
          <p:blipFill>
            <a:blip r:embed="rId2"/>
            <a:stretch/>
          </p:blipFill>
          <p:spPr>
            <a:xfrm>
              <a:off x="6929640" y="2817720"/>
              <a:ext cx="1031760" cy="12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9"/>
          <p:cNvGrpSpPr/>
          <p:nvPr/>
        </p:nvGrpSpPr>
        <p:grpSpPr>
          <a:xfrm>
            <a:off x="1793880" y="2238480"/>
            <a:ext cx="6822720" cy="2832120"/>
            <a:chOff x="1793880" y="2238480"/>
            <a:chExt cx="6822720" cy="2832120"/>
          </a:xfrm>
        </p:grpSpPr>
        <p:sp>
          <p:nvSpPr>
            <p:cNvPr id="430" name="Line 10"/>
            <p:cNvSpPr/>
            <p:nvPr/>
          </p:nvSpPr>
          <p:spPr>
            <a:xfrm flipH="1">
              <a:off x="341640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626292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1793880" y="2238480"/>
              <a:ext cx="126396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 flipH="1">
              <a:off x="7419240" y="2238480"/>
              <a:ext cx="119700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4" name="AutoShape 14"/>
            <p:cNvSpPr/>
            <p:nvPr/>
          </p:nvSpPr>
          <p:spPr>
            <a:xfrm>
              <a:off x="677412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5" name="AutoShape 15"/>
            <p:cNvSpPr/>
            <p:nvPr/>
          </p:nvSpPr>
          <p:spPr>
            <a:xfrm>
              <a:off x="677412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>
              <a:off x="217980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7" name="AutoShape 17"/>
            <p:cNvSpPr/>
            <p:nvPr/>
          </p:nvSpPr>
          <p:spPr>
            <a:xfrm>
              <a:off x="217980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38" name="Group 18"/>
          <p:cNvGrpSpPr/>
          <p:nvPr/>
        </p:nvGrpSpPr>
        <p:grpSpPr>
          <a:xfrm>
            <a:off x="3170160" y="5060880"/>
            <a:ext cx="4019040" cy="1463760"/>
            <a:chOff x="3170160" y="5060880"/>
            <a:chExt cx="4019040" cy="1463760"/>
          </a:xfrm>
        </p:grpSpPr>
        <p:sp>
          <p:nvSpPr>
            <p:cNvPr id="439" name="Freeform 19"/>
            <p:cNvSpPr/>
            <p:nvPr/>
          </p:nvSpPr>
          <p:spPr>
            <a:xfrm>
              <a:off x="317016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0" name="AutoShape 20"/>
            <p:cNvSpPr/>
            <p:nvPr/>
          </p:nvSpPr>
          <p:spPr>
            <a:xfrm>
              <a:off x="3887640" y="6143400"/>
              <a:ext cx="2333520" cy="3812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Zabezpečen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I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akety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41" name="Group 21"/>
            <p:cNvGrpSpPr/>
            <p:nvPr/>
          </p:nvGrpSpPr>
          <p:grpSpPr>
            <a:xfrm>
              <a:off x="4395600" y="5060880"/>
              <a:ext cx="730080" cy="1003320"/>
              <a:chOff x="4395600" y="5060880"/>
              <a:chExt cx="730080" cy="1003320"/>
            </a:xfrm>
          </p:grpSpPr>
          <p:pic>
            <p:nvPicPr>
              <p:cNvPr id="442" name="Picture 22" descr="ArbitraryElement01"/>
              <p:cNvPicPr/>
              <p:nvPr/>
            </p:nvPicPr>
            <p:blipFill>
              <a:blip r:embed="rId3"/>
              <a:stretch/>
            </p:blipFill>
            <p:spPr>
              <a:xfrm>
                <a:off x="439560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23" descr="Security_Secured01"/>
              <p:cNvPicPr/>
              <p:nvPr/>
            </p:nvPicPr>
            <p:blipFill>
              <a:blip r:embed="rId4"/>
              <a:stretch/>
            </p:blipFill>
            <p:spPr>
              <a:xfrm>
                <a:off x="4524120" y="5060880"/>
                <a:ext cx="44928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4" name="Group 24"/>
            <p:cNvGrpSpPr/>
            <p:nvPr/>
          </p:nvGrpSpPr>
          <p:grpSpPr>
            <a:xfrm>
              <a:off x="5208480" y="5060880"/>
              <a:ext cx="730080" cy="1003320"/>
              <a:chOff x="5208480" y="5060880"/>
              <a:chExt cx="730080" cy="1003320"/>
            </a:xfrm>
          </p:grpSpPr>
          <p:pic>
            <p:nvPicPr>
              <p:cNvPr id="445" name="Picture 25" descr="ArbitraryElement01"/>
              <p:cNvPicPr/>
              <p:nvPr/>
            </p:nvPicPr>
            <p:blipFill>
              <a:blip r:embed="rId5"/>
              <a:stretch/>
            </p:blipFill>
            <p:spPr>
              <a:xfrm>
                <a:off x="520848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6" descr="Security_Secured01"/>
              <p:cNvPicPr/>
              <p:nvPr/>
            </p:nvPicPr>
            <p:blipFill>
              <a:blip r:embed="rId6"/>
              <a:stretch/>
            </p:blipFill>
            <p:spPr>
              <a:xfrm>
                <a:off x="5337000" y="5060880"/>
                <a:ext cx="44892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7" name="Freeform 27"/>
            <p:cNvSpPr/>
            <p:nvPr/>
          </p:nvSpPr>
          <p:spPr>
            <a:xfrm flipH="1">
              <a:off x="592848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48" name="AutoShape 28"/>
          <p:cNvSpPr/>
          <p:nvPr/>
        </p:nvSpPr>
        <p:spPr>
          <a:xfrm>
            <a:off x="3408480" y="5946840"/>
            <a:ext cx="338040" cy="393480"/>
          </a:xfrm>
          <a:custGeom>
            <a:avLst/>
            <a:gdLst>
              <a:gd name="textAreaLeft" fmla="*/ 0 w 338040"/>
              <a:gd name="textAreaRight" fmla="*/ 338400 w 3380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1600" h="25139">
                <a:moveTo>
                  <a:pt x="0" y="0"/>
                </a:moveTo>
                <a:arcTo wR="0" hR="0" stAng="16200000" swAng="-5400000"/>
                <a:lnTo>
                  <a:pt x="0" y="25139"/>
                </a:lnTo>
                <a:arcTo wR="0" hR="0" stAng="10800000" swAng="-5400000"/>
                <a:lnTo>
                  <a:pt x="21600" y="251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50000">
                <a:srgbClr val="f0f0f0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292934"/>
            </a:solidFill>
            <a:miter/>
          </a:ln>
          <a:effectLst>
            <a:outerShdw dist="17819" dir="2700000" blurRad="0" rotWithShape="0">
              <a:srgbClr val="29293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3979800" y="2227320"/>
            <a:ext cx="2374560" cy="2288520"/>
            <a:chOff x="3979800" y="2227320"/>
            <a:chExt cx="2374560" cy="2288520"/>
          </a:xfrm>
        </p:grpSpPr>
        <p:sp>
          <p:nvSpPr>
            <p:cNvPr id="450" name="Freeform 30"/>
            <p:cNvSpPr/>
            <p:nvPr/>
          </p:nvSpPr>
          <p:spPr>
            <a:xfrm>
              <a:off x="3979800" y="2227320"/>
              <a:ext cx="48888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 flipH="1">
              <a:off x="5861520" y="2227320"/>
              <a:ext cx="48924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52" name="Group 32"/>
            <p:cNvGrpSpPr/>
            <p:nvPr/>
          </p:nvGrpSpPr>
          <p:grpSpPr>
            <a:xfrm>
              <a:off x="4020840" y="2948040"/>
              <a:ext cx="2333520" cy="1567800"/>
              <a:chOff x="4020840" y="2948040"/>
              <a:chExt cx="2333520" cy="1567800"/>
            </a:xfrm>
          </p:grpSpPr>
          <p:pic>
            <p:nvPicPr>
              <p:cNvPr id="453" name="Picture 33" descr="Security_Permissions01"/>
              <p:cNvPicPr/>
              <p:nvPr/>
            </p:nvPicPr>
            <p:blipFill>
              <a:blip r:embed="rId7"/>
              <a:stretch/>
            </p:blipFill>
            <p:spPr>
              <a:xfrm>
                <a:off x="4860720" y="3595320"/>
                <a:ext cx="65232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AutoShape 34"/>
              <p:cNvSpPr/>
              <p:nvPr/>
            </p:nvSpPr>
            <p:spPr>
              <a:xfrm>
                <a:off x="4020840" y="2948040"/>
                <a:ext cx="2333520" cy="6314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Internet Key Exchange (IKE) </a:t>
                </a:r>
                <a:r>
                  <a:rPr b="1" lang="cs-CZ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vyjednávání</a:t>
                </a: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455" name="AutoShape 35"/>
            <p:cNvSpPr/>
            <p:nvPr/>
          </p:nvSpPr>
          <p:spPr>
            <a:xfrm>
              <a:off x="4466880" y="3705120"/>
              <a:ext cx="338400" cy="39384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1600" h="25135">
                  <a:moveTo>
                    <a:pt x="0" y="0"/>
                  </a:moveTo>
                  <a:arcTo wR="0" hR="0" stAng="16200000" swAng="-5400000"/>
                  <a:lnTo>
                    <a:pt x="0" y="25135"/>
                  </a:lnTo>
                  <a:arcTo wR="0" hR="0" stAng="10800000" swAng="-5400000"/>
                  <a:lnTo>
                    <a:pt x="21600" y="251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50000">
                  <a:srgbClr val="f0f0f0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292934"/>
              </a:solidFill>
              <a:miter/>
            </a:ln>
            <a:effectLst>
              <a:outerShdw dist="17819" dir="2700000" blurRad="0" rotWithShape="0">
                <a:srgbClr val="29293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2313000" y="1434960"/>
            <a:ext cx="5766840" cy="1418400"/>
            <a:chOff x="2313000" y="1434960"/>
            <a:chExt cx="5766840" cy="1418400"/>
          </a:xfrm>
        </p:grpSpPr>
        <p:grpSp>
          <p:nvGrpSpPr>
            <p:cNvPr id="457" name="Group 60"/>
            <p:cNvGrpSpPr/>
            <p:nvPr/>
          </p:nvGrpSpPr>
          <p:grpSpPr>
            <a:xfrm>
              <a:off x="2313000" y="1434960"/>
              <a:ext cx="5766840" cy="1418400"/>
              <a:chOff x="2313000" y="1434960"/>
              <a:chExt cx="5766840" cy="1418400"/>
            </a:xfrm>
          </p:grpSpPr>
          <p:grpSp>
            <p:nvGrpSpPr>
              <p:cNvPr id="458" name="Group 59"/>
              <p:cNvGrpSpPr/>
              <p:nvPr/>
            </p:nvGrpSpPr>
            <p:grpSpPr>
              <a:xfrm>
                <a:off x="2313000" y="1834920"/>
                <a:ext cx="5766840" cy="1018440"/>
                <a:chOff x="2313000" y="1834920"/>
                <a:chExt cx="5766840" cy="1018440"/>
              </a:xfrm>
            </p:grpSpPr>
            <p:pic>
              <p:nvPicPr>
                <p:cNvPr id="459" name="Picture 38" descr="Policy_Writing0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352680" y="183492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9" descr="Policy_Writing0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68680" y="186300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AutoShape 40"/>
                <p:cNvSpPr/>
                <p:nvPr/>
              </p:nvSpPr>
              <p:spPr>
                <a:xfrm>
                  <a:off x="6752160" y="2194200"/>
                  <a:ext cx="132768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41"/>
                <p:cNvSpPr/>
                <p:nvPr/>
              </p:nvSpPr>
              <p:spPr>
                <a:xfrm>
                  <a:off x="2313000" y="2194200"/>
                  <a:ext cx="132804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58"/>
              <p:cNvGrpSpPr/>
              <p:nvPr/>
            </p:nvGrpSpPr>
            <p:grpSpPr>
              <a:xfrm>
                <a:off x="2398680" y="1434960"/>
                <a:ext cx="5012280" cy="717120"/>
                <a:chOff x="2398680" y="1434960"/>
                <a:chExt cx="5012280" cy="717120"/>
              </a:xfrm>
            </p:grpSpPr>
            <p:sp>
              <p:nvSpPr>
                <p:cNvPr id="464" name="AutoShape 43"/>
                <p:cNvSpPr/>
                <p:nvPr/>
              </p:nvSpPr>
              <p:spPr>
                <a:xfrm>
                  <a:off x="2398680" y="1563120"/>
                  <a:ext cx="337320" cy="412920"/>
                </a:xfrm>
                <a:custGeom>
                  <a:avLst/>
                  <a:gdLst>
                    <a:gd name="textAreaLeft" fmla="*/ 0 w 337320"/>
                    <a:gd name="textAreaRight" fmla="*/ 337680 w 337320"/>
                    <a:gd name="textAreaTop" fmla="*/ 0 h 412920"/>
                    <a:gd name="textAreaBottom" fmla="*/ 413280 h 412920"/>
                  </a:gdLst>
                  <a:ahLst/>
                  <a:rect l="textAreaLeft" t="textAreaTop" r="textAreaRight" b="textAreaBottom"/>
                  <a:pathLst>
                    <a:path w="21600" h="26436">
                      <a:moveTo>
                        <a:pt x="0" y="0"/>
                      </a:moveTo>
                      <a:arcTo wR="0" hR="0" stAng="16200000" swAng="-5400000"/>
                      <a:lnTo>
                        <a:pt x="0" y="26436"/>
                      </a:lnTo>
                      <a:arcTo wR="0" hR="0" stAng="10800000" swAng="-5400000"/>
                      <a:lnTo>
                        <a:pt x="21600" y="26436"/>
                      </a:lnTo>
                      <a:arcTo wR="0" hR="0" stAng="16200000" swAng="-5400000"/>
                      <a:lnTo>
                        <a:pt x="21600" y="0"/>
                      </a:lnTo>
                      <a:arcTo wR="0" hR="0" stAng="1080000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0080"/>
                    </a:gs>
                    <a:gs pos="50000">
                      <a:srgbClr val="f0f0f0"/>
                    </a:gs>
                    <a:gs pos="100000">
                      <a:srgbClr val="800080"/>
                    </a:gs>
                  </a:gsLst>
                  <a:lin ang="5400000"/>
                </a:gradFill>
                <a:ln w="9360">
                  <a:solidFill>
                    <a:srgbClr val="292934"/>
                  </a:solidFill>
                  <a:miter/>
                </a:ln>
                <a:effectLst>
                  <a:outerShdw dist="17819" dir="2700000" blurRad="0" rotWithShape="0">
                    <a:srgbClr val="292934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0033"/>
                      </a:solidFill>
                      <a:latin typeface="Arial Narrow"/>
                    </a:rPr>
                    <a:t>1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Group 57"/>
                <p:cNvGrpSpPr/>
                <p:nvPr/>
              </p:nvGrpSpPr>
              <p:grpSpPr>
                <a:xfrm>
                  <a:off x="2922840" y="1434960"/>
                  <a:ext cx="4488120" cy="717120"/>
                  <a:chOff x="2922840" y="1434960"/>
                  <a:chExt cx="4488120" cy="717120"/>
                </a:xfrm>
              </p:grpSpPr>
              <p:sp>
                <p:nvSpPr>
                  <p:cNvPr id="466" name="Freeform 45"/>
                  <p:cNvSpPr/>
                  <p:nvPr/>
                </p:nvSpPr>
                <p:spPr>
                  <a:xfrm>
                    <a:off x="2922840" y="1596240"/>
                    <a:ext cx="4488120" cy="5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32" h="432">
                        <a:moveTo>
                          <a:pt x="0" y="432"/>
                        </a:moveTo>
                        <a:lnTo>
                          <a:pt x="0" y="0"/>
                        </a:lnTo>
                        <a:lnTo>
                          <a:pt x="2832" y="0"/>
                        </a:lnTo>
                        <a:lnTo>
                          <a:pt x="2832" y="432"/>
                        </a:lnTo>
                      </a:path>
                    </a:pathLst>
                  </a:custGeom>
                  <a:noFill/>
                  <a:ln w="57240">
                    <a:solidFill>
                      <a:srgbClr val="cc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AutoShape 46"/>
                  <p:cNvSpPr/>
                  <p:nvPr/>
                </p:nvSpPr>
                <p:spPr>
                  <a:xfrm>
                    <a:off x="4330800" y="1434960"/>
                    <a:ext cx="1705320" cy="399600"/>
                  </a:xfrm>
                  <a:prstGeom prst="roundRect">
                    <a:avLst>
                      <a:gd name="adj" fmla="val 41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afafa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  <a:ea typeface="Arial"/>
                      </a:rPr>
                      <a:t>MMC</a:t>
                    </a: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468" name="Picture 56" descr="2DomainWithOus01"/>
            <p:cNvPicPr/>
            <p:nvPr/>
          </p:nvPicPr>
          <p:blipFill>
            <a:blip r:embed="rId10"/>
            <a:stretch/>
          </p:blipFill>
          <p:spPr>
            <a:xfrm>
              <a:off x="4664520" y="1881360"/>
              <a:ext cx="1077120" cy="93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Konfigurace IPSec u MS Window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Filtr – definice parametrů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adresa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protoko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drojový a cílový TCP a UDP por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kce filtru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volit přenos i nezabezpečených paket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zabezpečené pakety blokovat (zahazovat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ktivovat zabezpečený režim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Možnosti autentizac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ován do Active directo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Textový řetěze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existuje spolehlivý a jednoduchý mechanismus zneplatnění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ití pouze pro testovací účel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utná přítomnost c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rtifi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ační a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utori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promitované údaje lze zneplatnit (r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vocatio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estování konfigura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H, ES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 (vlastní CA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ástroj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Sec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twork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Wireshark apo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řehled vlastnost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– rámec otevřených standardů pro zajištění bezpečné komunikace přes sítě IP prostřednictvím využívání kryptografických bezpečnostních služeb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acuje na síťové vrstvě referenčního modelu síťové architektury ISO/OS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yvinut primárně pro IPv6, kde bývala jeho podpora povinná každým uzlem – už ne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mplementován i pro IPv4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lze použít pro přenos dat utajovaných dle zákona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PSec u směrovačů Cisco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ISAKMP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Security Association and Key Management Protoco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(zabývá se všemi aspekty SA a zajišťuje výměnu kryptografických klíčů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transformační sady IPSec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ACL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ccess Control List – rozhoduje o použití IPSEc pro každý pake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map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ce krypto mapy na rozhra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SAKMP 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24000" y="2536560"/>
            <a:ext cx="7920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policy 1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encr aes 256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uthentication pre-shar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group 5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lifetime 36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key cisco address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transformační sa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607760" y="3257640"/>
            <a:ext cx="742788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psec transform-set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br>
              <a:rPr sz="2400"/>
            </a:b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h-sha-hmac esp-aes 256 esp-sha-hma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nově se někdy výstižněji označuje „IPSec Proposals“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ACL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617840" y="3255840"/>
            <a:ext cx="6626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49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ccess-list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r>
              <a:rPr b="0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permit gre host 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	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40 host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protokol dle potřeby – zde GRE, ale třeba IP, ...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mapy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07760" y="3284280"/>
            <a:ext cx="74278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10 ipsec-isakm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peer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transform-set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match address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2533c"/>
                </a:solidFill>
                <a:latin typeface="Cambria"/>
              </a:rPr>
              <a:t>Aplikace krypto mapy na rozhraní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47640" y="3327120"/>
            <a:ext cx="74282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interface serial0/0/1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R3(config-if)# 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869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Děkuji za pozornos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lužby a složen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poskytuje následující služby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a v prostředí nespojované komunik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věřování původ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a proti opakovaným vysíláním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(šifr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y tvořící základ IPSec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uthentication Header (AH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ncapsulated  Security Payload (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Key Exchange (IK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Histori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popis v RFC 1825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implementace v BSDI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oučasný stav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1 – přehled architektury (1998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2 – popis protokolu AH (Authentication Header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6 – popis protokolu ESP (Encapsulation Security Payload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8 – popis protokolu IKE (Internet Key Exchange) – správa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Výhody a nevýho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ransparentnost (netřeba modifikovat protokoly vyšších vrstev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kálovatelnost (od jednotlivých PC po velké sítě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ční nezávislost, lze zabezpečit libovolný protokol využívající protokol IP (telnet, ftp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iroká podpora mezi výrobc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ložitost – citlivost na některé útok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ětší režie, vadící u krátkých paketů (např. zvuk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AH (Authentication Header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AH zajišťuje tyto funk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aci každého IP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u před opakovaným vyslání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šifruje data, ale nelze je změni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záhlaví i data jsou podepsán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braňuje útoku typu podvržení adresy sledováním pořadových čís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ívá algoritmy HMAC (Hash Message Authentication Cod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unikující strany musí sdílet taj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Protokol ESP (</a:t>
            </a:r>
            <a:r>
              <a:rPr b="0" lang="en-US" sz="3600" spc="-1" strike="noStrike">
                <a:solidFill>
                  <a:srgbClr val="d2533c"/>
                </a:solidFill>
                <a:latin typeface="Cambria"/>
              </a:rPr>
              <a:t>Encapsulated  Security Payload </a:t>
            </a: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)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ESP poskytuj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rčitá důvěrnost toku dat (mask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Volitelně podporu autentizace -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Lze použít souběžně s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uje řadu šifrovacích algoritmů, módů, at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mbria"/>
              </a:rPr>
              <a:t>DES, 3DES, RC5, IDEA, CAST a další </a:t>
            </a:r>
            <a:endParaRPr b="0" lang="en-US" sz="20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IKE (</a:t>
            </a: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Internet Key Exchange </a:t>
            </a: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IK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ryptografická infrastruktura zajišťující vyjednávání o výměně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staví Security Associations (SAs) mezi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uje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ecurity Associations (SA) - </a:t>
            </a:r>
            <a:r>
              <a:rPr b="0" i="1" lang="cs-CZ" sz="2800" spc="-1" strike="noStrike">
                <a:solidFill>
                  <a:srgbClr val="800080"/>
                </a:solidFill>
                <a:latin typeface="Cambria"/>
              </a:rPr>
              <a:t>jednosměrný</a:t>
            </a:r>
            <a:r>
              <a:rPr b="0" i="1" lang="cs-CZ" sz="28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ztah mezi odesílající a přijímající stranou; parametr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ecurity Parameters Index (metoda autentizac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ílová IP adresa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dentifikátor bezpečnostního protokolu (AH či 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oužití protokolů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Authentication Header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žaduje se připojení k zaručenému adresátov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 být ověřován zdroj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Data sama o sobě nejsou citlivá, riziko zachycení paketů a potenciální kompromitace je nízké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Encapsulation Security Payload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tajení p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řenáše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ých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informac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í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uze požaduje-li se ochrana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</a:t>
            </a: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rotokoly AH a ESP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 současně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-li být data chráněna a je nutná autentiz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kud zvýšená bezpečnost kompenzuje pokles výkonnosti vyplývající z další reži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9:15:07Z</dcterms:created>
  <dc:creator/>
  <dc:description/>
  <dc:language>en-US</dc:language>
  <cp:lastModifiedBy/>
  <dcterms:modified xsi:type="dcterms:W3CDTF">2022-04-03T19:24:49Z</dcterms:modified>
  <cp:revision>2</cp:revision>
  <dc:subject/>
  <dc:title>NADPIS</dc:title>
</cp:coreProperties>
</file>