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95C-5AD8-4628-8191-8310984E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D6D-A829-426E-8437-7C7DD0A9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FF4-3537-4711-8D58-2B5C4CC0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349-8140-4785-8A94-80E553AC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304-D117-479D-B362-A2DCBBAA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C81-707C-46A4-BF42-7C8AD355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8A5-EBBC-41CB-8357-4B214029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B76-D407-42BF-BE8B-C97F80E7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DF0-F1D4-4E6C-8C79-3DC1FB31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D98-FCD2-4BFD-8573-82E0F904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811-27AC-423A-AD56-42934998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038-FF40-46C7-BEE8-BBA64661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E036-D21E-4410-B07A-3ED739223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1T17:03:35Z</dcterms:modified>
  <cp:revision>84</cp:revision>
  <dc:subject/>
  <dc:title>Lecture 1:</dc:title>
</cp:coreProperties>
</file>