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AF1-3B70-48E9-AEE0-6427F29E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572-CAA9-4D35-A9F2-E247A150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52D-F4E6-4EE5-BC18-9145BF53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850-E646-4319-943B-FBD36B35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EBA-38C0-4ADB-B34C-35F18F0E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F6D-604B-4A11-8182-927CEE4C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F64-C33E-489B-B77B-AE08C830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739-4F97-4EC4-BB7B-B5C2F228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D15-3AE2-4EBE-B699-FC303D52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61C-4F59-4890-A0E8-89F0CFE4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D67-94D1-430F-9D25-ABA1A6B5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A80-4050-433B-AD2B-189F4CD1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776B-ADB4-40FD-90C3-C7D498B60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43Z</dcterms:modified>
  <cp:revision>187</cp:revision>
  <dc:subject/>
  <dc:title>Lecture 1:</dc:title>
</cp:coreProperties>
</file>