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E8BF-1ADF-4E00-9327-D1DF4D898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7119-8A57-439E-8349-E16D62DA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B861-C917-44AE-9F6E-5AAB8775A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CE17-CDD0-4879-AC63-019C14D67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A592-0A15-4F01-A50F-7F94F30B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686E-B52C-425D-A906-2C0FB668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604D-B654-4722-8D7A-971BD802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1AC9-0CDC-4EFE-9901-EF3A2C35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CEFA-F460-4799-B835-F71769C9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1B02-F657-48AC-9844-EC5F7A09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03D1-777D-49F8-B475-DADE15C2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3EFD-CE2F-49D6-8048-75C229C9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D91C-B258-4260-89DB-367D43AFA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0-07T11:23:00Z</dcterms:modified>
  <cp:revision>9</cp:revision>
  <dc:subject/>
  <dc:title>Lecture 1:</dc:title>
</cp:coreProperties>
</file>