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8FCA-920F-42ED-84AB-45EBB8FF8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DA9A-370C-457E-B673-B9A0B1B3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1099-885D-4683-A46B-DF33E354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C3A0-CF24-43B0-A80A-23248449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B207-7A7F-4CCD-B837-24CCF15A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5F69-2C21-4CDB-BA2D-48316249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4E38-B3D5-40C4-983C-2CD82313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9FDA-281F-47BE-9434-66F3C7B8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47D0-671C-4A7D-8045-C383A72A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D275-B3AD-4B1A-A65A-EA89ECAE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C165-5EEF-4E09-B1FE-52829A4C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B80E-BE45-43EB-B18A-82CD27D4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A1F3-3A6B-477B-B35E-0FF778C6D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7:33Z</dcterms:modified>
  <cp:revision>124</cp:revision>
  <dc:subject/>
  <dc:title>Lecture 1:</dc:title>
</cp:coreProperties>
</file>