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A1BE-B41A-4E98-B4F5-9FA54354D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E725-0B77-4C78-AD30-A0B190018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EDA1-87BF-4003-A4FC-E11A8E0D9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3561-460C-4830-8758-F24ABF1DE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716E-0C3A-4EF4-B0F2-3B812E05F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B877-F1CB-4062-8C96-BB6A0E64B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B4E1-B4F3-41B8-9214-E6B97A402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DEF0-B839-4DBC-844C-F66884F3A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DF04-1366-4790-8FBC-758713653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B1AB-50DA-4E78-8CE4-261E2BC56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2473-1144-492E-95A6-BF8FB4F20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65F3-689A-4B36-963E-E13D9ADD7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BDB74-848F-4FC8-8EC4-AA98AD0617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9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formation related to final 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60 exercise 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5 exercise 1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6 exercise 1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s Progra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 Service Provi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990720"/>
            <a:ext cx="8382240" cy="58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an action which took place before another action in the past provided the former is mentioned after the lat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installed the program I had bought from Microso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the scanner he had disconnected from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iler reported an error because he had not declared one of the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got fed up with the system since I had been configuring it for a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he time he moved in there, I had been living there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form tense shift (souslednos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asová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had never used hashes in his progr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experiment had never been conducted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replied they had been working on the solution to the security hole problem for the last fourteen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had seriously violated the company’s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form the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ditional (ner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lná podmínka v minulost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known it, I would not have come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he had not declared the variable, the compiler would have reported the err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d she realized how serious the problem was, she would not have dared solve it by her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she had found out how much he snores, she would never have married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se shift is used to convert direct speech into reported speech provided the main clause contains past tense (the main clause introducing something that was said in the pa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nse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perfect (simple, continuous)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“woul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143000"/>
            <a:ext cx="8381880" cy="53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erbs introducing tense shif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tell, ask, answer, reply, announce, report, want to know, know, learn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dovědět 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feel, think, add, admit, agree, claim, confirm, deny, doubt, find, hope, mention, promise, propose, remark, repeat, state, suppose, swear (swore, sworn), threaten, under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 he knew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me he was giving a lecture at that mo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wore he had never used the disket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added they had been debugging the source code for three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claimed she had never worked with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ears found out someone had been sleeping in their be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know how she would handle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ose which specify the exact time an action happened 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us he lived there in 198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hose that express, or are considered to be, general tru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the Czech Republic has about ten million citize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square root of 4 is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those that contain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n’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expressing permanent necessity or b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octor told me I mustn’t smo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aid the processor must be cooled because otherwise it overhe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7332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those containing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: “You should not execute the fil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 I should not execute the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: You should not get off with that woman. She is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should not (not to) get off with that woman because she was (is)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371600"/>
            <a:ext cx="7848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version of direct speech into indirect involves the following adverbial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terd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t yea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year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morr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after, the following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wee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week after, the following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: “I will replace this cable here with a new one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would replace that cable there the following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qdvorak1</cp:lastModifiedBy>
  <dcterms:modified xsi:type="dcterms:W3CDTF">2004-12-09T13:49:42Z</dcterms:modified>
  <cp:revision>102</cp:revision>
  <dc:subject/>
  <dc:title>Lecture 1:</dc:title>
</cp:coreProperties>
</file>