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3B2D-5705-4768-B7D3-6867711CD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F9EA-6E29-4F57-A0D4-C000DD17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72B8-13CB-46C0-8E2B-8199F12AB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2CDB-6528-4729-AD28-0C22986B1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804A-66DD-4E6E-AC99-BD9A1D1E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D803-CC23-47DF-BF5D-CF6403F7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2338-09EC-4212-A9B9-5FB9F14B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2487-C89A-4EAF-8D21-054A1932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F5FE-B4A0-4383-A320-2F5FAE53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B874-4489-4550-A7DB-273A6D36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545A-54C2-4F7F-BE3D-FDBE9FA8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4D4D-E60F-4E7C-A30D-9B80DB85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067C-4139-4242-83B6-F6368F1CD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zed reading according to the teac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s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0-07T11:10:47Z</dcterms:modified>
  <cp:revision>17</cp:revision>
  <dc:subject/>
  <dc:title>Lecture 1:</dc:title>
</cp:coreProperties>
</file>