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729B-5BB0-4B23-ABA0-952134779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7397-87B7-4A98-B275-982571D3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9BE0-A3F0-487D-84F6-AC5C4FD71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74F9-D2F5-4C05-B343-36FBA7196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377B-59E3-4859-893F-9FC5060B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FA31-6FAB-4C0E-83F6-F8E0DB27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C6DC-1A7E-41F7-9735-A544D35A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96E1-C83E-40AD-8949-0551AFAA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349F-FB2F-4178-BFF5-74BB026A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19B5-F784-4C62-B81B-83F9FF88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A498-97CB-4E7E-B2E8-EAE53276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8E6D-2DA5-400F-A50B-30E0C184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4587-C806-415C-ADC0-923B0DF5C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reque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600200"/>
            <a:ext cx="815328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0-21T11:48:28Z</dcterms:modified>
  <cp:revision>49</cp:revision>
  <dc:subject/>
  <dc:title>Lecture 1:</dc:title>
</cp:coreProperties>
</file>