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D4C-9E39-4C6A-9A26-D805DB11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E4B-246B-4796-8DE8-3E0FDA84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F3F-5F58-4E10-900E-ED5381CA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612-B8CD-4808-B918-7DEEE408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716-69D5-45B9-A9D5-ACEAAE6E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C01-478E-4398-BCAC-3B505397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91E-8675-4566-8216-D94806EC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EEC-005B-464F-B0EE-B04561C1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C19-C157-48BE-AB40-AF2C37EB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2D2-9A72-4E9E-92EB-251BA96B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332-1429-4022-8E20-409238DE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591-1F5A-48E4-952B-7637CF9A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AC39-07D4-4CE2-BC4E-B1F3DE88E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1T17:03:35Z</dcterms:modified>
  <cp:revision>84</cp:revision>
  <dc:subject/>
  <dc:title>Lecture 1:</dc:title>
</cp:coreProperties>
</file>