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3626-B750-423D-957A-47559335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817-15DE-45D1-837D-80A0856E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7945-CFBC-498B-8DBC-2F4B5B3A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4CF-1E44-4132-A121-1E5D45C2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9C82-1C81-47B8-8396-19D3496D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1DA-9C53-471D-8C0B-649FCBC5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1CD-4765-4EE8-B5AB-B1840419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287-72FD-4B95-A43C-AF16F405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3BA-D180-4562-B9BA-90FD73C4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107A-56F1-4D54-B660-DDF35472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E7A-1E0C-4DBC-A44D-59ECA6FF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8F9-940D-4D45-BDD1-AFF753FA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D94B-72D5-4054-BFE7-06DAA1E6E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related to final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9T13:49:42Z</dcterms:modified>
  <cp:revision>102</cp:revision>
  <dc:subject/>
  <dc:title>Lecture 1:</dc:title>
</cp:coreProperties>
</file>