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36F-1E7E-4A34-B19B-7CE57209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8DDD-D8F5-4DFF-B4C4-55068CCD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FB46-1392-4BC0-8EDD-75CDEC6F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F217-55DD-435C-8F9C-CD7EDA8D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9ABC-F714-45FB-A807-A6093DE7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C14D-803B-4C6A-9C7F-4B38CA07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1138-DB85-40F5-ACDF-D284C8D8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B989-3AE8-4B2D-9AF2-640DC5CD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7CC-8F7A-45C6-A984-1B685B19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858-25FD-457B-B78A-A08B5686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2A8-245A-4B24-8EB7-7A4AB43A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373-0290-40B8-A864-863DD00C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E52A-CAE7-4323-B73C-686A69138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requ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21T11:48:28Z</dcterms:modified>
  <cp:revision>49</cp:revision>
  <dc:subject/>
  <dc:title>Lecture 1:</dc:title>
</cp:coreProperties>
</file>