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046AA-E27E-45CD-AF08-077390254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6C55A-0EEE-431A-95A6-5976DA732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4FA19-D2E0-482C-B29B-1E15B0823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3F20B-FE7B-4AFB-BA76-95A11C5AF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7405D-20D2-485C-8687-45EB97210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AF126-11A8-48AB-8633-2A31514D8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B4373-8625-4285-97ED-06F8C4730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91EA9-D9E9-4708-91A8-3CC43E3B2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0EB03-1550-43E6-80ED-C396A1B5E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74D9D-4828-4195-9A20-61A5E4D9B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085CD-477F-4B87-B022-1B88A50D5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439F3-EA3C-420F-B0F6-956119F08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A02F9-7F4F-409F-861A-042E3CA6A4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2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294920"/>
            <a:ext cx="6400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nunciation – phonetic transcrip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uture t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other, the other, other, others, the oth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rdin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re is … There are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 other, the oth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other ... (”ostat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í ..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n plural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n druhý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” in singular), the others (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statní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prefer the other programming langua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other processor is much fast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John and the other students always leave the keyboards greas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computer I named Marry never freezes, unlike the oth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rdin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st, 2nd, 3rd (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irst, second, thir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th, 5th, 6th … (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ourth, fifth, sixth ..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une 25, 200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re is … There are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express something is in a certain pl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express something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exist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existential us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re is a card in the slo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re there any jumpers on the boar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re are lots of stupid people in the worl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re are sites I always love returning t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” + plural in declarative sentence =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ějak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was moving some jumpers around the boar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brought us some WR C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” + singular (uncountable) in declarative sentence = nějak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ý, -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re is some information about it in the boo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on’t bring me just some diskettes! Bring me the Verbatime one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” in question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olite offer expecting “yes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ould you like some te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ow about some cooki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ould you like some further information about i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y” in positive declarative sentence = j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ýkoliv, jakákoliv, jakékoli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Could you bring me any CD you can lay your hands 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ny mistake she makes is seriou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y” in questions = nějak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ý, nějaká, nějak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Have you received any information from hi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Have you got any questions concerning this phenomen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ny computer at home? (colloquia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y” in negative declarative sentences meaning “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žádný“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re isn’t any free space on my hard driv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haven’t given me any project to work 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don’t have any spare mod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gl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čtina pro jazykové školy I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. 94 exercise 18.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. 118 exercise 21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pecialized reading according to the teach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s instru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nunciation – phonetic symbo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bat, hat, fat, mat, bad, hag, f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ostman, confirm, modem, bird, proliferate,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- three, thick, thin, thumb, thistle, throug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, these, those, fathom, sunba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ng, ring, bring, string, du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,t – aspiration: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tree, take, true, during, dou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ere is basically no Czech phone (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hláska)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at has its absolute counterpart (pro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tějšek)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in  English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schwa" descr=""/>
          <p:cNvPicPr/>
          <p:nvPr/>
        </p:nvPicPr>
        <p:blipFill>
          <a:blip r:embed="rId2"/>
          <a:stretch/>
        </p:blipFill>
        <p:spPr>
          <a:xfrm>
            <a:off x="942840" y="2590920"/>
            <a:ext cx="200160" cy="228600"/>
          </a:xfrm>
          <a:prstGeom prst="rect">
            <a:avLst/>
          </a:prstGeom>
          <a:ln w="0">
            <a:noFill/>
          </a:ln>
        </p:spPr>
      </p:pic>
      <p:pic>
        <p:nvPicPr>
          <p:cNvPr id="46" name="pth" descr=""/>
          <p:cNvPicPr/>
          <p:nvPr/>
        </p:nvPicPr>
        <p:blipFill>
          <a:blip r:embed="rId3"/>
          <a:stretch/>
        </p:blipFill>
        <p:spPr>
          <a:xfrm>
            <a:off x="958680" y="3429000"/>
            <a:ext cx="184320" cy="276120"/>
          </a:xfrm>
          <a:prstGeom prst="rect">
            <a:avLst/>
          </a:prstGeom>
          <a:ln w="0">
            <a:noFill/>
          </a:ln>
        </p:spPr>
      </p:pic>
      <p:pic>
        <p:nvPicPr>
          <p:cNvPr id="47" name="pthe" descr=""/>
          <p:cNvPicPr/>
          <p:nvPr/>
        </p:nvPicPr>
        <p:blipFill>
          <a:blip r:embed="rId4"/>
          <a:stretch/>
        </p:blipFill>
        <p:spPr>
          <a:xfrm>
            <a:off x="990720" y="3886200"/>
            <a:ext cx="183960" cy="276120"/>
          </a:xfrm>
          <a:prstGeom prst="rect">
            <a:avLst/>
          </a:prstGeom>
          <a:ln w="0">
            <a:noFill/>
          </a:ln>
        </p:spPr>
      </p:pic>
      <p:pic>
        <p:nvPicPr>
          <p:cNvPr id="48" name="ng" descr=""/>
          <p:cNvPicPr/>
          <p:nvPr/>
        </p:nvPicPr>
        <p:blipFill>
          <a:blip r:embed="rId5"/>
          <a:stretch/>
        </p:blipFill>
        <p:spPr>
          <a:xfrm>
            <a:off x="990720" y="4371840"/>
            <a:ext cx="196560" cy="276480"/>
          </a:xfrm>
          <a:prstGeom prst="rect">
            <a:avLst/>
          </a:prstGeom>
          <a:ln w="0">
            <a:noFill/>
          </a:ln>
        </p:spPr>
      </p:pic>
      <p:pic>
        <p:nvPicPr>
          <p:cNvPr id="49" name="opene" descr=""/>
          <p:cNvPicPr/>
          <p:nvPr/>
        </p:nvPicPr>
        <p:blipFill>
          <a:blip r:embed="rId6"/>
          <a:stretch/>
        </p:blipFill>
        <p:spPr>
          <a:xfrm>
            <a:off x="914400" y="2179800"/>
            <a:ext cx="228600" cy="18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and     pronunci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tongue" descr=""/>
          <p:cNvPicPr/>
          <p:nvPr/>
        </p:nvPicPr>
        <p:blipFill>
          <a:blip r:embed="rId2"/>
          <a:stretch/>
        </p:blipFill>
        <p:spPr>
          <a:xfrm>
            <a:off x="2832120" y="2692440"/>
            <a:ext cx="3263760" cy="1803240"/>
          </a:xfrm>
          <a:prstGeom prst="rect">
            <a:avLst/>
          </a:prstGeom>
          <a:ln w="0">
            <a:noFill/>
          </a:ln>
        </p:spPr>
      </p:pic>
      <p:pic>
        <p:nvPicPr>
          <p:cNvPr id="52" name="pth" descr=""/>
          <p:cNvPicPr/>
          <p:nvPr/>
        </p:nvPicPr>
        <p:blipFill>
          <a:blip r:embed="rId3"/>
          <a:stretch/>
        </p:blipFill>
        <p:spPr>
          <a:xfrm>
            <a:off x="1746360" y="1066680"/>
            <a:ext cx="234720" cy="352440"/>
          </a:xfrm>
          <a:prstGeom prst="rect">
            <a:avLst/>
          </a:prstGeom>
          <a:ln w="0">
            <a:noFill/>
          </a:ln>
        </p:spPr>
      </p:pic>
      <p:pic>
        <p:nvPicPr>
          <p:cNvPr id="53" name="pthe" descr=""/>
          <p:cNvPicPr/>
          <p:nvPr/>
        </p:nvPicPr>
        <p:blipFill>
          <a:blip r:embed="rId4"/>
          <a:stretch/>
        </p:blipFill>
        <p:spPr>
          <a:xfrm>
            <a:off x="3352680" y="1066680"/>
            <a:ext cx="235080" cy="35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Future Tense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   to express a future fact or predi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omputer will always malfun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t will be windy tomorr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to express a sudden decis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do it right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to express an offer or reque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all I install the application for you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 tell me how to work with those variab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uture Tense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.    to express an opinion about the future (following verbs such a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ink, suppose, doub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in combination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robabl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think I will have my sound card replac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suppose you will hate me after all these lectur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doubt he will ever pass the exam without studying har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y will probably upgrade their hardwa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uture Tense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. to express strong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monitor’s flickering. Oh, that will be the c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dditional not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will = I’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will not = I won’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estions: inver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noth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nother (je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ště jeden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, jin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ý) –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used with 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singular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ountable nou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will have another cup of coffee, plea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ou had better install another application processing imag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I need another computer. This one is too slow for 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some oth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ome other (n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ějaký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jin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ý)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– used with uncountable nouns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 or plural countable nouns (nějaké jiné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would like to use some other hardwa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How about asking some other student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other, oth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her … (ji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í …), other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ji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í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plural us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 applications are user-friendly, other applications are no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 applications are user-friendly, others are no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would love to work with (some) other computers, not the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at is, (some) others would not be down all the ti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4-10-07T11:10:47Z</dcterms:modified>
  <cp:revision>17</cp:revision>
  <dc:subject/>
  <dc:title>Lecture 1:</dc:title>
</cp:coreProperties>
</file>