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539D-3CE5-4963-8789-4898B5263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802B-CE65-44AF-81E9-08FDC982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88A5-593F-46FC-97C7-2B322DC59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71D9-D3D9-41DF-A6D5-C3506CA7C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EF78-946E-455F-B19D-23F493D2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B018-7C5D-42E6-9F41-35701D53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6705-D067-43DE-AE02-18C4DB21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192C-8799-4CA3-89F2-22E1CC77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FB17-C270-4E2B-9E63-4BE58737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93EC-29E9-4EB7-8E2B-531C52C0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0855-A430-4CD1-9CB4-C5772652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66DD-9499-422F-86DC-65982932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5FC9-C603-4F2A-B07E-55B2AF5C4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43Z</dcterms:modified>
  <cp:revision>187</cp:revision>
  <dc:subject/>
  <dc:title>Lecture 1:</dc:title>
</cp:coreProperties>
</file>